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D44-4BE7-4B13-B207-9CEE5A8B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557-972B-450B-B8F8-959241A7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E80-88CB-4FB7-96CB-5CCA5B3D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E3C-00BF-408E-B709-F1B038EB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B59-DAB3-4E87-8C72-5B36714E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DDA-C2D8-4C0C-BF19-CB3D1FE0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03A-D9E4-43A8-92D9-FA5DE48A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86E-9829-4F94-89E5-4E1985F7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ED6-0D61-4AC5-9DDD-44F56B54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CC8-EC5C-4F8F-85CA-E71796BD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32B-8ED0-4A16-83ED-A8D2C588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9EA-BFE0-4A97-8D1E-77764F0F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1519-23D1-4663-8931-F39272DF133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A9DC-5FF3-4395-B7C2-868651CD40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4876920" cy="3649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637080" y="2568600"/>
            <a:ext cx="5400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项目总结与规划</a:t>
            </a:r>
            <a:r>
              <a:rPr b="1" lang="zh-CN" sz="38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PPT</a:t>
            </a:r>
            <a:r>
              <a:rPr b="1" lang="zh-CN" sz="38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模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7924680" y="3797280"/>
            <a:ext cx="304920" cy="317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7550280" y="3746520"/>
            <a:ext cx="74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5335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8077320" y="498492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1"/>
          <p:cNvSpPr/>
          <p:nvPr/>
        </p:nvSpPr>
        <p:spPr>
          <a:xfrm>
            <a:off x="7467480" y="5538960"/>
            <a:ext cx="1676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经典行书简"/>
                <a:ea typeface="经典行书简"/>
              </a:rPr>
              <a:t>总结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239840" y="1847880"/>
            <a:ext cx="1558800" cy="2357280"/>
          </a:xfrm>
          <a:prstGeom prst="rect">
            <a:avLst/>
          </a:prstGeom>
          <a:ln w="0">
            <a:noFill/>
          </a:ln>
        </p:spPr>
      </p:pic>
      <p:sp>
        <p:nvSpPr>
          <p:cNvPr id="174" name="Straight Connector 17"/>
          <p:cNvSpPr/>
          <p:nvPr/>
        </p:nvSpPr>
        <p:spPr>
          <a:xfrm>
            <a:off x="2971800" y="304812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8"/>
          <p:cNvSpPr/>
          <p:nvPr/>
        </p:nvSpPr>
        <p:spPr>
          <a:xfrm>
            <a:off x="2971800" y="4264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3048120" y="21337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3030480" y="3352680"/>
            <a:ext cx="504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C2A-5372-4323-BF84-DA59CE698F80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066680" y="1714680"/>
            <a:ext cx="2324160" cy="23238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9"/>
          <p:cNvSpPr/>
          <p:nvPr/>
        </p:nvSpPr>
        <p:spPr>
          <a:xfrm>
            <a:off x="3049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经典行书简"/>
                <a:ea typeface="经典行书简"/>
              </a:rPr>
              <a:t>总结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ight Arrow 30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1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33480" y="-61920"/>
            <a:ext cx="152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3429000" y="2743200"/>
            <a:ext cx="491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4"/>
          <p:cNvSpPr/>
          <p:nvPr/>
        </p:nvSpPr>
        <p:spPr>
          <a:xfrm>
            <a:off x="3276720" y="259092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5"/>
          <p:cNvSpPr/>
          <p:nvPr/>
        </p:nvSpPr>
        <p:spPr>
          <a:xfrm>
            <a:off x="3276720" y="1676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36D-A0A4-4926-BB0B-4D883B9151A8}" type="slidenum">
              <a:t>11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29"/>
          <p:cNvSpPr/>
          <p:nvPr/>
        </p:nvSpPr>
        <p:spPr>
          <a:xfrm>
            <a:off x="762120" y="488880"/>
            <a:ext cx="31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-Shape 17"/>
          <p:cNvSpPr/>
          <p:nvPr/>
        </p:nvSpPr>
        <p:spPr>
          <a:xfrm rot="5400000">
            <a:off x="2395080" y="3322440"/>
            <a:ext cx="987480" cy="2273400"/>
          </a:xfrm>
          <a:custGeom>
            <a:avLst/>
            <a:gdLst>
              <a:gd name="textAreaLeft" fmla="*/ 0 w 987480"/>
              <a:gd name="textAreaRight" fmla="*/ 987840 w 987480"/>
              <a:gd name="textAreaTop" fmla="*/ 0 h 2273400"/>
              <a:gd name="textAreaBottom" fmla="*/ 2273760 h 2273400"/>
            </a:gdLst>
            <a:ahLst/>
            <a:rect l="textAreaLeft" t="textAreaTop" r="textAreaRight" b="textAreaBottom"/>
            <a:pathLst>
              <a:path w="1554" h="3581">
                <a:moveTo>
                  <a:pt x="0" y="0"/>
                </a:moveTo>
                <a:lnTo>
                  <a:pt x="250" y="0"/>
                </a:lnTo>
                <a:lnTo>
                  <a:pt x="250" y="3330"/>
                </a:lnTo>
                <a:lnTo>
                  <a:pt x="1554" y="3330"/>
                </a:lnTo>
                <a:lnTo>
                  <a:pt x="1554" y="3581"/>
                </a:lnTo>
                <a:lnTo>
                  <a:pt x="0" y="3581"/>
                </a:lnTo>
                <a:close/>
              </a:path>
            </a:pathLst>
          </a:cu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-Shape 18"/>
          <p:cNvSpPr/>
          <p:nvPr/>
        </p:nvSpPr>
        <p:spPr>
          <a:xfrm rot="5400000">
            <a:off x="4655160" y="2448360"/>
            <a:ext cx="765000" cy="2268360"/>
          </a:xfrm>
          <a:custGeom>
            <a:avLst/>
            <a:gdLst>
              <a:gd name="textAreaLeft" fmla="*/ 0 w 765000"/>
              <a:gd name="textAreaRight" fmla="*/ 765360 w 765000"/>
              <a:gd name="textAreaTop" fmla="*/ 0 h 2268360"/>
              <a:gd name="textAreaBottom" fmla="*/ 2268720 h 2268360"/>
            </a:gdLst>
            <a:ahLst/>
            <a:rect l="textAreaLeft" t="textAreaTop" r="textAreaRight" b="textAreaBottom"/>
            <a:pathLst>
              <a:path w="1206" h="3573">
                <a:moveTo>
                  <a:pt x="0" y="0"/>
                </a:moveTo>
                <a:lnTo>
                  <a:pt x="194" y="0"/>
                </a:lnTo>
                <a:lnTo>
                  <a:pt x="194" y="3378"/>
                </a:lnTo>
                <a:lnTo>
                  <a:pt x="1206" y="3378"/>
                </a:lnTo>
                <a:lnTo>
                  <a:pt x="1206" y="3573"/>
                </a:lnTo>
                <a:lnTo>
                  <a:pt x="0" y="3573"/>
                </a:lnTo>
                <a:close/>
              </a:path>
            </a:pathLst>
          </a:cu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-Shape 20"/>
          <p:cNvSpPr/>
          <p:nvPr/>
        </p:nvSpPr>
        <p:spPr>
          <a:xfrm rot="5400000">
            <a:off x="6847200" y="1888200"/>
            <a:ext cx="760320" cy="2111400"/>
          </a:xfrm>
          <a:custGeom>
            <a:avLst/>
            <a:gdLst>
              <a:gd name="textAreaLeft" fmla="*/ 0 w 760320"/>
              <a:gd name="textAreaRight" fmla="*/ 760680 w 7603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1198" h="3324">
                <a:moveTo>
                  <a:pt x="0" y="0"/>
                </a:moveTo>
                <a:lnTo>
                  <a:pt x="192" y="0"/>
                </a:lnTo>
                <a:lnTo>
                  <a:pt x="192" y="3130"/>
                </a:lnTo>
                <a:lnTo>
                  <a:pt x="1198" y="3130"/>
                </a:lnTo>
                <a:lnTo>
                  <a:pt x="1198" y="3324"/>
                </a:lnTo>
                <a:lnTo>
                  <a:pt x="0" y="3324"/>
                </a:lnTo>
                <a:close/>
              </a:path>
            </a:pathLst>
          </a:cu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23623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599ff"/>
                </a:solidFill>
                <a:latin typeface="微软雅黑"/>
                <a:ea typeface="微软雅黑"/>
              </a:rPr>
              <a:t>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4419720" y="3419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599ff"/>
                </a:solidFill>
                <a:latin typeface="微软雅黑"/>
                <a:ea typeface="微软雅黑"/>
              </a:rPr>
              <a:t>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2"/>
          <p:cNvSpPr/>
          <p:nvPr/>
        </p:nvSpPr>
        <p:spPr>
          <a:xfrm>
            <a:off x="6629400" y="2800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599ff"/>
                </a:solidFill>
                <a:latin typeface="微软雅黑"/>
                <a:ea typeface="微软雅黑"/>
              </a:rPr>
              <a:t>完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752480" y="3287880"/>
            <a:ext cx="21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EF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ight Arrow 38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1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3"/>
          <p:cNvSpPr/>
          <p:nvPr/>
        </p:nvSpPr>
        <p:spPr>
          <a:xfrm>
            <a:off x="3049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经典行书简"/>
                <a:ea typeface="经典行书简"/>
              </a:rPr>
              <a:t>总结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6"/>
          <p:cNvSpPr/>
          <p:nvPr/>
        </p:nvSpPr>
        <p:spPr>
          <a:xfrm>
            <a:off x="303840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7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8d8d8"/>
                </a:solidFill>
                <a:latin typeface="经典行书简"/>
                <a:ea typeface="经典行书简"/>
              </a:rPr>
              <a:t>工作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0"/>
          <p:cNvSpPr/>
          <p:nvPr/>
        </p:nvSpPr>
        <p:spPr>
          <a:xfrm>
            <a:off x="6477120" y="4984920"/>
            <a:ext cx="380880" cy="392040"/>
          </a:xfrm>
          <a:prstGeom prst="ellipse">
            <a:avLst/>
          </a:prstGeom>
          <a:solidFill>
            <a:srgbClr val="65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1"/>
          <p:cNvSpPr/>
          <p:nvPr/>
        </p:nvSpPr>
        <p:spPr>
          <a:xfrm>
            <a:off x="3602160" y="4997520"/>
            <a:ext cx="380880" cy="392040"/>
          </a:xfrm>
          <a:prstGeom prst="ellipse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215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Oval 45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Box 24"/>
          <p:cNvSpPr/>
          <p:nvPr/>
        </p:nvSpPr>
        <p:spPr>
          <a:xfrm>
            <a:off x="3932280" y="2548080"/>
            <a:ext cx="21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EF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6210360" y="1905120"/>
            <a:ext cx="21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EF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249-9272-4F01-B7AB-E38138F49A18}" type="slidenum">
              <a:t>12</a:t>
            </a:fld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772080" y="149868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2386080" y="2873520"/>
            <a:ext cx="1209600" cy="3999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761080" y="2819520"/>
            <a:ext cx="1209600" cy="3999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1574640" y="3429000"/>
            <a:ext cx="31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是工作一的细分工作成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2"/>
          <p:cNvSpPr/>
          <p:nvPr/>
        </p:nvSpPr>
        <p:spPr>
          <a:xfrm>
            <a:off x="622440" y="511200"/>
            <a:ext cx="31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4797360"/>
            <a:ext cx="9540720" cy="1544760"/>
            <a:chOff x="0" y="4797360"/>
            <a:chExt cx="9540720" cy="1544760"/>
          </a:xfrm>
        </p:grpSpPr>
        <p:sp>
          <p:nvSpPr>
            <p:cNvPr id="226" name="Right Arrow 44"/>
            <p:cNvSpPr/>
            <p:nvPr/>
          </p:nvSpPr>
          <p:spPr>
            <a:xfrm>
              <a:off x="0" y="4797360"/>
              <a:ext cx="9540720" cy="79200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45"/>
            <p:cNvSpPr/>
            <p:nvPr/>
          </p:nvSpPr>
          <p:spPr>
            <a:xfrm>
              <a:off x="830520" y="4983840"/>
              <a:ext cx="380880" cy="393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46"/>
            <p:cNvSpPr/>
            <p:nvPr/>
          </p:nvSpPr>
          <p:spPr>
            <a:xfrm>
              <a:off x="304560" y="5486400"/>
              <a:ext cx="1600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c000"/>
                  </a:solidFill>
                  <a:latin typeface="经典行书简"/>
                  <a:ea typeface="经典行书简"/>
                </a:rPr>
                <a:t>总结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47"/>
            <p:cNvSpPr/>
            <p:nvPr/>
          </p:nvSpPr>
          <p:spPr>
            <a:xfrm>
              <a:off x="3038400" y="5517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经典行书简"/>
                  <a:ea typeface="经典行书简"/>
                </a:rPr>
                <a:t>工作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48"/>
            <p:cNvSpPr/>
            <p:nvPr/>
          </p:nvSpPr>
          <p:spPr>
            <a:xfrm>
              <a:off x="5867640" y="55396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d8d8d8"/>
                  </a:solidFill>
                  <a:latin typeface="经典行书简"/>
                  <a:ea typeface="经典行书简"/>
                </a:rPr>
                <a:t>工作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49"/>
            <p:cNvSpPr/>
            <p:nvPr/>
          </p:nvSpPr>
          <p:spPr>
            <a:xfrm>
              <a:off x="6477120" y="4983840"/>
              <a:ext cx="380880" cy="393120"/>
            </a:xfrm>
            <a:prstGeom prst="ellipse">
              <a:avLst/>
            </a:prstGeom>
            <a:solidFill>
              <a:srgbClr val="65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233" name="Picture 2" descr=""/>
            <p:cNvPicPr/>
            <p:nvPr/>
          </p:nvPicPr>
          <p:blipFill>
            <a:blip r:embed="rId2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53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Oval 54"/>
          <p:cNvSpPr/>
          <p:nvPr/>
        </p:nvSpPr>
        <p:spPr>
          <a:xfrm>
            <a:off x="3602160" y="4997520"/>
            <a:ext cx="380880" cy="392040"/>
          </a:xfrm>
          <a:prstGeom prst="ellipse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4869000" y="342756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是工作一的细分工作成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E6B-D75A-41C2-98DD-146436D8E205}" type="slidenum">
              <a:t>13</a:t>
            </a:fld>
          </a:p>
        </p:txBody>
      </p: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1143000" y="51444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90720" y="1295280"/>
            <a:ext cx="7999200" cy="1314720"/>
            <a:chOff x="990720" y="1295280"/>
            <a:chExt cx="7999200" cy="1314720"/>
          </a:xfrm>
        </p:grpSpPr>
        <p:grpSp>
          <p:nvGrpSpPr>
            <p:cNvPr id="240" name=""/>
            <p:cNvGrpSpPr/>
            <p:nvPr/>
          </p:nvGrpSpPr>
          <p:grpSpPr>
            <a:xfrm>
              <a:off x="990720" y="1872720"/>
              <a:ext cx="7999200" cy="138240"/>
              <a:chOff x="990720" y="1872720"/>
              <a:chExt cx="7999200" cy="138240"/>
            </a:xfrm>
          </p:grpSpPr>
          <p:sp>
            <p:nvSpPr>
              <p:cNvPr id="241" name="Straight Connector 47"/>
              <p:cNvSpPr/>
              <p:nvPr/>
            </p:nvSpPr>
            <p:spPr>
              <a:xfrm>
                <a:off x="990720" y="1872720"/>
                <a:ext cx="7999200" cy="0"/>
              </a:xfrm>
              <a:prstGeom prst="line">
                <a:avLst/>
              </a:prstGeom>
              <a:ln w="93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Straight Connector 48"/>
              <p:cNvSpPr/>
              <p:nvPr/>
            </p:nvSpPr>
            <p:spPr>
              <a:xfrm>
                <a:off x="990720" y="1941840"/>
                <a:ext cx="7999200" cy="0"/>
              </a:xfrm>
              <a:prstGeom prst="line">
                <a:avLst/>
              </a:prstGeom>
              <a:ln w="633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Straight Connector 49"/>
              <p:cNvSpPr/>
              <p:nvPr/>
            </p:nvSpPr>
            <p:spPr>
              <a:xfrm>
                <a:off x="990720" y="2010960"/>
                <a:ext cx="7999200" cy="0"/>
              </a:xfrm>
              <a:prstGeom prst="line">
                <a:avLst/>
              </a:prstGeom>
              <a:ln w="93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Oval 20"/>
            <p:cNvSpPr/>
            <p:nvPr/>
          </p:nvSpPr>
          <p:spPr>
            <a:xfrm>
              <a:off x="1390680" y="1388160"/>
              <a:ext cx="1066320" cy="1107360"/>
            </a:xfrm>
            <a:prstGeom prst="ellipse">
              <a:avLst/>
            </a:prstGeom>
            <a:solidFill>
              <a:srgbClr val="c3d9ff"/>
            </a:solidFill>
            <a:ln w="25560">
              <a:solidFill>
                <a:srgbClr val="c3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年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1"/>
            <p:cNvSpPr/>
            <p:nvPr/>
          </p:nvSpPr>
          <p:spPr>
            <a:xfrm>
              <a:off x="1290600" y="1295280"/>
              <a:ext cx="1266480" cy="1314720"/>
            </a:xfrm>
            <a:prstGeom prst="ellipse">
              <a:avLst/>
            </a:prstGeom>
            <a:noFill/>
            <a:ln w="25560">
              <a:solidFill>
                <a:srgbClr val="c3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079800" y="1641240"/>
              <a:ext cx="577080" cy="599040"/>
              <a:chOff x="3079800" y="1641240"/>
              <a:chExt cx="577080" cy="599040"/>
            </a:xfrm>
          </p:grpSpPr>
          <p:sp>
            <p:nvSpPr>
              <p:cNvPr id="247" name="Oval 45"/>
              <p:cNvSpPr/>
              <p:nvPr/>
            </p:nvSpPr>
            <p:spPr>
              <a:xfrm>
                <a:off x="3156840" y="17103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46"/>
              <p:cNvSpPr/>
              <p:nvPr/>
            </p:nvSpPr>
            <p:spPr>
              <a:xfrm>
                <a:off x="3079800" y="16412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146480" y="1641240"/>
              <a:ext cx="577080" cy="599040"/>
              <a:chOff x="4146480" y="1641240"/>
              <a:chExt cx="577080" cy="599040"/>
            </a:xfrm>
          </p:grpSpPr>
          <p:sp>
            <p:nvSpPr>
              <p:cNvPr id="250" name="Oval 43"/>
              <p:cNvSpPr/>
              <p:nvPr/>
            </p:nvSpPr>
            <p:spPr>
              <a:xfrm>
                <a:off x="4223520" y="17103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44"/>
              <p:cNvSpPr/>
              <p:nvPr/>
            </p:nvSpPr>
            <p:spPr>
              <a:xfrm>
                <a:off x="4146480" y="16412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213160" y="1641240"/>
              <a:ext cx="577080" cy="599040"/>
              <a:chOff x="5213160" y="1641240"/>
              <a:chExt cx="577080" cy="599040"/>
            </a:xfrm>
          </p:grpSpPr>
          <p:sp>
            <p:nvSpPr>
              <p:cNvPr id="253" name="Oval 37"/>
              <p:cNvSpPr/>
              <p:nvPr/>
            </p:nvSpPr>
            <p:spPr>
              <a:xfrm>
                <a:off x="5290200" y="17103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40"/>
              <p:cNvSpPr/>
              <p:nvPr/>
            </p:nvSpPr>
            <p:spPr>
              <a:xfrm>
                <a:off x="5213160" y="16412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279840" y="1634040"/>
              <a:ext cx="577080" cy="599040"/>
              <a:chOff x="6279840" y="1634040"/>
              <a:chExt cx="577080" cy="599040"/>
            </a:xfrm>
          </p:grpSpPr>
          <p:sp>
            <p:nvSpPr>
              <p:cNvPr id="256" name="Oval 35"/>
              <p:cNvSpPr/>
              <p:nvPr/>
            </p:nvSpPr>
            <p:spPr>
              <a:xfrm>
                <a:off x="6356880" y="17031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36"/>
              <p:cNvSpPr/>
              <p:nvPr/>
            </p:nvSpPr>
            <p:spPr>
              <a:xfrm>
                <a:off x="6279840" y="16340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Round Same Side Corner Rectangle 50"/>
          <p:cNvSpPr/>
          <p:nvPr/>
        </p:nvSpPr>
        <p:spPr>
          <a:xfrm>
            <a:off x="1601640" y="2809800"/>
            <a:ext cx="1446480" cy="1832040"/>
          </a:xfrm>
          <a:custGeom>
            <a:avLst/>
            <a:gdLst>
              <a:gd name="textAreaLeft" fmla="*/ 0 w 1446480"/>
              <a:gd name="textAreaRight" fmla="*/ 1446840 w 1446480"/>
              <a:gd name="textAreaTop" fmla="*/ 0 h 1832040"/>
              <a:gd name="textAreaBottom" fmla="*/ 1832400 h 1832040"/>
            </a:gdLst>
            <a:ahLst/>
            <a:rect l="textAreaLeft" t="textAreaTop" r="textAreaRight" b="textAreaBottom"/>
            <a:pathLst>
              <a:path w="2277" h="2885">
                <a:moveTo>
                  <a:pt x="379" y="0"/>
                </a:moveTo>
                <a:lnTo>
                  <a:pt x="1897" y="0"/>
                </a:lnTo>
                <a:lnTo>
                  <a:pt x="1897" y="0"/>
                </a:lnTo>
                <a:arcTo wR="379" hR="379" stAng="-5400000" swAng="5400000"/>
                <a:lnTo>
                  <a:pt x="2277" y="2885"/>
                </a:lnTo>
                <a:lnTo>
                  <a:pt x="2277" y="2885"/>
                </a:lnTo>
                <a:arcTo wR="0" hR="0" stAng="0" swAng="0"/>
                <a:lnTo>
                  <a:pt x="0" y="2885"/>
                </a:lnTo>
                <a:lnTo>
                  <a:pt x="0" y="2885"/>
                </a:lnTo>
                <a:arcTo wR="0" hR="0" stAng="0" swAng="0"/>
                <a:lnTo>
                  <a:pt x="0" y="379"/>
                </a:lnTo>
                <a:lnTo>
                  <a:pt x="0" y="379"/>
                </a:lnTo>
                <a:arcTo wR="379" hR="379" stAng="10800000" swAng="5400000"/>
                <a:close/>
              </a:path>
            </a:pathLst>
          </a:custGeom>
          <a:solidFill>
            <a:srgbClr val="c3d9ff"/>
          </a:solidFill>
          <a:ln w="25560">
            <a:solidFill>
              <a:srgbClr val="c3d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 Same Side Corner Rectangle 51"/>
          <p:cNvSpPr/>
          <p:nvPr/>
        </p:nvSpPr>
        <p:spPr>
          <a:xfrm>
            <a:off x="3348000" y="2949480"/>
            <a:ext cx="1452600" cy="175572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2288" h="2765">
                <a:moveTo>
                  <a:pt x="381" y="0"/>
                </a:moveTo>
                <a:lnTo>
                  <a:pt x="1906" y="0"/>
                </a:lnTo>
                <a:lnTo>
                  <a:pt x="1906" y="0"/>
                </a:lnTo>
                <a:arcTo wR="381" hR="381" stAng="-5400000" swAng="5400000"/>
                <a:lnTo>
                  <a:pt x="2288" y="2765"/>
                </a:lnTo>
                <a:lnTo>
                  <a:pt x="2288" y="2765"/>
                </a:lnTo>
                <a:arcTo wR="0" hR="0" stAng="0" swAng="0"/>
                <a:lnTo>
                  <a:pt x="0" y="2765"/>
                </a:lnTo>
                <a:lnTo>
                  <a:pt x="0" y="2765"/>
                </a:lnTo>
                <a:arcTo wR="0" hR="0" stAng="0" swAng="0"/>
                <a:lnTo>
                  <a:pt x="0" y="381"/>
                </a:lnTo>
                <a:lnTo>
                  <a:pt x="0" y="381"/>
                </a:lnTo>
                <a:arcTo wR="381" hR="381" stAng="10800000" swAng="5400000"/>
                <a:close/>
              </a:path>
            </a:pathLst>
          </a:custGeom>
          <a:solidFill>
            <a:srgbClr val="c3d9ff"/>
          </a:solidFill>
          <a:ln w="25560">
            <a:solidFill>
              <a:srgbClr val="c3d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 Same Side Corner Rectangle 52"/>
          <p:cNvSpPr/>
          <p:nvPr/>
        </p:nvSpPr>
        <p:spPr>
          <a:xfrm>
            <a:off x="5100480" y="3067200"/>
            <a:ext cx="1452600" cy="170784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1707840"/>
              <a:gd name="textAreaBottom" fmla="*/ 1708200 h 1707840"/>
            </a:gdLst>
            <a:ahLst/>
            <a:rect l="textAreaLeft" t="textAreaTop" r="textAreaRight" b="textAreaBottom"/>
            <a:pathLst>
              <a:path w="2288" h="2690">
                <a:moveTo>
                  <a:pt x="381" y="0"/>
                </a:moveTo>
                <a:lnTo>
                  <a:pt x="1906" y="0"/>
                </a:lnTo>
                <a:lnTo>
                  <a:pt x="1906" y="0"/>
                </a:lnTo>
                <a:arcTo wR="381" hR="381" stAng="-5400000" swAng="5400000"/>
                <a:lnTo>
                  <a:pt x="2288" y="2690"/>
                </a:lnTo>
                <a:lnTo>
                  <a:pt x="2288" y="2690"/>
                </a:lnTo>
                <a:arcTo wR="0" hR="0" stAng="0" swAng="0"/>
                <a:lnTo>
                  <a:pt x="0" y="2690"/>
                </a:lnTo>
                <a:lnTo>
                  <a:pt x="0" y="2690"/>
                </a:lnTo>
                <a:arcTo wR="0" hR="0" stAng="0" swAng="0"/>
                <a:lnTo>
                  <a:pt x="0" y="381"/>
                </a:lnTo>
                <a:lnTo>
                  <a:pt x="0" y="381"/>
                </a:lnTo>
                <a:arcTo wR="381" hR="381" stAng="10800000" swAng="5400000"/>
                <a:close/>
              </a:path>
            </a:pathLst>
          </a:custGeom>
          <a:solidFill>
            <a:srgbClr val="c3d9ff"/>
          </a:solidFill>
          <a:ln w="25560">
            <a:solidFill>
              <a:srgbClr val="c3d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 Same Side Corner Rectangle 53"/>
          <p:cNvSpPr/>
          <p:nvPr/>
        </p:nvSpPr>
        <p:spPr>
          <a:xfrm>
            <a:off x="6853320" y="3016080"/>
            <a:ext cx="1452600" cy="162252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1622520"/>
              <a:gd name="textAreaBottom" fmla="*/ 1622880 h 1622520"/>
            </a:gdLst>
            <a:ahLst/>
            <a:rect l="textAreaLeft" t="textAreaTop" r="textAreaRight" b="textAreaBottom"/>
            <a:pathLst>
              <a:path w="2288" h="2556">
                <a:moveTo>
                  <a:pt x="381" y="0"/>
                </a:moveTo>
                <a:lnTo>
                  <a:pt x="1906" y="0"/>
                </a:lnTo>
                <a:lnTo>
                  <a:pt x="1906" y="0"/>
                </a:lnTo>
                <a:arcTo wR="381" hR="381" stAng="-5400000" swAng="5400000"/>
                <a:lnTo>
                  <a:pt x="2288" y="2556"/>
                </a:lnTo>
                <a:lnTo>
                  <a:pt x="2288" y="2556"/>
                </a:lnTo>
                <a:arcTo wR="0" hR="0" stAng="0" swAng="0"/>
                <a:lnTo>
                  <a:pt x="0" y="2556"/>
                </a:lnTo>
                <a:lnTo>
                  <a:pt x="0" y="2556"/>
                </a:lnTo>
                <a:arcTo wR="0" hR="0" stAng="0" swAng="0"/>
                <a:lnTo>
                  <a:pt x="0" y="381"/>
                </a:lnTo>
                <a:lnTo>
                  <a:pt x="0" y="381"/>
                </a:lnTo>
                <a:arcTo wR="381" hR="381" stAng="10800000" swAng="5400000"/>
                <a:close/>
              </a:path>
            </a:pathLst>
          </a:custGeom>
          <a:solidFill>
            <a:srgbClr val="c3d9ff"/>
          </a:solidFill>
          <a:ln w="25560">
            <a:solidFill>
              <a:srgbClr val="c3d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 Same Side Corner Rectangle 54"/>
          <p:cNvSpPr/>
          <p:nvPr/>
        </p:nvSpPr>
        <p:spPr>
          <a:xfrm>
            <a:off x="6853320" y="2836800"/>
            <a:ext cx="1452600" cy="34596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288" h="545">
                <a:moveTo>
                  <a:pt x="272" y="0"/>
                </a:moveTo>
                <a:lnTo>
                  <a:pt x="2015" y="0"/>
                </a:lnTo>
                <a:lnTo>
                  <a:pt x="2015" y="0"/>
                </a:lnTo>
                <a:arcTo wR="272" hR="272" stAng="-5400000" swAng="5400000"/>
                <a:lnTo>
                  <a:pt x="2288" y="544"/>
                </a:lnTo>
                <a:lnTo>
                  <a:pt x="2288" y="544"/>
                </a:lnTo>
                <a:arcTo wR="0" hR="0" stAng="0" swAng="0"/>
                <a:lnTo>
                  <a:pt x="0" y="545"/>
                </a:lnTo>
                <a:lnTo>
                  <a:pt x="0" y="545"/>
                </a:lnTo>
                <a:arcTo wR="0" hR="0" stAng="0" swAng="0"/>
                <a:lnTo>
                  <a:pt x="0" y="272"/>
                </a:lnTo>
                <a:lnTo>
                  <a:pt x="0" y="272"/>
                </a:lnTo>
                <a:arcTo wR="272" hR="27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 Same Side Corner Rectangle 55"/>
          <p:cNvSpPr/>
          <p:nvPr/>
        </p:nvSpPr>
        <p:spPr>
          <a:xfrm>
            <a:off x="5100480" y="2836800"/>
            <a:ext cx="1452600" cy="34596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288" h="545">
                <a:moveTo>
                  <a:pt x="272" y="0"/>
                </a:moveTo>
                <a:lnTo>
                  <a:pt x="2015" y="0"/>
                </a:lnTo>
                <a:lnTo>
                  <a:pt x="2015" y="0"/>
                </a:lnTo>
                <a:arcTo wR="272" hR="272" stAng="-5400000" swAng="5400000"/>
                <a:lnTo>
                  <a:pt x="2288" y="544"/>
                </a:lnTo>
                <a:lnTo>
                  <a:pt x="2288" y="544"/>
                </a:lnTo>
                <a:arcTo wR="0" hR="0" stAng="0" swAng="0"/>
                <a:lnTo>
                  <a:pt x="0" y="545"/>
                </a:lnTo>
                <a:lnTo>
                  <a:pt x="0" y="545"/>
                </a:lnTo>
                <a:arcTo wR="0" hR="0" stAng="0" swAng="0"/>
                <a:lnTo>
                  <a:pt x="0" y="272"/>
                </a:lnTo>
                <a:lnTo>
                  <a:pt x="0" y="272"/>
                </a:lnTo>
                <a:arcTo wR="272" hR="27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 Same Side Corner Rectangle 56"/>
          <p:cNvSpPr/>
          <p:nvPr/>
        </p:nvSpPr>
        <p:spPr>
          <a:xfrm>
            <a:off x="3335400" y="2833560"/>
            <a:ext cx="1452600" cy="34632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346320"/>
              <a:gd name="textAreaBottom" fmla="*/ 346680 h 346320"/>
            </a:gdLst>
            <a:ahLst/>
            <a:rect l="textAreaLeft" t="textAreaTop" r="textAreaRight" b="textAreaBottom"/>
            <a:pathLst>
              <a:path w="2288" h="545">
                <a:moveTo>
                  <a:pt x="272" y="0"/>
                </a:moveTo>
                <a:lnTo>
                  <a:pt x="2015" y="0"/>
                </a:lnTo>
                <a:lnTo>
                  <a:pt x="2015" y="0"/>
                </a:lnTo>
                <a:arcTo wR="272" hR="272" stAng="-5400000" swAng="5400000"/>
                <a:lnTo>
                  <a:pt x="2288" y="544"/>
                </a:lnTo>
                <a:lnTo>
                  <a:pt x="2288" y="544"/>
                </a:lnTo>
                <a:arcTo wR="0" hR="0" stAng="0" swAng="0"/>
                <a:lnTo>
                  <a:pt x="0" y="545"/>
                </a:lnTo>
                <a:lnTo>
                  <a:pt x="0" y="545"/>
                </a:lnTo>
                <a:arcTo wR="0" hR="0" stAng="0" swAng="0"/>
                <a:lnTo>
                  <a:pt x="0" y="272"/>
                </a:lnTo>
                <a:lnTo>
                  <a:pt x="0" y="272"/>
                </a:lnTo>
                <a:arcTo wR="272" hR="27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 Same Side Corner Rectangle 57"/>
          <p:cNvSpPr/>
          <p:nvPr/>
        </p:nvSpPr>
        <p:spPr>
          <a:xfrm>
            <a:off x="1595520" y="2819520"/>
            <a:ext cx="1452600" cy="34596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288" h="545">
                <a:moveTo>
                  <a:pt x="272" y="0"/>
                </a:moveTo>
                <a:lnTo>
                  <a:pt x="2015" y="0"/>
                </a:lnTo>
                <a:lnTo>
                  <a:pt x="2015" y="0"/>
                </a:lnTo>
                <a:arcTo wR="272" hR="272" stAng="-5400000" swAng="5400000"/>
                <a:lnTo>
                  <a:pt x="2288" y="544"/>
                </a:lnTo>
                <a:lnTo>
                  <a:pt x="2288" y="544"/>
                </a:lnTo>
                <a:arcTo wR="0" hR="0" stAng="0" swAng="0"/>
                <a:lnTo>
                  <a:pt x="0" y="545"/>
                </a:lnTo>
                <a:lnTo>
                  <a:pt x="0" y="545"/>
                </a:lnTo>
                <a:arcTo wR="0" hR="0" stAng="0" swAng="0"/>
                <a:lnTo>
                  <a:pt x="0" y="272"/>
                </a:lnTo>
                <a:lnTo>
                  <a:pt x="0" y="272"/>
                </a:lnTo>
                <a:arcTo wR="272" hR="27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58"/>
          <p:cNvSpPr/>
          <p:nvPr/>
        </p:nvSpPr>
        <p:spPr>
          <a:xfrm flipH="1">
            <a:off x="2209320" y="2217600"/>
            <a:ext cx="1032120" cy="59688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59"/>
          <p:cNvSpPr/>
          <p:nvPr/>
        </p:nvSpPr>
        <p:spPr>
          <a:xfrm flipH="1">
            <a:off x="3949560" y="2243160"/>
            <a:ext cx="455760" cy="595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0"/>
          <p:cNvSpPr/>
          <p:nvPr/>
        </p:nvSpPr>
        <p:spPr>
          <a:xfrm>
            <a:off x="5568840" y="2217600"/>
            <a:ext cx="146160" cy="6001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61"/>
          <p:cNvSpPr/>
          <p:nvPr/>
        </p:nvSpPr>
        <p:spPr>
          <a:xfrm>
            <a:off x="6734160" y="2209680"/>
            <a:ext cx="733320" cy="6066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0" y="4797360"/>
            <a:ext cx="9540720" cy="1544760"/>
            <a:chOff x="0" y="4797360"/>
            <a:chExt cx="9540720" cy="1544760"/>
          </a:xfrm>
        </p:grpSpPr>
        <p:sp>
          <p:nvSpPr>
            <p:cNvPr id="271" name="Right Arrow 72"/>
            <p:cNvSpPr/>
            <p:nvPr/>
          </p:nvSpPr>
          <p:spPr>
            <a:xfrm>
              <a:off x="0" y="4797360"/>
              <a:ext cx="9540720" cy="79200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79"/>
            <p:cNvSpPr/>
            <p:nvPr/>
          </p:nvSpPr>
          <p:spPr>
            <a:xfrm>
              <a:off x="3581280" y="4996800"/>
              <a:ext cx="380880" cy="393120"/>
            </a:xfrm>
            <a:prstGeom prst="ellipse">
              <a:avLst/>
            </a:prstGeom>
            <a:solidFill>
              <a:srgbClr val="65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73"/>
            <p:cNvSpPr/>
            <p:nvPr/>
          </p:nvSpPr>
          <p:spPr>
            <a:xfrm>
              <a:off x="830520" y="4983840"/>
              <a:ext cx="380880" cy="393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74"/>
            <p:cNvSpPr/>
            <p:nvPr/>
          </p:nvSpPr>
          <p:spPr>
            <a:xfrm>
              <a:off x="304560" y="5486400"/>
              <a:ext cx="1618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c000"/>
                  </a:solidFill>
                  <a:latin typeface="经典行书简"/>
                  <a:ea typeface="经典行书简"/>
                </a:rPr>
                <a:t>总结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3038400" y="5517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a5a5a5"/>
                  </a:solidFill>
                  <a:latin typeface="经典行书简"/>
                  <a:ea typeface="经典行书简"/>
                </a:rPr>
                <a:t>工作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76"/>
            <p:cNvSpPr/>
            <p:nvPr/>
          </p:nvSpPr>
          <p:spPr>
            <a:xfrm>
              <a:off x="5867640" y="55396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经典行书简"/>
                  <a:ea typeface="经典行书简"/>
                </a:rPr>
                <a:t>工作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278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Oval 83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Oval 84"/>
          <p:cNvSpPr/>
          <p:nvPr/>
        </p:nvSpPr>
        <p:spPr>
          <a:xfrm>
            <a:off x="6475320" y="4997520"/>
            <a:ext cx="381240" cy="392040"/>
          </a:xfrm>
          <a:prstGeom prst="ellipse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9B9-F049-4CD2-89F1-30F7C795F5F7}" type="slidenum">
              <a:t>14</a:t>
            </a:fld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traight Connector 2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283" name="Straight Connector 4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285" name="Right Arrow 1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1927080" y="1839960"/>
            <a:ext cx="1557360" cy="2357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283360" y="1839960"/>
            <a:ext cx="1600200" cy="23572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25"/>
          <p:cNvSpPr/>
          <p:nvPr/>
        </p:nvSpPr>
        <p:spPr>
          <a:xfrm>
            <a:off x="1905120" y="4179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6"/>
          <p:cNvSpPr/>
          <p:nvPr/>
        </p:nvSpPr>
        <p:spPr>
          <a:xfrm>
            <a:off x="5283360" y="416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8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9"/>
          <p:cNvSpPr/>
          <p:nvPr/>
        </p:nvSpPr>
        <p:spPr>
          <a:xfrm>
            <a:off x="6629400" y="500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1"/>
          <p:cNvSpPr/>
          <p:nvPr/>
        </p:nvSpPr>
        <p:spPr>
          <a:xfrm>
            <a:off x="5892840" y="501012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2"/>
          <p:cNvSpPr/>
          <p:nvPr/>
        </p:nvSpPr>
        <p:spPr>
          <a:xfrm>
            <a:off x="2514600" y="5006880"/>
            <a:ext cx="38088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B0B-EACE-47E3-9E8F-2D058091FCA1}" type="slidenum">
              <a:t>15</a:t>
            </a:fld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7E8-B893-4C0B-B130-66C3EFAD41EB}" type="slidenum">
              <a:t>16</a:t>
            </a:fld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38C-9EFC-4BEC-A036-16EF5956516F}" type="slidenum">
              <a:t>17</a:t>
            </a:fld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hart 6"/>
          <p:cNvSpPr/>
          <p:nvPr/>
        </p:nvSpPr>
        <p:spPr>
          <a:xfrm>
            <a:off x="1366920" y="1708200"/>
            <a:ext cx="350496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9"/>
          <p:cNvSpPr/>
          <p:nvPr/>
        </p:nvSpPr>
        <p:spPr>
          <a:xfrm>
            <a:off x="5486400" y="2817720"/>
            <a:ext cx="31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强调你的数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368960" y="2136600"/>
            <a:ext cx="914760" cy="1095840"/>
            <a:chOff x="4368960" y="2136600"/>
            <a:chExt cx="914760" cy="1095840"/>
          </a:xfrm>
        </p:grpSpPr>
        <p:sp>
          <p:nvSpPr>
            <p:cNvPr id="323" name="Oval 4"/>
            <p:cNvSpPr/>
            <p:nvPr/>
          </p:nvSpPr>
          <p:spPr>
            <a:xfrm>
              <a:off x="4368960" y="2136600"/>
              <a:ext cx="685800" cy="686520"/>
            </a:xfrm>
            <a:prstGeom prst="ellipse">
              <a:avLst/>
            </a:prstGeom>
            <a:solidFill>
              <a:srgbClr val="dddddd">
                <a:alpha val="2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 rot="19309200">
              <a:off x="5060880" y="2692440"/>
              <a:ext cx="45720" cy="58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Oval 16"/>
          <p:cNvSpPr/>
          <p:nvPr/>
        </p:nvSpPr>
        <p:spPr>
          <a:xfrm>
            <a:off x="6400800" y="500076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8"/>
          <p:cNvSpPr/>
          <p:nvPr/>
        </p:nvSpPr>
        <p:spPr>
          <a:xfrm>
            <a:off x="284940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1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2"/>
          <p:cNvSpPr/>
          <p:nvPr/>
        </p:nvSpPr>
        <p:spPr>
          <a:xfrm>
            <a:off x="3459240" y="500220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F03-D39A-4BD2-AA5D-FE05703C161C}" type="slidenum">
              <a:t>18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5"/>
          <p:cNvSpPr/>
          <p:nvPr/>
        </p:nvSpPr>
        <p:spPr>
          <a:xfrm>
            <a:off x="3336840" y="4987800"/>
            <a:ext cx="381240" cy="39240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56"/>
          <p:cNvSpPr/>
          <p:nvPr/>
        </p:nvSpPr>
        <p:spPr>
          <a:xfrm>
            <a:off x="6411960" y="49719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7"/>
          <p:cNvSpPr/>
          <p:nvPr/>
        </p:nvSpPr>
        <p:spPr>
          <a:xfrm>
            <a:off x="284940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8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D0C-B830-4BB9-A39F-42CBA96363A8}" type="slidenum">
              <a:t>19</a:t>
            </a:fld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2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4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1927080" y="1839960"/>
            <a:ext cx="1557360" cy="235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283360" y="1839960"/>
            <a:ext cx="1600200" cy="2357280"/>
          </a:xfrm>
          <a:prstGeom prst="rect">
            <a:avLst/>
          </a:prstGeom>
          <a:ln w="0">
            <a:noFill/>
          </a:ln>
        </p:spPr>
      </p:pic>
      <p:sp>
        <p:nvSpPr>
          <p:cNvPr id="52" name="Right Arrow 1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6"/>
          <p:cNvSpPr/>
          <p:nvPr/>
        </p:nvSpPr>
        <p:spPr>
          <a:xfrm>
            <a:off x="2514600" y="5010120"/>
            <a:ext cx="380880" cy="3938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1905120" y="4179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5283360" y="416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5956200" y="500220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6629400" y="500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EB7-56D1-4201-BAAB-F90B4714BFF5}" type="slidenum">
              <a:t>2</a:t>
            </a:fld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25480" y="907920"/>
            <a:ext cx="691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F55-5667-4A97-A8AC-9D9342ED9544}" type="slidenum">
              <a:t>20</a:t>
            </a:fld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536920" y="2066760"/>
            <a:ext cx="1211040" cy="40032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6040440" y="2066760"/>
            <a:ext cx="1209600" cy="40032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1066680" y="3343320"/>
            <a:ext cx="1476360" cy="4316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5587920" y="3317760"/>
            <a:ext cx="105732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6832440" y="3308400"/>
            <a:ext cx="105732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2681280" y="3341520"/>
            <a:ext cx="93348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3753000" y="3316320"/>
            <a:ext cx="118728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074600" y="3895560"/>
            <a:ext cx="7993080" cy="901800"/>
            <a:chOff x="1074600" y="3895560"/>
            <a:chExt cx="7993080" cy="901800"/>
          </a:xfrm>
        </p:grpSpPr>
        <p:sp>
          <p:nvSpPr>
            <p:cNvPr id="361" name="Arc 3"/>
            <p:cNvSpPr/>
            <p:nvPr/>
          </p:nvSpPr>
          <p:spPr>
            <a:xfrm>
              <a:off x="1158120" y="3895920"/>
              <a:ext cx="7838280" cy="275400"/>
            </a:xfrm>
            <a:custGeom>
              <a:avLst/>
              <a:gdLst>
                <a:gd name="textAreaLeft" fmla="*/ 0 w 7838280"/>
                <a:gd name="textAreaRight" fmla="*/ 7838640 w 783828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fill="none" w="43200" h="22326">
                  <a:moveTo>
                    <a:pt x="43194" y="232"/>
                  </a:moveTo>
                  <a:cubicBezTo>
                    <a:pt x="43198" y="397"/>
                    <a:pt x="43200" y="561"/>
                    <a:pt x="43200" y="726"/>
                  </a:cubicBezTo>
                  <a:cubicBezTo>
                    <a:pt x="43200" y="12655"/>
                    <a:pt x="33529" y="22326"/>
                    <a:pt x="21600" y="22326"/>
                  </a:cubicBezTo>
                  <a:cubicBezTo>
                    <a:pt x="9670" y="22326"/>
                    <a:pt x="0" y="12655"/>
                    <a:pt x="0" y="726"/>
                  </a:cubicBezTo>
                  <a:cubicBezTo>
                    <a:pt x="-1" y="483"/>
                    <a:pt x="4" y="241"/>
                    <a:pt x="12" y="0"/>
                  </a:cubicBezTo>
                </a:path>
                <a:path stroke="0" w="43200" h="22326">
                  <a:moveTo>
                    <a:pt x="43194" y="232"/>
                  </a:moveTo>
                  <a:cubicBezTo>
                    <a:pt x="43198" y="397"/>
                    <a:pt x="43200" y="561"/>
                    <a:pt x="43200" y="726"/>
                  </a:cubicBezTo>
                  <a:cubicBezTo>
                    <a:pt x="43200" y="12655"/>
                    <a:pt x="33529" y="22326"/>
                    <a:pt x="21600" y="22326"/>
                  </a:cubicBezTo>
                  <a:cubicBezTo>
                    <a:pt x="9670" y="22326"/>
                    <a:pt x="0" y="12655"/>
                    <a:pt x="0" y="726"/>
                  </a:cubicBezTo>
                  <a:cubicBezTo>
                    <a:pt x="-1" y="483"/>
                    <a:pt x="4" y="241"/>
                    <a:pt x="12" y="0"/>
                  </a:cubicBezTo>
                  <a:lnTo>
                    <a:pt x="21600" y="726"/>
                  </a:lnTo>
                  <a:close/>
                </a:path>
              </a:pathLst>
            </a:custGeom>
            <a:noFill/>
            <a:ln w="190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rc 4"/>
            <p:cNvSpPr/>
            <p:nvPr/>
          </p:nvSpPr>
          <p:spPr>
            <a:xfrm>
              <a:off x="3436920" y="3897000"/>
              <a:ext cx="3279240" cy="86400"/>
            </a:xfrm>
            <a:custGeom>
              <a:avLst/>
              <a:gdLst>
                <a:gd name="textAreaLeft" fmla="*/ 0 w 3279240"/>
                <a:gd name="textAreaRight" fmla="*/ 3279600 w 32792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fill="none" w="43200" h="21600">
                  <a:moveTo>
                    <a:pt x="43200" y="0"/>
                  </a:moveTo>
                  <a:cubicBezTo>
                    <a:pt x="43200" y="11929"/>
                    <a:pt x="33529" y="21600"/>
                    <a:pt x="21600" y="21600"/>
                  </a:cubicBezTo>
                  <a:cubicBezTo>
                    <a:pt x="9670" y="21600"/>
                    <a:pt x="0" y="11929"/>
                    <a:pt x="0" y="0"/>
                  </a:cubicBezTo>
                </a:path>
                <a:path stroke="0" w="43200" h="21600">
                  <a:moveTo>
                    <a:pt x="43200" y="0"/>
                  </a:moveTo>
                  <a:cubicBezTo>
                    <a:pt x="43200" y="11929"/>
                    <a:pt x="33529" y="21600"/>
                    <a:pt x="21600" y="21600"/>
                  </a:cubicBez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"/>
            <p:cNvSpPr/>
            <p:nvPr/>
          </p:nvSpPr>
          <p:spPr>
            <a:xfrm>
              <a:off x="4720320" y="4022640"/>
              <a:ext cx="710280" cy="103680"/>
            </a:xfrm>
            <a:custGeom>
              <a:avLst/>
              <a:gdLst>
                <a:gd name="textAreaLeft" fmla="*/ 0 w 710280"/>
                <a:gd name="textAreaRight" fmla="*/ 710640 w 71028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432" h="213">
                  <a:moveTo>
                    <a:pt x="48" y="213"/>
                  </a:moveTo>
                  <a:lnTo>
                    <a:pt x="408" y="213"/>
                  </a:lnTo>
                  <a:lnTo>
                    <a:pt x="288" y="45"/>
                  </a:lnTo>
                  <a:lnTo>
                    <a:pt x="432" y="45"/>
                  </a:lnTo>
                  <a:lnTo>
                    <a:pt x="215" y="0"/>
                  </a:lnTo>
                  <a:lnTo>
                    <a:pt x="0" y="45"/>
                  </a:lnTo>
                  <a:lnTo>
                    <a:pt x="144" y="45"/>
                  </a:lnTo>
                  <a:lnTo>
                    <a:pt x="48" y="213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074600" y="3895560"/>
              <a:ext cx="7993080" cy="1440"/>
              <a:chOff x="1074600" y="3895560"/>
              <a:chExt cx="7993080" cy="1440"/>
            </a:xfrm>
          </p:grpSpPr>
          <p:sp>
            <p:nvSpPr>
              <p:cNvPr id="365" name="Line 6"/>
              <p:cNvSpPr/>
              <p:nvPr/>
            </p:nvSpPr>
            <p:spPr>
              <a:xfrm>
                <a:off x="1074600" y="3895560"/>
                <a:ext cx="7993080" cy="144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 txBox="1"/>
              <p:nvPr/>
            </p:nvSpPr>
            <p:spPr>
              <a:xfrm>
                <a:off x="1074600" y="3895560"/>
                <a:ext cx="799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2249280" y="3896640"/>
              <a:ext cx="5652720" cy="900720"/>
              <a:chOff x="2249280" y="3896640"/>
              <a:chExt cx="5652720" cy="9007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2249280" y="3896640"/>
                <a:ext cx="2846160" cy="900360"/>
                <a:chOff x="2249280" y="3896640"/>
                <a:chExt cx="2846160" cy="900360"/>
              </a:xfrm>
            </p:grpSpPr>
            <p:sp>
              <p:nvSpPr>
                <p:cNvPr id="369" name="Line 8"/>
                <p:cNvSpPr/>
                <p:nvPr/>
              </p:nvSpPr>
              <p:spPr>
                <a:xfrm flipV="1">
                  <a:off x="2249280" y="3896640"/>
                  <a:ext cx="2846160" cy="900360"/>
                </a:xfrm>
                <a:prstGeom prst="line">
                  <a:avLst/>
                </a:prstGeom>
                <a:ln w="255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 txBox="1"/>
                <p:nvPr/>
              </p:nvSpPr>
              <p:spPr>
                <a:xfrm rot="10800000">
                  <a:off x="2249280" y="3896640"/>
                  <a:ext cx="284616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5095440" y="3897000"/>
                <a:ext cx="2806560" cy="900360"/>
                <a:chOff x="5095440" y="3897000"/>
                <a:chExt cx="2806560" cy="900360"/>
              </a:xfrm>
            </p:grpSpPr>
            <p:sp>
              <p:nvSpPr>
                <p:cNvPr id="372" name="Line 9"/>
                <p:cNvSpPr/>
                <p:nvPr/>
              </p:nvSpPr>
              <p:spPr>
                <a:xfrm>
                  <a:off x="5095440" y="3897000"/>
                  <a:ext cx="2806560" cy="900360"/>
                </a:xfrm>
                <a:prstGeom prst="line">
                  <a:avLst/>
                </a:prstGeom>
                <a:ln w="255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 txBox="1"/>
                <p:nvPr/>
              </p:nvSpPr>
              <p:spPr>
                <a:xfrm>
                  <a:off x="5095440" y="3897000"/>
                  <a:ext cx="280656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1084680" y="3898800"/>
              <a:ext cx="3991680" cy="276840"/>
              <a:chOff x="1084680" y="3898800"/>
              <a:chExt cx="3991680" cy="276840"/>
            </a:xfrm>
          </p:grpSpPr>
          <p:sp>
            <p:nvSpPr>
              <p:cNvPr id="375" name="Line 10"/>
              <p:cNvSpPr/>
              <p:nvPr/>
            </p:nvSpPr>
            <p:spPr>
              <a:xfrm flipV="1">
                <a:off x="1085040" y="3898800"/>
                <a:ext cx="3991320" cy="27684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 rot="10800000">
                <a:off x="1084680" y="3898800"/>
                <a:ext cx="3991320" cy="27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5076360" y="3897000"/>
              <a:ext cx="3991320" cy="276840"/>
              <a:chOff x="5076360" y="3897000"/>
              <a:chExt cx="3991320" cy="276840"/>
            </a:xfrm>
          </p:grpSpPr>
          <p:sp>
            <p:nvSpPr>
              <p:cNvPr id="378" name="Line 11"/>
              <p:cNvSpPr/>
              <p:nvPr/>
            </p:nvSpPr>
            <p:spPr>
              <a:xfrm>
                <a:off x="5076360" y="3897000"/>
                <a:ext cx="3991320" cy="27684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5076360" y="3897000"/>
                <a:ext cx="3991320" cy="27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084680" y="3897000"/>
              <a:ext cx="3991680" cy="138240"/>
              <a:chOff x="1084680" y="3897000"/>
              <a:chExt cx="3991680" cy="138240"/>
            </a:xfrm>
          </p:grpSpPr>
          <p:sp>
            <p:nvSpPr>
              <p:cNvPr id="381" name="Line 12"/>
              <p:cNvSpPr/>
              <p:nvPr/>
            </p:nvSpPr>
            <p:spPr>
              <a:xfrm flipV="1">
                <a:off x="1085040" y="3897000"/>
                <a:ext cx="3991320" cy="13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 rot="10800000">
                <a:off x="1084680" y="3897000"/>
                <a:ext cx="399132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5076360" y="3897000"/>
              <a:ext cx="3991320" cy="138240"/>
              <a:chOff x="5076360" y="3897000"/>
              <a:chExt cx="3991320" cy="138240"/>
            </a:xfrm>
          </p:grpSpPr>
          <p:sp>
            <p:nvSpPr>
              <p:cNvPr id="384" name="Line 13"/>
              <p:cNvSpPr/>
              <p:nvPr/>
            </p:nvSpPr>
            <p:spPr>
              <a:xfrm>
                <a:off x="5076360" y="3897000"/>
                <a:ext cx="3991320" cy="13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5076360" y="3897000"/>
                <a:ext cx="399132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084680" y="3897000"/>
              <a:ext cx="3991680" cy="46080"/>
              <a:chOff x="1084680" y="3897000"/>
              <a:chExt cx="3991680" cy="46080"/>
            </a:xfrm>
          </p:grpSpPr>
          <p:sp>
            <p:nvSpPr>
              <p:cNvPr id="387" name="Line 14"/>
              <p:cNvSpPr/>
              <p:nvPr/>
            </p:nvSpPr>
            <p:spPr>
              <a:xfrm flipV="1">
                <a:off x="1085040" y="3897000"/>
                <a:ext cx="3991320" cy="460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 rot="10800000">
                <a:off x="1084680" y="3897000"/>
                <a:ext cx="3991320" cy="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076360" y="3897000"/>
              <a:ext cx="3991320" cy="46080"/>
              <a:chOff x="5076360" y="3897000"/>
              <a:chExt cx="3991320" cy="46080"/>
            </a:xfrm>
          </p:grpSpPr>
          <p:sp>
            <p:nvSpPr>
              <p:cNvPr id="390" name="Line 15"/>
              <p:cNvSpPr/>
              <p:nvPr/>
            </p:nvSpPr>
            <p:spPr>
              <a:xfrm>
                <a:off x="5076360" y="3897000"/>
                <a:ext cx="3991320" cy="460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5076360" y="3897000"/>
                <a:ext cx="3991320" cy="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Freeform 17"/>
            <p:cNvSpPr/>
            <p:nvPr/>
          </p:nvSpPr>
          <p:spPr>
            <a:xfrm>
              <a:off x="5786640" y="4009680"/>
              <a:ext cx="1042920" cy="99720"/>
            </a:xfrm>
            <a:custGeom>
              <a:avLst/>
              <a:gdLst>
                <a:gd name="textAreaLeft" fmla="*/ 0 w 1042920"/>
                <a:gd name="textAreaRight" fmla="*/ 1043280 w 10429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635" h="208">
                  <a:moveTo>
                    <a:pt x="369" y="208"/>
                  </a:moveTo>
                  <a:lnTo>
                    <a:pt x="635" y="172"/>
                  </a:lnTo>
                  <a:lnTo>
                    <a:pt x="272" y="28"/>
                  </a:lnTo>
                  <a:lnTo>
                    <a:pt x="372" y="10"/>
                  </a:lnTo>
                  <a:lnTo>
                    <a:pt x="108" y="0"/>
                  </a:lnTo>
                  <a:lnTo>
                    <a:pt x="0" y="58"/>
                  </a:lnTo>
                  <a:lnTo>
                    <a:pt x="118" y="44"/>
                  </a:lnTo>
                  <a:lnTo>
                    <a:pt x="369" y="208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8"/>
            <p:cNvSpPr/>
            <p:nvPr/>
          </p:nvSpPr>
          <p:spPr>
            <a:xfrm flipH="1">
              <a:off x="3316680" y="4009680"/>
              <a:ext cx="1042920" cy="99720"/>
            </a:xfrm>
            <a:custGeom>
              <a:avLst/>
              <a:gdLst>
                <a:gd name="textAreaLeft" fmla="*/ -360 w 1042920"/>
                <a:gd name="textAreaRight" fmla="*/ 1042920 w 10429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635" h="208">
                  <a:moveTo>
                    <a:pt x="369" y="208"/>
                  </a:moveTo>
                  <a:lnTo>
                    <a:pt x="635" y="172"/>
                  </a:lnTo>
                  <a:lnTo>
                    <a:pt x="272" y="28"/>
                  </a:lnTo>
                  <a:lnTo>
                    <a:pt x="372" y="10"/>
                  </a:lnTo>
                  <a:lnTo>
                    <a:pt x="108" y="0"/>
                  </a:lnTo>
                  <a:lnTo>
                    <a:pt x="0" y="58"/>
                  </a:lnTo>
                  <a:lnTo>
                    <a:pt x="118" y="44"/>
                  </a:lnTo>
                  <a:lnTo>
                    <a:pt x="369" y="208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4172040" y="853920"/>
            <a:ext cx="1415880" cy="1414440"/>
          </a:xfrm>
          <a:prstGeom prst="rect">
            <a:avLst/>
          </a:prstGeom>
          <a:ln w="0">
            <a:noFill/>
          </a:ln>
        </p:spPr>
      </p:pic>
      <p:sp>
        <p:nvSpPr>
          <p:cNvPr id="395" name="Straight Connector 86"/>
          <p:cNvSpPr/>
          <p:nvPr/>
        </p:nvSpPr>
        <p:spPr>
          <a:xfrm flipH="1">
            <a:off x="1684080" y="2438280"/>
            <a:ext cx="1338120" cy="874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87"/>
          <p:cNvSpPr/>
          <p:nvPr/>
        </p:nvSpPr>
        <p:spPr>
          <a:xfrm>
            <a:off x="3022560" y="2438280"/>
            <a:ext cx="4680" cy="8733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8"/>
          <p:cNvSpPr/>
          <p:nvPr/>
        </p:nvSpPr>
        <p:spPr>
          <a:xfrm>
            <a:off x="3022560" y="2438280"/>
            <a:ext cx="1203480" cy="8496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89"/>
          <p:cNvSpPr/>
          <p:nvPr/>
        </p:nvSpPr>
        <p:spPr>
          <a:xfrm>
            <a:off x="6524640" y="2438280"/>
            <a:ext cx="716040" cy="83988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90"/>
          <p:cNvSpPr/>
          <p:nvPr/>
        </p:nvSpPr>
        <p:spPr>
          <a:xfrm flipH="1">
            <a:off x="5996160" y="2438280"/>
            <a:ext cx="528480" cy="8496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1"/>
          <p:cNvSpPr/>
          <p:nvPr/>
        </p:nvSpPr>
        <p:spPr>
          <a:xfrm>
            <a:off x="6346800" y="499752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93"/>
          <p:cNvSpPr/>
          <p:nvPr/>
        </p:nvSpPr>
        <p:spPr>
          <a:xfrm>
            <a:off x="2760840" y="551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94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95"/>
          <p:cNvSpPr/>
          <p:nvPr/>
        </p:nvSpPr>
        <p:spPr>
          <a:xfrm>
            <a:off x="3351240" y="500220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1A8-86B1-4296-A672-3D1F6E2EFDF7}" type="slidenum">
              <a:t>21</a:t>
            </a:fld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1"/>
          <p:cNvSpPr/>
          <p:nvPr/>
        </p:nvSpPr>
        <p:spPr>
          <a:xfrm>
            <a:off x="2643120" y="1157400"/>
            <a:ext cx="1009800" cy="4316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2"/>
          <p:cNvSpPr/>
          <p:nvPr/>
        </p:nvSpPr>
        <p:spPr>
          <a:xfrm>
            <a:off x="2643120" y="3314880"/>
            <a:ext cx="1009800" cy="4316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AutoShape 33"/>
          <p:cNvCxnSpPr/>
          <p:nvPr/>
        </p:nvCxnSpPr>
        <p:spPr>
          <a:xfrm flipV="1">
            <a:off x="2068560" y="1372680"/>
            <a:ext cx="575280" cy="1078560"/>
          </a:xfrm>
          <a:prstGeom prst="bentConnector3">
            <a:avLst>
              <a:gd name="adj1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AutoShape 34"/>
          <p:cNvCxnSpPr/>
          <p:nvPr/>
        </p:nvCxnSpPr>
        <p:spPr>
          <a:xfrm>
            <a:off x="2068560" y="2451240"/>
            <a:ext cx="575280" cy="1080000"/>
          </a:xfrm>
          <a:prstGeom prst="bentConnector3">
            <a:avLst>
              <a:gd name="adj1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Rectangle 35"/>
          <p:cNvSpPr/>
          <p:nvPr/>
        </p:nvSpPr>
        <p:spPr>
          <a:xfrm>
            <a:off x="4443480" y="86508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6"/>
          <p:cNvSpPr/>
          <p:nvPr/>
        </p:nvSpPr>
        <p:spPr>
          <a:xfrm>
            <a:off x="4443480" y="151596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4443480" y="248760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8"/>
          <p:cNvSpPr/>
          <p:nvPr/>
        </p:nvSpPr>
        <p:spPr>
          <a:xfrm>
            <a:off x="4443480" y="291924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39"/>
          <p:cNvCxnSpPr/>
          <p:nvPr/>
        </p:nvCxnSpPr>
        <p:spPr>
          <a:xfrm flipV="1">
            <a:off x="3652920" y="1045800"/>
            <a:ext cx="791280" cy="32760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40"/>
          <p:cNvCxnSpPr/>
          <p:nvPr/>
        </p:nvCxnSpPr>
        <p:spPr>
          <a:xfrm>
            <a:off x="3652920" y="1373040"/>
            <a:ext cx="791280" cy="3247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Rectangle 41"/>
          <p:cNvSpPr/>
          <p:nvPr/>
        </p:nvSpPr>
        <p:spPr>
          <a:xfrm>
            <a:off x="4443480" y="335124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2"/>
          <p:cNvSpPr/>
          <p:nvPr/>
        </p:nvSpPr>
        <p:spPr>
          <a:xfrm>
            <a:off x="4443480" y="378288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AutoShape 43"/>
          <p:cNvCxnSpPr/>
          <p:nvPr/>
        </p:nvCxnSpPr>
        <p:spPr>
          <a:xfrm flipV="1">
            <a:off x="3652920" y="2668320"/>
            <a:ext cx="791280" cy="86256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AutoShape 44"/>
          <p:cNvCxnSpPr/>
          <p:nvPr/>
        </p:nvCxnSpPr>
        <p:spPr>
          <a:xfrm flipV="1">
            <a:off x="3652920" y="3099600"/>
            <a:ext cx="791280" cy="4309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45"/>
          <p:cNvCxnSpPr/>
          <p:nvPr/>
        </p:nvCxnSpPr>
        <p:spPr>
          <a:xfrm>
            <a:off x="3652920" y="3530160"/>
            <a:ext cx="791280" cy="25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3" name="AutoShape 46"/>
          <p:cNvCxnSpPr/>
          <p:nvPr/>
        </p:nvCxnSpPr>
        <p:spPr>
          <a:xfrm>
            <a:off x="3652920" y="3530520"/>
            <a:ext cx="791280" cy="43416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Rectangle 47"/>
          <p:cNvSpPr/>
          <p:nvPr/>
        </p:nvSpPr>
        <p:spPr>
          <a:xfrm>
            <a:off x="4443480" y="428796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AutoShape 48"/>
          <p:cNvCxnSpPr/>
          <p:nvPr/>
        </p:nvCxnSpPr>
        <p:spPr>
          <a:xfrm>
            <a:off x="3652920" y="3530520"/>
            <a:ext cx="791280" cy="93888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6" name="AutoShape 50"/>
          <p:cNvSpPr/>
          <p:nvPr/>
        </p:nvSpPr>
        <p:spPr>
          <a:xfrm>
            <a:off x="5853240" y="865080"/>
            <a:ext cx="468360" cy="3673440"/>
          </a:xfrm>
          <a:custGeom>
            <a:avLst/>
            <a:gdLst>
              <a:gd name="textAreaLeft" fmla="*/ 299160 w 468360"/>
              <a:gd name="textAreaRight" fmla="*/ 468720 w 468360"/>
              <a:gd name="textAreaTop" fmla="*/ 22320 h 3673440"/>
              <a:gd name="textAreaBottom" fmla="*/ 365112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277"/>
                </a:lnTo>
                <a:cubicBezTo>
                  <a:pt x="10800" y="10488"/>
                  <a:pt x="5400" y="10699"/>
                  <a:pt x="0" y="10699"/>
                </a:cubicBezTo>
                <a:cubicBezTo>
                  <a:pt x="5400" y="10699"/>
                  <a:pt x="10800" y="10910"/>
                  <a:pt x="10800" y="11121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1"/>
          <a:stretch/>
        </p:blipFill>
        <p:spPr>
          <a:xfrm>
            <a:off x="984240" y="19843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28" name="TextBox 70"/>
          <p:cNvSpPr/>
          <p:nvPr/>
        </p:nvSpPr>
        <p:spPr>
          <a:xfrm>
            <a:off x="2760840" y="551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71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73"/>
          <p:cNvSpPr/>
          <p:nvPr/>
        </p:nvSpPr>
        <p:spPr>
          <a:xfrm>
            <a:off x="3370320" y="499752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74"/>
          <p:cNvSpPr/>
          <p:nvPr/>
        </p:nvSpPr>
        <p:spPr>
          <a:xfrm>
            <a:off x="6477120" y="500220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3C3-3FD6-446D-8C03-9A6CCB94D308}" type="slidenum">
              <a:t>22</a:t>
            </a:fld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593-A711-404D-B98C-33E4C2471818}" type="slidenum">
              <a:t>23</a:t>
            </a:fld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7"/>
          <p:cNvSpPr/>
          <p:nvPr/>
        </p:nvSpPr>
        <p:spPr>
          <a:xfrm>
            <a:off x="914400" y="533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446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Right Arrow 1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2"/>
          <p:cNvSpPr/>
          <p:nvPr/>
        </p:nvSpPr>
        <p:spPr>
          <a:xfrm>
            <a:off x="533520" y="5486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3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4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5"/>
          <p:cNvSpPr/>
          <p:nvPr/>
        </p:nvSpPr>
        <p:spPr>
          <a:xfrm>
            <a:off x="2819520" y="499104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6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7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8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21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E44-D837-4617-ABB9-1030ABF57A8E}" type="slidenum">
              <a:t>24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7"/>
          <p:cNvSpPr/>
          <p:nvPr/>
        </p:nvSpPr>
        <p:spPr>
          <a:xfrm>
            <a:off x="990720" y="533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460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ight Arrow 19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0"/>
          <p:cNvSpPr/>
          <p:nvPr/>
        </p:nvSpPr>
        <p:spPr>
          <a:xfrm>
            <a:off x="533520" y="5486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22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23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24"/>
          <p:cNvSpPr/>
          <p:nvPr/>
        </p:nvSpPr>
        <p:spPr>
          <a:xfrm>
            <a:off x="4770360" y="500220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5"/>
          <p:cNvSpPr/>
          <p:nvPr/>
        </p:nvSpPr>
        <p:spPr>
          <a:xfrm>
            <a:off x="28288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6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8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E91-C968-47DE-8C5A-11BCC8520361}" type="slidenum">
              <a:t>25</a:t>
            </a:fld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6"/>
          <p:cNvSpPr/>
          <p:nvPr/>
        </p:nvSpPr>
        <p:spPr>
          <a:xfrm>
            <a:off x="884160" y="533520"/>
            <a:ext cx="26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474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ight Arrow 16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7"/>
          <p:cNvSpPr/>
          <p:nvPr/>
        </p:nvSpPr>
        <p:spPr>
          <a:xfrm>
            <a:off x="533520" y="5486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8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9"/>
          <p:cNvSpPr/>
          <p:nvPr/>
        </p:nvSpPr>
        <p:spPr>
          <a:xfrm>
            <a:off x="2828880" y="497196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20"/>
          <p:cNvSpPr/>
          <p:nvPr/>
        </p:nvSpPr>
        <p:spPr>
          <a:xfrm>
            <a:off x="6800760" y="49849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21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31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32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3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371600" y="1184400"/>
            <a:ext cx="3046320" cy="3200400"/>
            <a:chOff x="1371600" y="1184400"/>
            <a:chExt cx="3046320" cy="3200400"/>
          </a:xfrm>
        </p:grpSpPr>
        <p:sp>
          <p:nvSpPr>
            <p:cNvPr id="486" name="Isosceles Triangle 35"/>
            <p:cNvSpPr/>
            <p:nvPr/>
          </p:nvSpPr>
          <p:spPr>
            <a:xfrm>
              <a:off x="1371600" y="1184400"/>
              <a:ext cx="3046320" cy="3200400"/>
            </a:xfrm>
            <a:prstGeom prst="triangle">
              <a:avLst>
                <a:gd name="adj" fmla="val 50000"/>
              </a:avLst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traight Connector 36"/>
            <p:cNvSpPr/>
            <p:nvPr/>
          </p:nvSpPr>
          <p:spPr>
            <a:xfrm>
              <a:off x="2292840" y="2270880"/>
              <a:ext cx="1133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traight Connector 37"/>
            <p:cNvSpPr/>
            <p:nvPr/>
          </p:nvSpPr>
          <p:spPr>
            <a:xfrm>
              <a:off x="1725480" y="3242160"/>
              <a:ext cx="2196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Box 38"/>
          <p:cNvSpPr/>
          <p:nvPr/>
        </p:nvSpPr>
        <p:spPr>
          <a:xfrm>
            <a:off x="1708200" y="2978280"/>
            <a:ext cx="24447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目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9"/>
          <p:cNvSpPr/>
          <p:nvPr/>
        </p:nvSpPr>
        <p:spPr>
          <a:xfrm>
            <a:off x="2398680" y="1568520"/>
            <a:ext cx="1000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0"/>
          <p:cNvSpPr/>
          <p:nvPr/>
        </p:nvSpPr>
        <p:spPr>
          <a:xfrm>
            <a:off x="2075040" y="228600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目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ight Arrow 41"/>
          <p:cNvSpPr/>
          <p:nvPr/>
        </p:nvSpPr>
        <p:spPr>
          <a:xfrm>
            <a:off x="4452840" y="2286000"/>
            <a:ext cx="2892600" cy="1317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2"/>
          <p:cNvSpPr/>
          <p:nvPr/>
        </p:nvSpPr>
        <p:spPr>
          <a:xfrm>
            <a:off x="5053320" y="2517840"/>
            <a:ext cx="1636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A69-B780-4E24-861E-42F1DAA711D5}" type="slidenum">
              <a:t>26</a:t>
            </a:fld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4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502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018-CCB0-45A5-BB34-4B345531FE36}" type="slidenum">
              <a:t>27</a:t>
            </a:fld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ight Arrow 11"/>
          <p:cNvSpPr/>
          <p:nvPr/>
        </p:nvSpPr>
        <p:spPr>
          <a:xfrm>
            <a:off x="0" y="4797360"/>
            <a:ext cx="5791320" cy="7923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6"/>
          <p:cNvSpPr/>
          <p:nvPr/>
        </p:nvSpPr>
        <p:spPr>
          <a:xfrm>
            <a:off x="2514600" y="501012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8"/>
          <p:cNvSpPr/>
          <p:nvPr/>
        </p:nvSpPr>
        <p:spPr>
          <a:xfrm>
            <a:off x="5943600" y="49593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"/>
          <p:cNvSpPr/>
          <p:nvPr/>
        </p:nvSpPr>
        <p:spPr>
          <a:xfrm>
            <a:off x="0" y="2023920"/>
            <a:ext cx="9144000" cy="1846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42D-3BB6-41EF-90B6-A1DE04C6C764}" type="slidenum">
              <a:t>28</a:t>
            </a:fld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5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117-45F6-4D4B-8F3B-128C68C6FC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traight Connector 2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4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63" name="Right Arrow 1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2514600" y="501012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927080" y="1839960"/>
            <a:ext cx="1557360" cy="235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283360" y="1839960"/>
            <a:ext cx="1600200" cy="2357280"/>
          </a:xfrm>
          <a:prstGeom prst="rect">
            <a:avLst/>
          </a:prstGeom>
          <a:ln w="0">
            <a:noFill/>
          </a:ln>
        </p:spPr>
      </p:pic>
      <p:sp>
        <p:nvSpPr>
          <p:cNvPr id="67" name="TextBox 25"/>
          <p:cNvSpPr/>
          <p:nvPr/>
        </p:nvSpPr>
        <p:spPr>
          <a:xfrm>
            <a:off x="1905120" y="4179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5283360" y="416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5956200" y="500220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8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6629400" y="500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79F-4E0A-4467-B47C-677A660842D5}" type="slidenum">
              <a:t>3</a:t>
            </a:fld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ight Arrow 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9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39840" y="1847880"/>
            <a:ext cx="1558800" cy="235728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9"/>
          <p:cNvSpPr/>
          <p:nvPr/>
        </p:nvSpPr>
        <p:spPr>
          <a:xfrm>
            <a:off x="2971800" y="304812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40"/>
          <p:cNvSpPr/>
          <p:nvPr/>
        </p:nvSpPr>
        <p:spPr>
          <a:xfrm>
            <a:off x="2971800" y="4264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6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3048120" y="21337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1"/>
          <p:cNvSpPr/>
          <p:nvPr/>
        </p:nvSpPr>
        <p:spPr>
          <a:xfrm>
            <a:off x="3030480" y="3352680"/>
            <a:ext cx="504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121932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A3F-5BE7-4C93-AAA0-FDB0BBA46A7B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39840" y="1847880"/>
            <a:ext cx="1558800" cy="2357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3200400" y="2895480"/>
            <a:ext cx="491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21932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5"/>
          <p:cNvSpPr/>
          <p:nvPr/>
        </p:nvSpPr>
        <p:spPr>
          <a:xfrm>
            <a:off x="3048120" y="274320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3048120" y="18288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589-4706-4E16-BCEB-F2B739E06A45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40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9"/>
          <p:cNvSpPr/>
          <p:nvPr/>
        </p:nvSpPr>
        <p:spPr>
          <a:xfrm>
            <a:off x="4767120" y="4997520"/>
            <a:ext cx="38124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ight Arrow 2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2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3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5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0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4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5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6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37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8"/>
          <p:cNvSpPr/>
          <p:nvPr/>
        </p:nvSpPr>
        <p:spPr>
          <a:xfrm>
            <a:off x="2819520" y="499104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1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2"/>
          <p:cNvSpPr/>
          <p:nvPr/>
        </p:nvSpPr>
        <p:spPr>
          <a:xfrm>
            <a:off x="1371600" y="533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105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27"/>
          <p:cNvSpPr/>
          <p:nvPr/>
        </p:nvSpPr>
        <p:spPr>
          <a:xfrm>
            <a:off x="1447920" y="1295280"/>
            <a:ext cx="680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599ff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场，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6599ff"/>
                </a:solidFill>
                <a:latin typeface="Arial"/>
                <a:ea typeface="微软雅黑"/>
              </a:rPr>
              <a:t>月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成交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，各项指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6599ff"/>
                </a:solidFill>
                <a:latin typeface="Arial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全年完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成交（要用数据说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1447920" y="295920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599ff"/>
                </a:solidFill>
                <a:latin typeface="Arial"/>
                <a:ea typeface="微软雅黑"/>
              </a:rPr>
              <a:t>7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场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上线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合作完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用客观事实说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03E-9944-4D32-BBA1-EC11A55CEDCE}" type="slidenum">
              <a:t>6</a:t>
            </a:fld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1488960" y="53172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-</a:t>
            </a: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hart 13"/>
          <p:cNvSpPr/>
          <p:nvPr/>
        </p:nvSpPr>
        <p:spPr>
          <a:xfrm>
            <a:off x="1184400" y="1212840"/>
            <a:ext cx="74628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1828800" y="4213080"/>
            <a:ext cx="6781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图表的说明，突出重点数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峰值</a:t>
            </a:r>
            <a:r>
              <a:rPr b="0" lang="en-US" sz="2800" spc="-1" strike="noStrike">
                <a:solidFill>
                  <a:srgbClr val="6599ff"/>
                </a:solidFill>
                <a:latin typeface="微软雅黑"/>
                <a:ea typeface="微软雅黑"/>
              </a:rPr>
              <a:t>8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，平均值</a:t>
            </a:r>
            <a:r>
              <a:rPr b="0" lang="en-US" sz="2800" spc="-1" strike="noStrike">
                <a:solidFill>
                  <a:srgbClr val="6599ff"/>
                </a:solidFill>
                <a:latin typeface="微软雅黑"/>
                <a:ea typeface="微软雅黑"/>
              </a:rPr>
              <a:t>8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，完成率</a:t>
            </a:r>
            <a:r>
              <a:rPr b="0" lang="en-US" sz="2800" spc="-1" strike="noStrike">
                <a:solidFill>
                  <a:srgbClr val="6599ff"/>
                </a:solidFill>
                <a:latin typeface="微软雅黑"/>
                <a:ea typeface="微软雅黑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117440" y="4253040"/>
            <a:ext cx="722520" cy="642600"/>
          </a:xfrm>
          <a:prstGeom prst="rect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115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Oval 23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8"/>
          <p:cNvSpPr/>
          <p:nvPr/>
        </p:nvSpPr>
        <p:spPr>
          <a:xfrm>
            <a:off x="4767120" y="4997520"/>
            <a:ext cx="38124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ight Arrow 29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0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2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3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4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5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6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7"/>
          <p:cNvSpPr/>
          <p:nvPr/>
        </p:nvSpPr>
        <p:spPr>
          <a:xfrm>
            <a:off x="2819520" y="499104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8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9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406-FD15-4B5B-A26D-19ECE6D4C426}" type="slidenum">
              <a:t>7</a:t>
            </a:fld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art 15"/>
          <p:cNvSpPr/>
          <p:nvPr/>
        </p:nvSpPr>
        <p:spPr>
          <a:xfrm>
            <a:off x="1211400" y="1285920"/>
            <a:ext cx="7365960" cy="29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132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30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Oval 18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4767120" y="4997520"/>
            <a:ext cx="38124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29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2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5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6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7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8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9"/>
          <p:cNvSpPr/>
          <p:nvPr/>
        </p:nvSpPr>
        <p:spPr>
          <a:xfrm>
            <a:off x="4770360" y="4991040"/>
            <a:ext cx="38124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1"/>
          <p:cNvSpPr/>
          <p:nvPr/>
        </p:nvSpPr>
        <p:spPr>
          <a:xfrm>
            <a:off x="1488960" y="53172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-</a:t>
            </a: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2"/>
          <p:cNvSpPr/>
          <p:nvPr/>
        </p:nvSpPr>
        <p:spPr>
          <a:xfrm>
            <a:off x="1828800" y="441972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也可以在使用趋势线功能，让老板了解运营的趋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3"/>
          <p:cNvSpPr/>
          <p:nvPr/>
        </p:nvSpPr>
        <p:spPr>
          <a:xfrm>
            <a:off x="1117440" y="4253040"/>
            <a:ext cx="722520" cy="642600"/>
          </a:xfrm>
          <a:prstGeom prst="rect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4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8CA-F5D9-4E63-85C1-B9C9AD3572A1}" type="slidenum">
              <a:t>8</a:t>
            </a:fld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ight Arrow 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9"/>
          <p:cNvSpPr/>
          <p:nvPr/>
        </p:nvSpPr>
        <p:spPr>
          <a:xfrm>
            <a:off x="498600" y="542880"/>
            <a:ext cx="34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7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0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4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7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4707000" y="498492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159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Oval 25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Oval 28"/>
          <p:cNvSpPr/>
          <p:nvPr/>
        </p:nvSpPr>
        <p:spPr>
          <a:xfrm>
            <a:off x="6781680" y="49975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248520" y="191448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可以做数据的对比，此处可以写数据的注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hart 30"/>
          <p:cNvSpPr/>
          <p:nvPr/>
        </p:nvSpPr>
        <p:spPr>
          <a:xfrm>
            <a:off x="1371600" y="903240"/>
            <a:ext cx="39830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hart 31"/>
          <p:cNvSpPr/>
          <p:nvPr/>
        </p:nvSpPr>
        <p:spPr>
          <a:xfrm>
            <a:off x="1450800" y="2971800"/>
            <a:ext cx="425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33"/>
          <p:cNvSpPr/>
          <p:nvPr/>
        </p:nvSpPr>
        <p:spPr>
          <a:xfrm>
            <a:off x="1012680" y="3276720"/>
            <a:ext cx="78948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4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7E6-F96A-4361-8E79-AB9CDF8EE752}" type="slidenum">
              <a:t>9</a:t>
            </a:fld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aoyou@taobao.com</dc:creator>
  <dc:description/>
  <dc:language>en-US</dc:language>
  <cp:lastModifiedBy>User</cp:lastModifiedBy>
  <dcterms:modified xsi:type="dcterms:W3CDTF">2015-07-04T07:26:36Z</dcterms:modified>
  <cp:revision>238</cp:revision>
  <dc:subject/>
  <dc:title>规划模板-演说非常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