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326-50AF-4C96-BF94-ACBA99FC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676764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3377880"/>
            <a:ext cx="676764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B17-CF68-4943-8A0C-AE040323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24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337788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240" y="337788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405-4601-410E-9566-B8D07FB3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08880" y="148896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7040" y="148896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337788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08880" y="337788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7040" y="337788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54E-F0C2-4203-8E7F-F8600814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3A07-4E8F-4CC2-AA5F-F6CA5F2A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20360" y="1488960"/>
            <a:ext cx="676764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E778-0A30-4E85-BCF6-4F7910C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676764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C56B-A8ED-4667-B139-54A030DB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33022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8240" y="1488960"/>
            <a:ext cx="33022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4AB0-425F-4A91-9780-6CB722D7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CAAE-C763-45EF-B58D-24AB5F3B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9640" y="696960"/>
            <a:ext cx="784872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AC9C-27AB-4FA3-86CF-6F79BB62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240" y="1488960"/>
            <a:ext cx="33022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20360" y="337788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1E17-8B92-43EC-A182-81E3D76A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1488960"/>
            <a:ext cx="676764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E01-DF19-482B-AD01-EE0B02C9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33022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824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88240" y="337788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1352-4FDE-468A-B90D-FBCF60C0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824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20360" y="3377880"/>
            <a:ext cx="676764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F79C-049D-42F1-BA98-12B743FB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676764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20360" y="3377880"/>
            <a:ext cx="676764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8BE4-7E10-40CC-9372-C31F6E6A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824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20360" y="337788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88240" y="337788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6228-B690-4CF7-929A-D5B371D7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08880" y="148896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7040" y="148896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20360" y="337788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08880" y="337788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7040" y="3377880"/>
            <a:ext cx="21790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FB12-8ADD-4626-83FC-8BC06298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676764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F78-34A7-427F-899B-8605DB38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33022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240" y="1488960"/>
            <a:ext cx="33022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664-9E73-410C-B7CD-2CEF0940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312-733B-4465-B262-D02F552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696960"/>
            <a:ext cx="784872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BC5-A3BF-4C1F-A4B4-49E1B597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240" y="1488960"/>
            <a:ext cx="33022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337788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2DA-5F76-40AC-8692-B26065FA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33022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24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240" y="337788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691-B703-4060-B3AF-660A479C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240" y="1488960"/>
            <a:ext cx="330228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3377880"/>
            <a:ext cx="6767640" cy="17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8E9-C6C8-4C97-961B-D421638C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696960"/>
            <a:ext cx="7848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1488960"/>
            <a:ext cx="676764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7384-9F18-464B-B2E4-C0AE9DF8AD23}" type="slidenum"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1201320"/>
            <a:ext cx="46051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6F3B-FA37-43F2-A209-9F7690FAE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audio" Target="file:///tmp/home/.config/libreoffice/4/user/gallery/51383.wav" TargetMode="External"/><Relationship Id="rId23" Type="http://schemas.microsoft.com/office/2007/relationships/media" Target="file:///tmp/home/.config/libreoffice/4/user/gallery/51383.wav" TargetMode="External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114480" y="0"/>
            <a:ext cx="9288720" cy="573876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-3492360" y="-3622680"/>
            <a:ext cx="9955440" cy="9982080"/>
            <a:chOff x="-3492360" y="-3622680"/>
            <a:chExt cx="9955440" cy="9982080"/>
          </a:xfrm>
        </p:grpSpPr>
        <p:grpSp>
          <p:nvGrpSpPr>
            <p:cNvPr id="83" name=""/>
            <p:cNvGrpSpPr/>
            <p:nvPr/>
          </p:nvGrpSpPr>
          <p:grpSpPr>
            <a:xfrm>
              <a:off x="-488880" y="1536120"/>
              <a:ext cx="3341520" cy="4823280"/>
              <a:chOff x="-488880" y="1536120"/>
              <a:chExt cx="3341520" cy="4823280"/>
            </a:xfrm>
          </p:grpSpPr>
          <p:pic>
            <p:nvPicPr>
              <p:cNvPr id="84" name="任意多边形 55" descr=""/>
              <p:cNvPicPr/>
              <p:nvPr/>
            </p:nvPicPr>
            <p:blipFill>
              <a:blip r:embed="rId2"/>
              <a:stretch/>
            </p:blipFill>
            <p:spPr>
              <a:xfrm>
                <a:off x="939600" y="1536120"/>
                <a:ext cx="417600" cy="482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 rot="2292000">
                <a:off x="675360" y="1840680"/>
                <a:ext cx="1013040" cy="41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1056600" y="1448280"/>
              <a:ext cx="2606400" cy="4677120"/>
              <a:chOff x="1056600" y="1448280"/>
              <a:chExt cx="2606400" cy="4677120"/>
            </a:xfrm>
          </p:grpSpPr>
          <p:pic>
            <p:nvPicPr>
              <p:cNvPr id="87" name="任意多边形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3360" y="1448280"/>
                <a:ext cx="1083960" cy="46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 rot="865800">
                <a:off x="1543320" y="1685160"/>
                <a:ext cx="1632240" cy="41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-3492360" y="-518040"/>
              <a:ext cx="4879800" cy="2716920"/>
              <a:chOff x="-3492360" y="-518040"/>
              <a:chExt cx="4879800" cy="2716920"/>
            </a:xfrm>
          </p:grpSpPr>
          <p:pic>
            <p:nvPicPr>
              <p:cNvPr id="90" name="任意多边形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492360" y="667080"/>
                <a:ext cx="4879800" cy="3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 rot="3718800">
                <a:off x="-1518480" y="-1128240"/>
                <a:ext cx="982080" cy="39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-2721960" y="-3622680"/>
              <a:ext cx="9185040" cy="9233280"/>
              <a:chOff x="-2721960" y="-3622680"/>
              <a:chExt cx="9185040" cy="9233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089440" y="-185760"/>
                <a:ext cx="4373640" cy="2336040"/>
                <a:chOff x="2089440" y="-185760"/>
                <a:chExt cx="4373640" cy="2336040"/>
              </a:xfrm>
            </p:grpSpPr>
            <p:pic>
              <p:nvPicPr>
                <p:cNvPr id="94" name="任意多边形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089440" y="835920"/>
                  <a:ext cx="43736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7785200">
                  <a:off x="3881160" y="-882720"/>
                  <a:ext cx="754920" cy="37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830960" y="1456200"/>
                <a:ext cx="2516400" cy="4006080"/>
                <a:chOff x="1830960" y="1456200"/>
                <a:chExt cx="2516400" cy="4006080"/>
              </a:xfrm>
            </p:grpSpPr>
            <p:pic>
              <p:nvPicPr>
                <p:cNvPr id="97" name="任意多边形 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30960" y="1569240"/>
                  <a:ext cx="2516400" cy="384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21403800">
                  <a:off x="1979640" y="1516680"/>
                  <a:ext cx="2240640" cy="388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989360" y="1153800"/>
                <a:ext cx="3450240" cy="3617280"/>
                <a:chOff x="1989360" y="1153800"/>
                <a:chExt cx="3450240" cy="3617280"/>
              </a:xfrm>
            </p:grpSpPr>
            <p:pic>
              <p:nvPicPr>
                <p:cNvPr id="100" name="任意多边形 5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989360" y="1820520"/>
                  <a:ext cx="3450240" cy="231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 rot="20373000">
                  <a:off x="2594880" y="1449720"/>
                  <a:ext cx="2240280" cy="30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073600" y="761400"/>
                <a:ext cx="4131000" cy="2847600"/>
                <a:chOff x="2073600" y="761400"/>
                <a:chExt cx="4131000" cy="2847600"/>
              </a:xfrm>
            </p:grpSpPr>
            <p:pic>
              <p:nvPicPr>
                <p:cNvPr id="103" name="任意多边形 5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073600" y="1775160"/>
                  <a:ext cx="4131000" cy="86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"/>
                <p:cNvSpPr/>
                <p:nvPr/>
              </p:nvSpPr>
              <p:spPr>
                <a:xfrm rot="19266000">
                  <a:off x="3009600" y="1259280"/>
                  <a:ext cx="2240640" cy="18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-35280" y="-3622680"/>
                <a:ext cx="3024720" cy="4624920"/>
                <a:chOff x="-35280" y="-3622680"/>
                <a:chExt cx="3024720" cy="4624920"/>
              </a:xfrm>
            </p:grpSpPr>
            <p:pic>
              <p:nvPicPr>
                <p:cNvPr id="106" name="任意多边形 3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3480" y="-3622680"/>
                  <a:ext cx="309960" cy="462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 rot="8607000">
                  <a:off x="1060200" y="-3305160"/>
                  <a:ext cx="833400" cy="39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-2721960" y="600480"/>
                <a:ext cx="4315680" cy="2644200"/>
                <a:chOff x="-2721960" y="600480"/>
                <a:chExt cx="4315680" cy="2644200"/>
              </a:xfrm>
            </p:grpSpPr>
            <p:pic>
              <p:nvPicPr>
                <p:cNvPr id="109" name="任意多边形 3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-2721960" y="1756080"/>
                  <a:ext cx="4315680" cy="39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 rot="2564400">
                  <a:off x="-1847520" y="1321200"/>
                  <a:ext cx="259488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-2347200" y="-1071000"/>
                <a:ext cx="3930480" cy="2490480"/>
                <a:chOff x="-2347200" y="-1071000"/>
                <a:chExt cx="3930480" cy="2490480"/>
              </a:xfrm>
            </p:grpSpPr>
            <p:pic>
              <p:nvPicPr>
                <p:cNvPr id="112" name="任意多边形 3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-2347200" y="-911160"/>
                  <a:ext cx="3930480" cy="221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 rot="5215200">
                  <a:off x="-1527480" y="-1690560"/>
                  <a:ext cx="2292840" cy="37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-658800" y="1572840"/>
                <a:ext cx="2331720" cy="4037760"/>
                <a:chOff x="-658800" y="1572840"/>
                <a:chExt cx="2331720" cy="4037760"/>
              </a:xfrm>
            </p:grpSpPr>
            <p:pic>
              <p:nvPicPr>
                <p:cNvPr id="115" name="任意多边形 40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-658800" y="1572840"/>
                  <a:ext cx="2331720" cy="403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-612360" y="1588680"/>
                  <a:ext cx="2240640" cy="39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-644040" y="-3208680"/>
                <a:ext cx="2940120" cy="4295160"/>
                <a:chOff x="-644040" y="-3208680"/>
                <a:chExt cx="2940120" cy="4295160"/>
              </a:xfrm>
            </p:grpSpPr>
            <p:pic>
              <p:nvPicPr>
                <p:cNvPr id="118" name="任意多边形 4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8760" y="-3208680"/>
                  <a:ext cx="972360" cy="429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 rot="7573800">
                  <a:off x="-361440" y="-2039760"/>
                  <a:ext cx="2375280" cy="190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-1660680" y="-2286000"/>
                <a:ext cx="3607200" cy="3478680"/>
                <a:chOff x="-1660680" y="-2286000"/>
                <a:chExt cx="3607200" cy="3478680"/>
              </a:xfrm>
            </p:grpSpPr>
            <p:pic>
              <p:nvPicPr>
                <p:cNvPr id="121" name="任意多边形 42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-1094040" y="-2286000"/>
                  <a:ext cx="2492640" cy="347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 rot="6412200">
                  <a:off x="-1044720" y="-2109960"/>
                  <a:ext cx="2375280" cy="30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-2172960" y="1035360"/>
                <a:ext cx="3814200" cy="3267000"/>
                <a:chOff x="-2172960" y="1035360"/>
                <a:chExt cx="3814200" cy="3267000"/>
              </a:xfrm>
            </p:grpSpPr>
            <p:pic>
              <p:nvPicPr>
                <p:cNvPr id="124" name="任意多边形 4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-2172960" y="1859400"/>
                  <a:ext cx="3814200" cy="163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 rot="1376400">
                  <a:off x="-1552320" y="1443960"/>
                  <a:ext cx="2594880" cy="244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208520" y="-3482640"/>
                <a:ext cx="2674440" cy="4502160"/>
                <a:chOff x="1208520" y="-3482640"/>
                <a:chExt cx="2674440" cy="4502160"/>
              </a:xfrm>
            </p:grpSpPr>
            <p:pic>
              <p:nvPicPr>
                <p:cNvPr id="127" name="任意多边形 46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290320" y="-3482640"/>
                  <a:ext cx="540000" cy="45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 rot="13543800">
                  <a:off x="1357920" y="-1962360"/>
                  <a:ext cx="2375280" cy="14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651320" y="-2531880"/>
                <a:ext cx="3508560" cy="3651840"/>
                <a:chOff x="1651320" y="-2531880"/>
                <a:chExt cx="3508560" cy="3651840"/>
              </a:xfrm>
            </p:grpSpPr>
            <p:pic>
              <p:nvPicPr>
                <p:cNvPr id="130" name="任意多边形 48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294640" y="-2531880"/>
                  <a:ext cx="2199960" cy="36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 rot="14988000">
                  <a:off x="2217600" y="-2174040"/>
                  <a:ext cx="2375280" cy="28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079000" y="-1239840"/>
                <a:ext cx="3825000" cy="2471760"/>
                <a:chOff x="2079000" y="-1239840"/>
                <a:chExt cx="3825000" cy="2471760"/>
              </a:xfrm>
            </p:grpSpPr>
            <p:pic>
              <p:nvPicPr>
                <p:cNvPr id="133" name="任意多边形 5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2079000" y="-1239840"/>
                  <a:ext cx="3825000" cy="247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 rot="16200000">
                  <a:off x="2804040" y="-1902960"/>
                  <a:ext cx="2375280" cy="37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椭圆 1"/>
            <p:cNvSpPr/>
            <p:nvPr/>
          </p:nvSpPr>
          <p:spPr>
            <a:xfrm>
              <a:off x="1295280" y="747000"/>
              <a:ext cx="868320" cy="8769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  <a:effectLst>
              <a:outerShdw dist="7632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56"/>
            <p:cNvSpPr/>
            <p:nvPr/>
          </p:nvSpPr>
          <p:spPr>
            <a:xfrm>
              <a:off x="1295280" y="738000"/>
              <a:ext cx="868320" cy="8769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任意多边形 44"/>
          <p:cNvSpPr/>
          <p:nvPr/>
        </p:nvSpPr>
        <p:spPr>
          <a:xfrm rot="2911800">
            <a:off x="6227280" y="-1208160"/>
            <a:ext cx="3506760" cy="3049560"/>
          </a:xfrm>
          <a:custGeom>
            <a:avLst/>
            <a:gdLst/>
            <a:ahLst/>
            <a:rect l="l" t="t" r="r" b="b"/>
            <a:pathLst>
              <a:path w="2227206" h="1931676">
                <a:moveTo>
                  <a:pt x="0" y="1813016"/>
                </a:moveTo>
                <a:cubicBezTo>
                  <a:pt x="560801" y="2141594"/>
                  <a:pt x="854875" y="1695404"/>
                  <a:pt x="791601" y="1583448"/>
                </a:cubicBezTo>
                <a:cubicBezTo>
                  <a:pt x="813131" y="1604549"/>
                  <a:pt x="999412" y="1791499"/>
                  <a:pt x="1105955" y="1453171"/>
                </a:cubicBezTo>
                <a:cubicBezTo>
                  <a:pt x="1163769" y="1625809"/>
                  <a:pt x="1507760" y="1554146"/>
                  <a:pt x="1524009" y="1408433"/>
                </a:cubicBezTo>
                <a:cubicBezTo>
                  <a:pt x="1849368" y="1350296"/>
                  <a:pt x="1776174" y="1086108"/>
                  <a:pt x="1766204" y="1047145"/>
                </a:cubicBezTo>
                <a:cubicBezTo>
                  <a:pt x="1926490" y="992638"/>
                  <a:pt x="2204754" y="692063"/>
                  <a:pt x="2227206" y="519486"/>
                </a:cubicBezTo>
                <a:cubicBezTo>
                  <a:pt x="1955213" y="346650"/>
                  <a:pt x="1785115" y="171580"/>
                  <a:pt x="1567505" y="0"/>
                </a:cubicBezTo>
                <a:cubicBezTo>
                  <a:pt x="1249264" y="383486"/>
                  <a:pt x="255388" y="1559716"/>
                  <a:pt x="0" y="1813016"/>
                </a:cubicBezTo>
                <a:close/>
              </a:path>
            </a:pathLst>
          </a:custGeom>
          <a:solidFill>
            <a:srgbClr val="a80000"/>
          </a:solidFill>
          <a:ln w="0">
            <a:noFill/>
          </a:ln>
          <a:effectLst>
            <a:outerShdw dist="1904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"/>
          <p:cNvSpPr/>
          <p:nvPr/>
        </p:nvSpPr>
        <p:spPr>
          <a:xfrm>
            <a:off x="5030640" y="-92160"/>
            <a:ext cx="3480120" cy="846360"/>
          </a:xfrm>
          <a:custGeom>
            <a:avLst/>
            <a:gdLst/>
            <a:ahLst/>
            <a:rect l="l" t="t" r="r" b="b"/>
            <a:pathLst>
              <a:path w="2163226" h="529671">
                <a:moveTo>
                  <a:pt x="5814" y="28575"/>
                </a:moveTo>
                <a:cubicBezTo>
                  <a:pt x="-29111" y="171450"/>
                  <a:pt x="94714" y="406400"/>
                  <a:pt x="339189" y="396875"/>
                </a:cubicBezTo>
                <a:cubicBezTo>
                  <a:pt x="475714" y="604308"/>
                  <a:pt x="783689" y="576792"/>
                  <a:pt x="805914" y="257175"/>
                </a:cubicBezTo>
                <a:cubicBezTo>
                  <a:pt x="904339" y="431800"/>
                  <a:pt x="1123414" y="425450"/>
                  <a:pt x="1196439" y="276225"/>
                </a:cubicBezTo>
                <a:cubicBezTo>
                  <a:pt x="1285339" y="307975"/>
                  <a:pt x="1278989" y="266700"/>
                  <a:pt x="1310739" y="247650"/>
                </a:cubicBezTo>
                <a:cubicBezTo>
                  <a:pt x="1364714" y="438150"/>
                  <a:pt x="1548864" y="485775"/>
                  <a:pt x="1685389" y="193675"/>
                </a:cubicBezTo>
                <a:cubicBezTo>
                  <a:pt x="1744656" y="252942"/>
                  <a:pt x="1826147" y="261408"/>
                  <a:pt x="1866364" y="171450"/>
                </a:cubicBezTo>
                <a:cubicBezTo>
                  <a:pt x="1928806" y="301625"/>
                  <a:pt x="2061097" y="244475"/>
                  <a:pt x="2107664" y="177800"/>
                </a:cubicBezTo>
                <a:lnTo>
                  <a:pt x="2163226" y="0"/>
                </a:lnTo>
                <a:lnTo>
                  <a:pt x="5814" y="28575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  <a:effectLst>
            <a:outerShdw dist="1904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5840" y="497160"/>
            <a:ext cx="1208160" cy="1215720"/>
            <a:chOff x="285840" y="497160"/>
            <a:chExt cx="1208160" cy="1215720"/>
          </a:xfrm>
        </p:grpSpPr>
        <p:pic>
          <p:nvPicPr>
            <p:cNvPr id="140" name="弦形 19" descr=""/>
            <p:cNvPicPr/>
            <p:nvPr/>
          </p:nvPicPr>
          <p:blipFill>
            <a:blip r:embed="rId19"/>
            <a:stretch/>
          </p:blipFill>
          <p:spPr>
            <a:xfrm>
              <a:off x="285840" y="603360"/>
              <a:ext cx="12081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9300200">
              <a:off x="506520" y="622440"/>
              <a:ext cx="68112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43"/>
          <p:cNvSpPr/>
          <p:nvPr/>
        </p:nvSpPr>
        <p:spPr>
          <a:xfrm rot="1801200">
            <a:off x="6973560" y="-529920"/>
            <a:ext cx="3233880" cy="1941480"/>
          </a:xfrm>
          <a:custGeom>
            <a:avLst/>
            <a:gdLst/>
            <a:ahLst/>
            <a:rect l="l" t="t" r="r" b="b"/>
            <a:pathLst>
              <a:path w="1730071" h="1042182">
                <a:moveTo>
                  <a:pt x="0" y="638235"/>
                </a:moveTo>
                <a:cubicBezTo>
                  <a:pt x="49452" y="729246"/>
                  <a:pt x="140191" y="724467"/>
                  <a:pt x="207704" y="644183"/>
                </a:cubicBezTo>
                <a:cubicBezTo>
                  <a:pt x="240546" y="784703"/>
                  <a:pt x="397023" y="717910"/>
                  <a:pt x="459672" y="636525"/>
                </a:cubicBezTo>
                <a:cubicBezTo>
                  <a:pt x="570079" y="817798"/>
                  <a:pt x="712185" y="693619"/>
                  <a:pt x="716926" y="667379"/>
                </a:cubicBezTo>
                <a:cubicBezTo>
                  <a:pt x="803801" y="774421"/>
                  <a:pt x="987683" y="697647"/>
                  <a:pt x="929481" y="530744"/>
                </a:cubicBezTo>
                <a:cubicBezTo>
                  <a:pt x="1018381" y="562494"/>
                  <a:pt x="1105224" y="492119"/>
                  <a:pt x="1123319" y="458958"/>
                </a:cubicBezTo>
                <a:cubicBezTo>
                  <a:pt x="1143330" y="486933"/>
                  <a:pt x="1139634" y="497980"/>
                  <a:pt x="1206102" y="517370"/>
                </a:cubicBezTo>
                <a:cubicBezTo>
                  <a:pt x="1186148" y="551192"/>
                  <a:pt x="1097381" y="786711"/>
                  <a:pt x="1392511" y="830439"/>
                </a:cubicBezTo>
                <a:cubicBezTo>
                  <a:pt x="1343360" y="897097"/>
                  <a:pt x="1437785" y="1091841"/>
                  <a:pt x="1603895" y="992830"/>
                </a:cubicBezTo>
                <a:cubicBezTo>
                  <a:pt x="1663162" y="1052097"/>
                  <a:pt x="1679680" y="1062354"/>
                  <a:pt x="1730071" y="999520"/>
                </a:cubicBezTo>
                <a:cubicBezTo>
                  <a:pt x="1579074" y="731526"/>
                  <a:pt x="1330629" y="294844"/>
                  <a:pt x="1146888" y="0"/>
                </a:cubicBezTo>
                <a:lnTo>
                  <a:pt x="0" y="638235"/>
                </a:lnTo>
                <a:close/>
              </a:path>
            </a:pathLst>
          </a:custGeom>
          <a:solidFill>
            <a:srgbClr val="d00000"/>
          </a:solidFill>
          <a:ln w="0">
            <a:noFill/>
          </a:ln>
          <a:effectLst>
            <a:outerShdw dist="1904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15"/>
          <p:cNvSpPr/>
          <p:nvPr/>
        </p:nvSpPr>
        <p:spPr>
          <a:xfrm>
            <a:off x="2319480" y="1692360"/>
            <a:ext cx="1458720" cy="1323720"/>
          </a:xfrm>
          <a:custGeom>
            <a:avLst/>
            <a:gdLst/>
            <a:ahLst/>
            <a:rect l="l" t="t" r="r" b="b"/>
            <a:pathLst>
              <a:path w="975360" h="891540">
                <a:moveTo>
                  <a:pt x="0" y="68580"/>
                </a:moveTo>
                <a:lnTo>
                  <a:pt x="152400" y="0"/>
                </a:lnTo>
                <a:lnTo>
                  <a:pt x="609600" y="281940"/>
                </a:lnTo>
                <a:lnTo>
                  <a:pt x="350520" y="411480"/>
                </a:lnTo>
                <a:lnTo>
                  <a:pt x="723900" y="556260"/>
                </a:lnTo>
                <a:lnTo>
                  <a:pt x="662940" y="655320"/>
                </a:lnTo>
                <a:lnTo>
                  <a:pt x="975360" y="891540"/>
                </a:lnTo>
                <a:lnTo>
                  <a:pt x="419100" y="701040"/>
                </a:lnTo>
                <a:lnTo>
                  <a:pt x="495300" y="571500"/>
                </a:lnTo>
                <a:lnTo>
                  <a:pt x="106680" y="403860"/>
                </a:lnTo>
                <a:lnTo>
                  <a:pt x="297180" y="266700"/>
                </a:lnTo>
                <a:lnTo>
                  <a:pt x="0" y="685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57"/>
          <p:cNvSpPr/>
          <p:nvPr/>
        </p:nvSpPr>
        <p:spPr>
          <a:xfrm rot="2964000">
            <a:off x="2172240" y="2729880"/>
            <a:ext cx="1135080" cy="298440"/>
          </a:xfrm>
          <a:custGeom>
            <a:avLst/>
            <a:gdLst/>
            <a:ahLst/>
            <a:rect l="l" t="t" r="r" b="b"/>
            <a:pathLst>
              <a:path w="693420" h="182880">
                <a:moveTo>
                  <a:pt x="0" y="45720"/>
                </a:moveTo>
                <a:lnTo>
                  <a:pt x="0" y="45720"/>
                </a:lnTo>
                <a:lnTo>
                  <a:pt x="68580" y="76200"/>
                </a:lnTo>
                <a:lnTo>
                  <a:pt x="320040" y="182880"/>
                </a:lnTo>
                <a:lnTo>
                  <a:pt x="342900" y="114300"/>
                </a:lnTo>
                <a:lnTo>
                  <a:pt x="693420" y="137160"/>
                </a:lnTo>
                <a:lnTo>
                  <a:pt x="190500" y="0"/>
                </a:lnTo>
                <a:lnTo>
                  <a:pt x="259080" y="99060"/>
                </a:lnTo>
                <a:lnTo>
                  <a:pt x="0" y="457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47"/>
          <p:cNvSpPr/>
          <p:nvPr/>
        </p:nvSpPr>
        <p:spPr>
          <a:xfrm rot="20071200">
            <a:off x="-1107720" y="-981000"/>
            <a:ext cx="5003640" cy="2670120"/>
          </a:xfrm>
          <a:custGeom>
            <a:avLst/>
            <a:gdLst/>
            <a:ahLst/>
            <a:rect l="l" t="t" r="r" b="b"/>
            <a:pathLst>
              <a:path w="2941277" h="1986258">
                <a:moveTo>
                  <a:pt x="504889" y="0"/>
                </a:moveTo>
                <a:cubicBezTo>
                  <a:pt x="363431" y="254851"/>
                  <a:pt x="78331" y="1033392"/>
                  <a:pt x="11190" y="1282102"/>
                </a:cubicBezTo>
                <a:cubicBezTo>
                  <a:pt x="-55951" y="1530812"/>
                  <a:pt x="197171" y="1505406"/>
                  <a:pt x="288635" y="1588942"/>
                </a:cubicBezTo>
                <a:cubicBezTo>
                  <a:pt x="289024" y="1947471"/>
                  <a:pt x="673456" y="1975724"/>
                  <a:pt x="786008" y="1841104"/>
                </a:cubicBezTo>
                <a:cubicBezTo>
                  <a:pt x="816505" y="1893610"/>
                  <a:pt x="928680" y="1901668"/>
                  <a:pt x="939800" y="1836056"/>
                </a:cubicBezTo>
                <a:cubicBezTo>
                  <a:pt x="931939" y="2031553"/>
                  <a:pt x="1287508" y="2036054"/>
                  <a:pt x="1287904" y="1850489"/>
                </a:cubicBezTo>
                <a:cubicBezTo>
                  <a:pt x="1477925" y="1880539"/>
                  <a:pt x="1534274" y="1670715"/>
                  <a:pt x="1488735" y="1635549"/>
                </a:cubicBezTo>
                <a:cubicBezTo>
                  <a:pt x="1606407" y="1824563"/>
                  <a:pt x="1901465" y="1823085"/>
                  <a:pt x="1974490" y="1673860"/>
                </a:cubicBezTo>
                <a:cubicBezTo>
                  <a:pt x="2063390" y="1705610"/>
                  <a:pt x="2057040" y="1664335"/>
                  <a:pt x="2088790" y="1645285"/>
                </a:cubicBezTo>
                <a:cubicBezTo>
                  <a:pt x="2142765" y="1835785"/>
                  <a:pt x="2326915" y="1883410"/>
                  <a:pt x="2463440" y="1591310"/>
                </a:cubicBezTo>
                <a:cubicBezTo>
                  <a:pt x="2522707" y="1650577"/>
                  <a:pt x="2604198" y="1659043"/>
                  <a:pt x="2644415" y="1569085"/>
                </a:cubicBezTo>
                <a:cubicBezTo>
                  <a:pt x="2706857" y="1699260"/>
                  <a:pt x="2839148" y="1642110"/>
                  <a:pt x="2885715" y="1575435"/>
                </a:cubicBezTo>
                <a:lnTo>
                  <a:pt x="2941277" y="1397635"/>
                </a:lnTo>
                <a:lnTo>
                  <a:pt x="504889" y="0"/>
                </a:lnTo>
                <a:close/>
              </a:path>
            </a:pathLst>
          </a:custGeom>
          <a:solidFill>
            <a:srgbClr val="a80000"/>
          </a:solidFill>
          <a:ln w="0">
            <a:noFill/>
          </a:ln>
          <a:effectLst>
            <a:outerShdw dist="1904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49"/>
          <p:cNvSpPr/>
          <p:nvPr/>
        </p:nvSpPr>
        <p:spPr>
          <a:xfrm>
            <a:off x="-808200" y="-152280"/>
            <a:ext cx="4067280" cy="936360"/>
          </a:xfrm>
          <a:custGeom>
            <a:avLst/>
            <a:gdLst/>
            <a:ahLst/>
            <a:rect l="l" t="t" r="r" b="b"/>
            <a:pathLst>
              <a:path w="2214594" h="529671">
                <a:moveTo>
                  <a:pt x="5814" y="28575"/>
                </a:moveTo>
                <a:cubicBezTo>
                  <a:pt x="-29111" y="171450"/>
                  <a:pt x="94714" y="406400"/>
                  <a:pt x="339189" y="396875"/>
                </a:cubicBezTo>
                <a:cubicBezTo>
                  <a:pt x="475714" y="604308"/>
                  <a:pt x="783689" y="576792"/>
                  <a:pt x="805914" y="257175"/>
                </a:cubicBezTo>
                <a:cubicBezTo>
                  <a:pt x="904339" y="431800"/>
                  <a:pt x="1123414" y="425450"/>
                  <a:pt x="1196439" y="276225"/>
                </a:cubicBezTo>
                <a:cubicBezTo>
                  <a:pt x="1285339" y="307975"/>
                  <a:pt x="1278989" y="266700"/>
                  <a:pt x="1310739" y="247650"/>
                </a:cubicBezTo>
                <a:cubicBezTo>
                  <a:pt x="1364714" y="438150"/>
                  <a:pt x="1548864" y="485775"/>
                  <a:pt x="1685389" y="193675"/>
                </a:cubicBezTo>
                <a:cubicBezTo>
                  <a:pt x="1744656" y="252942"/>
                  <a:pt x="1826147" y="261408"/>
                  <a:pt x="1866364" y="171450"/>
                </a:cubicBezTo>
                <a:cubicBezTo>
                  <a:pt x="1953486" y="329541"/>
                  <a:pt x="2286255" y="221505"/>
                  <a:pt x="2200639" y="0"/>
                </a:cubicBezTo>
                <a:lnTo>
                  <a:pt x="5814" y="2857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  <a:effectLst>
            <a:outerShdw dist="1904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8"/>
          <p:cNvSpPr/>
          <p:nvPr/>
        </p:nvSpPr>
        <p:spPr>
          <a:xfrm rot="1015800">
            <a:off x="3282480" y="2025360"/>
            <a:ext cx="1708200" cy="530280"/>
          </a:xfrm>
          <a:custGeom>
            <a:avLst/>
            <a:gdLst/>
            <a:ahLst/>
            <a:rect l="l" t="t" r="r" b="b"/>
            <a:pathLst>
              <a:path w="693420" h="182880">
                <a:moveTo>
                  <a:pt x="0" y="45720"/>
                </a:moveTo>
                <a:lnTo>
                  <a:pt x="0" y="45720"/>
                </a:lnTo>
                <a:lnTo>
                  <a:pt x="68580" y="76200"/>
                </a:lnTo>
                <a:lnTo>
                  <a:pt x="320040" y="182880"/>
                </a:lnTo>
                <a:lnTo>
                  <a:pt x="342900" y="114300"/>
                </a:lnTo>
                <a:lnTo>
                  <a:pt x="693420" y="137160"/>
                </a:lnTo>
                <a:lnTo>
                  <a:pt x="190500" y="0"/>
                </a:lnTo>
                <a:lnTo>
                  <a:pt x="259080" y="99060"/>
                </a:lnTo>
                <a:lnTo>
                  <a:pt x="0" y="457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C:\Documents and Settings\Administrator\桌面\ego_altergo_com_logo_by_alextass-d3bsq15.png"/>
          <p:cNvPicPr/>
          <p:nvPr/>
        </p:nvPicPr>
        <p:blipFill>
          <a:blip r:embed="rId20"/>
          <a:srcRect l="0" t="0" r="26707" b="4425"/>
          <a:stretch/>
        </p:blipFill>
        <p:spPr>
          <a:xfrm>
            <a:off x="-106200" y="130320"/>
            <a:ext cx="2130120" cy="5591160"/>
          </a:xfrm>
          <a:prstGeom prst="rect">
            <a:avLst/>
          </a:prstGeom>
          <a:ln w="0">
            <a:noFill/>
          </a:ln>
          <a:effectLst>
            <a:outerShdw dist="101520" dir="5400000" blurRad="0" rotWithShape="0">
              <a:srgbClr val="000000">
                <a:alpha val="33000"/>
              </a:srgbClr>
            </a:outerShdw>
          </a:effectLst>
        </p:spPr>
      </p:pic>
      <p:grpSp>
        <p:nvGrpSpPr>
          <p:cNvPr id="149" name=""/>
          <p:cNvGrpSpPr/>
          <p:nvPr/>
        </p:nvGrpSpPr>
        <p:grpSpPr>
          <a:xfrm>
            <a:off x="-104760" y="-19080"/>
            <a:ext cx="9282240" cy="5737320"/>
            <a:chOff x="-104760" y="-19080"/>
            <a:chExt cx="9282240" cy="5737320"/>
          </a:xfrm>
        </p:grpSpPr>
        <p:pic>
          <p:nvPicPr>
            <p:cNvPr id="150" name="矩形 14" descr=""/>
            <p:cNvPicPr/>
            <p:nvPr/>
          </p:nvPicPr>
          <p:blipFill>
            <a:blip r:embed="rId21"/>
            <a:stretch/>
          </p:blipFill>
          <p:spPr>
            <a:xfrm>
              <a:off x="-103320" y="-19080"/>
              <a:ext cx="9280800" cy="57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-104760" y="-17640"/>
              <a:ext cx="9282240" cy="57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4419720" y="6294600"/>
            <a:ext cx="304560" cy="253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23800" y="26748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喜气新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3433680"/>
            <a:ext cx="44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4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4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autoRev="1" nodeType="withEffect" fill="hold" presetClass="path" presetID="63" repeatCount="indefinite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5.55556E-007 -2.22222E-006 L 0.03681 -2.22222E-006 E">
                                      <p:cBhvr>
                                        <p:cTn id="1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35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3.33333E-006 1.11111E-006 L -0.04097 0.00167 E">
                                      <p:cBhvr>
                                        <p:cTn id="2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autoRev="1" nodeType="withEffect" fill="hold" presetClass="path" presetID="35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1.11111E-006 L -0.04097 0.00167 E">
                                      <p:cBhvr>
                                        <p:cTn id="3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autoRev="1" nodeType="withEffect" fill="hold" presetClass="path" presetID="35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3.33333E-006 1.11111E-006 L -0.04097 0.00167 E">
                                      <p:cBhvr>
                                        <p:cTn id="3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autoRev="1" nodeType="withEffect" fill="hold" presetClass="path" presetID="63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5.55556E-007 -2.22222E-006 L 0.03681 -2.22222E-006 E">
                                      <p:cBhvr>
                                        <p:cTn id="4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4.72222E-006 -3.33333E-006 C 0.03976 0.01084 0.02674 0.07278 0.06233 0.08778 C 0.08872 0.09861 0.12396 0.14473 0.15105 0.1525 C 0.21268 0.16306 0.32726 0.18306 0.38768 0.185 C 0.41546 0.19084 0.4625 0.18778 0.49028 0.19167 C 0.55816 0.18028 0.64237 0.16167 0.70435 0.13167 C 0.76632 0.10139 0.82518 0.05 0.86216 0.01167 C 0.88785 -0.00833 0.90191 -0.06055 0.92622 -0.09833 E">
                                      <p:cBhvr>
                                        <p:cTn id="47" dur="48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5400000">
                                      <p:cBhvr>
                                        <p:cTn id="49" dur="4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 repeatCount="indefinite">
                                  <p:stCondLst>
                                    <p:cond delay="5700"/>
                                  </p:stCondLst>
                                  <p:childTnLst>
                                    <p:animRot by="21600000">
                                      <p:cBhvr>
                                        <p:cTn id="54" dur="8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9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9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-114480" y="0"/>
            <a:ext cx="9288720" cy="57387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-66600" y="-23760"/>
            <a:ext cx="9283680" cy="5742000"/>
            <a:chOff x="-66600" y="-23760"/>
            <a:chExt cx="9283680" cy="5742000"/>
          </a:xfrm>
        </p:grpSpPr>
        <p:pic>
          <p:nvPicPr>
            <p:cNvPr id="157" name="矩形 14" descr=""/>
            <p:cNvPicPr/>
            <p:nvPr/>
          </p:nvPicPr>
          <p:blipFill>
            <a:blip r:embed="rId2"/>
            <a:stretch/>
          </p:blipFill>
          <p:spPr>
            <a:xfrm>
              <a:off x="-65160" y="-23760"/>
              <a:ext cx="9280800" cy="574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-66600" y="-22320"/>
              <a:ext cx="9283680" cy="57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任意多边形 76"/>
          <p:cNvSpPr/>
          <p:nvPr/>
        </p:nvSpPr>
        <p:spPr>
          <a:xfrm rot="2911800">
            <a:off x="6218640" y="-1211760"/>
            <a:ext cx="3508200" cy="3049560"/>
          </a:xfrm>
          <a:custGeom>
            <a:avLst/>
            <a:gdLst/>
            <a:ahLst/>
            <a:rect l="l" t="t" r="r" b="b"/>
            <a:pathLst>
              <a:path w="2227206" h="1931676">
                <a:moveTo>
                  <a:pt x="0" y="1813016"/>
                </a:moveTo>
                <a:cubicBezTo>
                  <a:pt x="560801" y="2141594"/>
                  <a:pt x="854875" y="1695404"/>
                  <a:pt x="791601" y="1583448"/>
                </a:cubicBezTo>
                <a:cubicBezTo>
                  <a:pt x="813131" y="1604549"/>
                  <a:pt x="999412" y="1791499"/>
                  <a:pt x="1105955" y="1453171"/>
                </a:cubicBezTo>
                <a:cubicBezTo>
                  <a:pt x="1163769" y="1625809"/>
                  <a:pt x="1507760" y="1554146"/>
                  <a:pt x="1524009" y="1408433"/>
                </a:cubicBezTo>
                <a:cubicBezTo>
                  <a:pt x="1849368" y="1350296"/>
                  <a:pt x="1776174" y="1086108"/>
                  <a:pt x="1766204" y="1047145"/>
                </a:cubicBezTo>
                <a:cubicBezTo>
                  <a:pt x="1926490" y="992638"/>
                  <a:pt x="2204754" y="692063"/>
                  <a:pt x="2227206" y="519486"/>
                </a:cubicBezTo>
                <a:cubicBezTo>
                  <a:pt x="1955213" y="346650"/>
                  <a:pt x="1785115" y="171580"/>
                  <a:pt x="1567505" y="0"/>
                </a:cubicBezTo>
                <a:cubicBezTo>
                  <a:pt x="1249264" y="383486"/>
                  <a:pt x="255388" y="1559716"/>
                  <a:pt x="0" y="1813016"/>
                </a:cubicBezTo>
                <a:close/>
              </a:path>
            </a:pathLst>
          </a:custGeom>
          <a:solidFill>
            <a:srgbClr val="a80000"/>
          </a:solidFill>
          <a:ln w="0">
            <a:noFill/>
          </a:ln>
          <a:effectLst>
            <a:outerShdw dist="1904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77"/>
          <p:cNvSpPr/>
          <p:nvPr/>
        </p:nvSpPr>
        <p:spPr>
          <a:xfrm>
            <a:off x="5024520" y="-96840"/>
            <a:ext cx="3479760" cy="846000"/>
          </a:xfrm>
          <a:custGeom>
            <a:avLst/>
            <a:gdLst/>
            <a:ahLst/>
            <a:rect l="l" t="t" r="r" b="b"/>
            <a:pathLst>
              <a:path w="2163226" h="529671">
                <a:moveTo>
                  <a:pt x="5814" y="28575"/>
                </a:moveTo>
                <a:cubicBezTo>
                  <a:pt x="-29111" y="171450"/>
                  <a:pt x="94714" y="406400"/>
                  <a:pt x="339189" y="396875"/>
                </a:cubicBezTo>
                <a:cubicBezTo>
                  <a:pt x="475714" y="604308"/>
                  <a:pt x="783689" y="576792"/>
                  <a:pt x="805914" y="257175"/>
                </a:cubicBezTo>
                <a:cubicBezTo>
                  <a:pt x="904339" y="431800"/>
                  <a:pt x="1123414" y="425450"/>
                  <a:pt x="1196439" y="276225"/>
                </a:cubicBezTo>
                <a:cubicBezTo>
                  <a:pt x="1285339" y="307975"/>
                  <a:pt x="1278989" y="266700"/>
                  <a:pt x="1310739" y="247650"/>
                </a:cubicBezTo>
                <a:cubicBezTo>
                  <a:pt x="1364714" y="438150"/>
                  <a:pt x="1548864" y="485775"/>
                  <a:pt x="1685389" y="193675"/>
                </a:cubicBezTo>
                <a:cubicBezTo>
                  <a:pt x="1744656" y="252942"/>
                  <a:pt x="1826147" y="261408"/>
                  <a:pt x="1866364" y="171450"/>
                </a:cubicBezTo>
                <a:cubicBezTo>
                  <a:pt x="1928806" y="301625"/>
                  <a:pt x="2061097" y="244475"/>
                  <a:pt x="2107664" y="177800"/>
                </a:cubicBezTo>
                <a:lnTo>
                  <a:pt x="2163226" y="0"/>
                </a:lnTo>
                <a:lnTo>
                  <a:pt x="5814" y="28575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  <a:effectLst>
            <a:outerShdw dist="1904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78"/>
          <p:cNvSpPr/>
          <p:nvPr/>
        </p:nvSpPr>
        <p:spPr>
          <a:xfrm rot="1801200">
            <a:off x="6967080" y="-534600"/>
            <a:ext cx="3233880" cy="1942920"/>
          </a:xfrm>
          <a:custGeom>
            <a:avLst/>
            <a:gdLst/>
            <a:ahLst/>
            <a:rect l="l" t="t" r="r" b="b"/>
            <a:pathLst>
              <a:path w="1730071" h="1042182">
                <a:moveTo>
                  <a:pt x="0" y="638235"/>
                </a:moveTo>
                <a:cubicBezTo>
                  <a:pt x="49452" y="729246"/>
                  <a:pt x="140191" y="724467"/>
                  <a:pt x="207704" y="644183"/>
                </a:cubicBezTo>
                <a:cubicBezTo>
                  <a:pt x="240546" y="784703"/>
                  <a:pt x="397023" y="717910"/>
                  <a:pt x="459672" y="636525"/>
                </a:cubicBezTo>
                <a:cubicBezTo>
                  <a:pt x="570079" y="817798"/>
                  <a:pt x="712185" y="693619"/>
                  <a:pt x="716926" y="667379"/>
                </a:cubicBezTo>
                <a:cubicBezTo>
                  <a:pt x="803801" y="774421"/>
                  <a:pt x="987683" y="697647"/>
                  <a:pt x="929481" y="530744"/>
                </a:cubicBezTo>
                <a:cubicBezTo>
                  <a:pt x="1018381" y="562494"/>
                  <a:pt x="1105224" y="492119"/>
                  <a:pt x="1123319" y="458958"/>
                </a:cubicBezTo>
                <a:cubicBezTo>
                  <a:pt x="1143330" y="486933"/>
                  <a:pt x="1139634" y="497980"/>
                  <a:pt x="1206102" y="517370"/>
                </a:cubicBezTo>
                <a:cubicBezTo>
                  <a:pt x="1186148" y="551192"/>
                  <a:pt x="1097381" y="786711"/>
                  <a:pt x="1392511" y="830439"/>
                </a:cubicBezTo>
                <a:cubicBezTo>
                  <a:pt x="1343360" y="897097"/>
                  <a:pt x="1437785" y="1091841"/>
                  <a:pt x="1603895" y="992830"/>
                </a:cubicBezTo>
                <a:cubicBezTo>
                  <a:pt x="1663162" y="1052097"/>
                  <a:pt x="1679680" y="1062354"/>
                  <a:pt x="1730071" y="999520"/>
                </a:cubicBezTo>
                <a:cubicBezTo>
                  <a:pt x="1579074" y="731526"/>
                  <a:pt x="1330629" y="294844"/>
                  <a:pt x="1146888" y="0"/>
                </a:cubicBezTo>
                <a:lnTo>
                  <a:pt x="0" y="638235"/>
                </a:lnTo>
                <a:close/>
              </a:path>
            </a:pathLst>
          </a:custGeom>
          <a:solidFill>
            <a:srgbClr val="d00000"/>
          </a:solidFill>
          <a:ln w="0">
            <a:noFill/>
          </a:ln>
          <a:effectLst>
            <a:outerShdw dist="1904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79"/>
          <p:cNvSpPr/>
          <p:nvPr/>
        </p:nvSpPr>
        <p:spPr>
          <a:xfrm rot="20071200">
            <a:off x="-1099800" y="-958680"/>
            <a:ext cx="5002200" cy="2670120"/>
          </a:xfrm>
          <a:custGeom>
            <a:avLst/>
            <a:gdLst/>
            <a:ahLst/>
            <a:rect l="l" t="t" r="r" b="b"/>
            <a:pathLst>
              <a:path w="2941277" h="1986258">
                <a:moveTo>
                  <a:pt x="504889" y="0"/>
                </a:moveTo>
                <a:cubicBezTo>
                  <a:pt x="363431" y="254851"/>
                  <a:pt x="78331" y="1033392"/>
                  <a:pt x="11190" y="1282102"/>
                </a:cubicBezTo>
                <a:cubicBezTo>
                  <a:pt x="-55951" y="1530812"/>
                  <a:pt x="197171" y="1505406"/>
                  <a:pt x="288635" y="1588942"/>
                </a:cubicBezTo>
                <a:cubicBezTo>
                  <a:pt x="289024" y="1947471"/>
                  <a:pt x="673456" y="1975724"/>
                  <a:pt x="786008" y="1841104"/>
                </a:cubicBezTo>
                <a:cubicBezTo>
                  <a:pt x="816505" y="1893610"/>
                  <a:pt x="928680" y="1901668"/>
                  <a:pt x="939800" y="1836056"/>
                </a:cubicBezTo>
                <a:cubicBezTo>
                  <a:pt x="931939" y="2031553"/>
                  <a:pt x="1287508" y="2036054"/>
                  <a:pt x="1287904" y="1850489"/>
                </a:cubicBezTo>
                <a:cubicBezTo>
                  <a:pt x="1477925" y="1880539"/>
                  <a:pt x="1534274" y="1670715"/>
                  <a:pt x="1488735" y="1635549"/>
                </a:cubicBezTo>
                <a:cubicBezTo>
                  <a:pt x="1606407" y="1824563"/>
                  <a:pt x="1901465" y="1823085"/>
                  <a:pt x="1974490" y="1673860"/>
                </a:cubicBezTo>
                <a:cubicBezTo>
                  <a:pt x="2063390" y="1705610"/>
                  <a:pt x="2057040" y="1664335"/>
                  <a:pt x="2088790" y="1645285"/>
                </a:cubicBezTo>
                <a:cubicBezTo>
                  <a:pt x="2142765" y="1835785"/>
                  <a:pt x="2326915" y="1883410"/>
                  <a:pt x="2463440" y="1591310"/>
                </a:cubicBezTo>
                <a:cubicBezTo>
                  <a:pt x="2522707" y="1650577"/>
                  <a:pt x="2604198" y="1659043"/>
                  <a:pt x="2644415" y="1569085"/>
                </a:cubicBezTo>
                <a:cubicBezTo>
                  <a:pt x="2706857" y="1699260"/>
                  <a:pt x="2839148" y="1642110"/>
                  <a:pt x="2885715" y="1575435"/>
                </a:cubicBezTo>
                <a:lnTo>
                  <a:pt x="2941277" y="1397635"/>
                </a:lnTo>
                <a:lnTo>
                  <a:pt x="504889" y="0"/>
                </a:lnTo>
                <a:close/>
              </a:path>
            </a:pathLst>
          </a:custGeom>
          <a:solidFill>
            <a:srgbClr val="a80000"/>
          </a:solidFill>
          <a:ln w="0">
            <a:noFill/>
          </a:ln>
          <a:effectLst>
            <a:outerShdw dist="1904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80"/>
          <p:cNvSpPr/>
          <p:nvPr/>
        </p:nvSpPr>
        <p:spPr>
          <a:xfrm>
            <a:off x="-801720" y="-131760"/>
            <a:ext cx="4068720" cy="938160"/>
          </a:xfrm>
          <a:custGeom>
            <a:avLst/>
            <a:gdLst/>
            <a:ahLst/>
            <a:rect l="l" t="t" r="r" b="b"/>
            <a:pathLst>
              <a:path w="2214594" h="529671">
                <a:moveTo>
                  <a:pt x="5814" y="28575"/>
                </a:moveTo>
                <a:cubicBezTo>
                  <a:pt x="-29111" y="171450"/>
                  <a:pt x="94714" y="406400"/>
                  <a:pt x="339189" y="396875"/>
                </a:cubicBezTo>
                <a:cubicBezTo>
                  <a:pt x="475714" y="604308"/>
                  <a:pt x="783689" y="576792"/>
                  <a:pt x="805914" y="257175"/>
                </a:cubicBezTo>
                <a:cubicBezTo>
                  <a:pt x="904339" y="431800"/>
                  <a:pt x="1123414" y="425450"/>
                  <a:pt x="1196439" y="276225"/>
                </a:cubicBezTo>
                <a:cubicBezTo>
                  <a:pt x="1285339" y="307975"/>
                  <a:pt x="1278989" y="266700"/>
                  <a:pt x="1310739" y="247650"/>
                </a:cubicBezTo>
                <a:cubicBezTo>
                  <a:pt x="1364714" y="438150"/>
                  <a:pt x="1548864" y="485775"/>
                  <a:pt x="1685389" y="193675"/>
                </a:cubicBezTo>
                <a:cubicBezTo>
                  <a:pt x="1744656" y="252942"/>
                  <a:pt x="1826147" y="261408"/>
                  <a:pt x="1866364" y="171450"/>
                </a:cubicBezTo>
                <a:cubicBezTo>
                  <a:pt x="1953486" y="329541"/>
                  <a:pt x="2286255" y="221505"/>
                  <a:pt x="2200639" y="0"/>
                </a:cubicBezTo>
                <a:lnTo>
                  <a:pt x="5814" y="2857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  <a:effectLst>
            <a:outerShdw dist="1904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2073240" y="2254320"/>
            <a:ext cx="563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新年来到新气象。</a:t>
            </a: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EE</a:t>
            </a:r>
            <a:r>
              <a:rPr b="0" lang="en-US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祝愿您新的一年里身体健康好似不倒翁，事业飞腾好似放风筝，爱情甜蜜好似沐春风，财运旺盛有如洪水滔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3299040" y="3289320"/>
            <a:ext cx="2891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ffc000"/>
                </a:solidFill>
                <a:latin typeface="微软雅黑"/>
                <a:ea typeface="微软雅黑"/>
              </a:rPr>
              <a:t>T</a:t>
            </a:r>
            <a:r>
              <a:rPr b="1" lang="en-US" sz="4900" spc="-1" strike="noStrike">
                <a:solidFill>
                  <a:srgbClr val="ffc000"/>
                </a:solidFill>
                <a:latin typeface="微软雅黑"/>
                <a:ea typeface="微软雅黑"/>
              </a:rPr>
              <a:t>HANK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1760" y="5305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autoRev="1" nodeType="withEffect" fill="hold" presetClass="path" presetID="35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3.33333E-006 1.11111E-006 L -0.04097 0.00167 E">
                                      <p:cBhvr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autoRev="1" nodeType="withEffect" fill="hold" presetClass="pat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1.11111E-006 L -0.04097 0.00167 E">
                                      <p:cBhvr>
                                        <p:cTn id="7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path" presetID="63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5.55556E-007 -2.22222E-006 L 0.03681 -2.22222E-006 E">
                                      <p:cBhvr>
                                        <p:cTn id="8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autoRev="1" nodeType="withEffect" fill="hold" presetClass="path" presetID="6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2.22222E-006 L 0.03681 -2.22222E-006 E">
                                      <p:cBhvr>
                                        <p:cTn id="8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autoRev="1" nodeType="withEffect" fill="hold" presetClass="path" presetID="35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3.33333E-006 1.11111E-006 L -0.04097 0.00167 E">
                                      <p:cBhvr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B1B-C8B8-46CA-B2B4-5FAF38DB25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6:46:5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锐普PPT</cp:lastModifiedBy>
  <dcterms:modified xsi:type="dcterms:W3CDTF">2015-07-04T07:53:33Z</dcterms:modified>
  <cp:revision>7</cp:revision>
  <dc:subject/>
  <dc:title>2012年锐普元旦PPT模板——苍龙戏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