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A60C-D736-49BB-A18B-6AB8D73F0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89988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C3AB-E254-42DE-9A5D-4CD97569C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2184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D7AE-C26E-4EB5-AF25-29DBAAF84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408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36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408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36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28E7-BCA1-4971-9E72-CDD930C1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F42CA-0D89-4FCE-9C01-83B638A2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4F355-6D6E-43C2-999D-84DEFD36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0857-5D5C-4384-90AB-360C3AA9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4399-3B6B-4308-A3C8-6AEDD91C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D51A-F2DD-455F-B891-875DC1830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42560" y="188640"/>
            <a:ext cx="785988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2DDA-54FF-4EDE-8DA1-D3F2C8681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D2E2-4A62-4BAC-B035-AF6531CF5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53D8-A794-45DB-9BC4-D37DC1D9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2184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103A5-A565-41E8-B02C-9738C132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C8F7A-D834-4636-9494-276859A5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" y="389988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A68E-5423-4EB4-89AA-5FC8B1E6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2184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B7896-6DB0-4D77-A37C-0666F5659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408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13600" y="134136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80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408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13600" y="3899880"/>
            <a:ext cx="273564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AECE-1DCF-409D-9431-0BB58CBF1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CB32-9DAB-4C77-B338-F6A7606C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AE15-7C5B-4B96-AE06-1D3A237E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54A1-06A5-4A79-AE39-5B03B3F30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42560" y="188640"/>
            <a:ext cx="785988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473-989D-4BFD-8EC2-26FF7C8B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87B9-8602-412C-B37B-C31D2B6E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21840" y="389988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884-7E49-40A8-82AB-4390231C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21840" y="1341360"/>
            <a:ext cx="414612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899880"/>
            <a:ext cx="8496360" cy="233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240D-89E3-4823-B6C2-D7E7EBDD5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719916_h"/>
          <p:cNvPicPr/>
          <p:nvPr/>
        </p:nvPicPr>
        <p:blipFill>
          <a:blip r:embed="rId2"/>
          <a:stretch/>
        </p:blipFill>
        <p:spPr>
          <a:xfrm rot="19911600">
            <a:off x="7669080" y="5444640"/>
            <a:ext cx="1257480" cy="12225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1Wood_Sorrel"/>
          <p:cNvPicPr/>
          <p:nvPr/>
        </p:nvPicPr>
        <p:blipFill>
          <a:blip r:embed="rId3"/>
          <a:srcRect l="42284" t="71184" r="0" b="22772"/>
          <a:stretch/>
        </p:blipFill>
        <p:spPr>
          <a:xfrm>
            <a:off x="0" y="0"/>
            <a:ext cx="9144000" cy="934920"/>
          </a:xfrm>
          <a:prstGeom prst="rect">
            <a:avLst/>
          </a:prstGeom>
          <a:ln w="0">
            <a:noFill/>
          </a:ln>
        </p:spPr>
      </p:pic>
      <p:sp>
        <p:nvSpPr>
          <p:cNvPr id="2" name="Rectangle 4"/>
          <p:cNvSpPr/>
          <p:nvPr/>
        </p:nvSpPr>
        <p:spPr>
          <a:xfrm>
            <a:off x="-7120080" y="0"/>
            <a:ext cx="16264080" cy="981000"/>
          </a:xfrm>
          <a:prstGeom prst="rect">
            <a:avLst/>
          </a:prstGeom>
          <a:gradFill rotWithShape="0">
            <a:gsLst>
              <a:gs pos="0">
                <a:srgbClr val="f2f2f2"/>
              </a:gs>
              <a:gs pos="100000">
                <a:srgbClr val="707070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8039B-4F09-4E33-9DFF-1006BCE36E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gradFill rotWithShape="0">
            <a:gsLst>
              <a:gs pos="0">
                <a:srgbClr val="bc7d00">
                  <a:alpha val="90196"/>
                </a:srgbClr>
              </a:gs>
              <a:gs pos="100000">
                <a:srgbClr val="573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1Wood_Sorrel"/>
          <p:cNvPicPr/>
          <p:nvPr/>
        </p:nvPicPr>
        <p:blipFill>
          <a:blip r:embed="rId2"/>
          <a:srcRect l="0" t="0" r="0" b="47710"/>
          <a:stretch/>
        </p:blipFill>
        <p:spPr>
          <a:xfrm>
            <a:off x="0" y="0"/>
            <a:ext cx="9144000" cy="400536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"/>
          <p:cNvSpPr/>
          <p:nvPr/>
        </p:nvSpPr>
        <p:spPr>
          <a:xfrm rot="21395400">
            <a:off x="-240840" y="3357360"/>
            <a:ext cx="9567720" cy="4827600"/>
          </a:xfrm>
          <a:custGeom>
            <a:avLst/>
            <a:gdLst>
              <a:gd name="textAreaLeft" fmla="*/ 26280 w 9567720"/>
              <a:gd name="textAreaRight" fmla="*/ 9541440 w 9567720"/>
              <a:gd name="textAreaTop" fmla="*/ 795600 h 4827600"/>
              <a:gd name="textAreaBottom" fmla="*/ 4032000 h 4827600"/>
            </a:gdLst>
            <a:ahLst/>
            <a:rect l="textAreaLeft" t="textAreaTop" r="textAreaRight" b="textAreaBottom"/>
            <a:pathLst>
              <a:path w="21600" h="21600">
                <a:moveTo>
                  <a:pt x="0" y="1780"/>
                </a:moveTo>
                <a:cubicBezTo>
                  <a:pt x="7170" y="-4526"/>
                  <a:pt x="14370" y="8086"/>
                  <a:pt x="21540" y="1780"/>
                </a:cubicBezTo>
                <a:lnTo>
                  <a:pt x="21600" y="19820"/>
                </a:lnTo>
                <a:cubicBezTo>
                  <a:pt x="14430" y="26126"/>
                  <a:pt x="7230" y="13514"/>
                  <a:pt x="60" y="19820"/>
                </a:cubicBez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666666"/>
              </a:gs>
            </a:gsLst>
            <a:lin ang="11004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2D3B9-AAD8-4A25-A522-BAB7FAFCA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小清新三叶草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92000" y="3887640"/>
            <a:ext cx="460836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42560" y="188640"/>
            <a:ext cx="785988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000" y="1341360"/>
            <a:ext cx="849636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AF1-0F68-4630-92FC-1FC8BBE8E08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06:03:36Z</dcterms:created>
  <dc:creator>daisy</dc:creator>
  <dc:description/>
  <dc:language>en-US</dc:language>
  <cp:lastModifiedBy>thinkpad</cp:lastModifiedBy>
  <dcterms:modified xsi:type="dcterms:W3CDTF">2015-07-04T07:20:04Z</dcterms:modified>
  <cp:revision>25</cp:revision>
  <dc:subject/>
  <dc:title>春天就要远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