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82804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613-23E9-4135-AE6C-24CCB3ED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C89-5B8D-4B35-A84E-6F8D376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B35-9D45-45A2-92D9-7FCCDFD5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F0C-9F44-4C0C-A6C9-90C5EEBF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3121-E16D-4520-9D3A-00E9AA9C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3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642C-3906-4A92-9B74-C57F8D0D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E59-0ACB-4C18-861B-C2CD19D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E8D-250E-4CE4-8615-817A287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DC1-2061-4D51-8D00-744D88A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3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56B-4C0A-49F4-9383-E23556CE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A1C-A25C-4ED8-875D-86C90BB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3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6B3-8A4C-4F0D-9BA7-B10137C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ECED-6FE6-4024-8465-75C9210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948-5E73-48FF-A8A6-A26FB5E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5C1C-966E-4647-A948-97168CA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B0CC-0185-4A1F-8C71-16C440A6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0C9B-7D1D-4B27-A6FC-F6C6EC10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B33-FCDF-4A70-83FC-F8F3E02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260-9CCC-4B79-99D4-6CBA3BA3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5FE-7D9F-4BFB-86D1-87BEE18F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3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33-F7A2-4224-92D5-05D56C1F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2B0-9DFC-482F-8628-408DED6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90A-65DA-4C91-80CA-46AA785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E50-9D8E-4572-8C3B-ADA8BD1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500" spc="-1" strike="noStrike">
                <a:solidFill>
                  <a:srgbClr val="e0609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marL="290520" indent="-29052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1" marL="628560" indent="-24120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2" marL="968400" indent="-19368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3" marL="1353960" indent="-19332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4" marL="1741320" indent="-195120">
              <a:spcBef>
                <a:spcPts val="425"/>
              </a:spcBef>
              <a:buClr>
                <a:srgbClr val="e0609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5" marL="1741320" indent="-1951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6" marL="1741320" indent="-1951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e06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0609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e0609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0609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e0609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B3C-A4D9-426D-9EAA-61C21D874F2E}" type="slidenum">
              <a:rPr b="0" lang="zh-CN" sz="800" spc="-1" strike="noStrike">
                <a:solidFill>
                  <a:srgbClr val="e06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C1BE-0EEF-4C26-935A-01F4DDA80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0" y="1547280"/>
            <a:ext cx="7037280" cy="100836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37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14000" y="1263600"/>
            <a:ext cx="745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30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660033"/>
              </a:solidFill>
              <a:latin typeface="Arial"/>
            </a:endParaRPr>
          </a:p>
          <a:p>
            <a:pPr lvl="1" marL="387360" indent="0" algn="ctr">
              <a:spcBef>
                <a:spcPts val="476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74720" algn="ctr">
              <a:spcBef>
                <a:spcPts val="349"/>
              </a:spcBef>
              <a:buClr>
                <a:srgbClr val="e06090"/>
              </a:buClr>
              <a:buFont typeface="Arial"/>
              <a:buChar char="•"/>
              <a:tabLst>
                <a:tab algn="l" pos="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4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lvl="3" marL="1160640" algn="ctr">
              <a:spcBef>
                <a:spcPts val="249"/>
              </a:spcBef>
              <a:buClr>
                <a:srgbClr val="e06090"/>
              </a:buClr>
              <a:buFont typeface="Arial"/>
              <a:buChar char="–"/>
              <a:tabLst>
                <a:tab algn="l" pos="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0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lvl="4" marL="1546200" algn="ctr">
              <a:spcBef>
                <a:spcPts val="249"/>
              </a:spcBef>
              <a:buClr>
                <a:srgbClr val="e06090"/>
              </a:buClr>
              <a:buFont typeface="Arial"/>
              <a:buChar char="»"/>
              <a:tabLst>
                <a:tab algn="l" pos="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0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lvl="5" marL="15462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lvl="6" marL="15462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24000"/>
            <a:ext cx="7037280" cy="100800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3700" spc="-1" strike="noStrike">
                <a:solidFill>
                  <a:srgbClr val="660033"/>
                </a:solidFill>
                <a:latin typeface="Arial"/>
              </a:rPr>
              <a:t>小清新系列</a:t>
            </a:r>
            <a:r>
              <a:rPr b="0" lang="en-US" sz="37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0" lang="zh-CN" sz="3700" spc="-1" strike="noStrike">
                <a:solidFill>
                  <a:srgbClr val="660033"/>
                </a:solidFill>
                <a:latin typeface="Arial"/>
              </a:rPr>
              <a:t>模板</a:t>
            </a:r>
            <a:endParaRPr b="0" lang="en-US" sz="37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2971800"/>
            <a:ext cx="43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660033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4548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更多幻灯片之家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360" y="65818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更多幻灯片之家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4548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更多幻灯片之家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216000"/>
            <a:ext cx="646272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260360"/>
            <a:ext cx="646272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3360" y="149400"/>
            <a:ext cx="7432920" cy="4521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2500" spc="-1" strike="noStrike">
                <a:solidFill>
                  <a:srgbClr val="e0609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920" y="1000080"/>
            <a:ext cx="8083800" cy="410832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 fontScale="8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599160" y="262080"/>
            <a:ext cx="12574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099-09D0-4161-8860-20420A26E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7:18:09Z</dcterms:created>
  <dc:creator>Administrator</dc:creator>
  <dc:description/>
  <dc:language>en-US</dc:language>
  <cp:lastModifiedBy>a</cp:lastModifiedBy>
  <dcterms:modified xsi:type="dcterms:W3CDTF">2015-07-04T07:19:25Z</dcterms:modified>
  <cp:revision>1</cp:revision>
  <dc:subject/>
  <dc:title>单车行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