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8D5-4241-411C-BB34-FD1A45B4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3AB-52B8-40D8-9582-D19260D5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837-9B04-44D5-ADDB-A9A414B4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77F-53EF-4F1C-9E9E-B56416DE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BA3-0A05-4B6B-B819-0E11A922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33A-38D2-434D-AD40-266746D3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A288-957B-4599-98D3-D192F8A2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A3F4-1890-4738-B94B-140BE9C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11EA-728A-4BBD-BB1B-C2CDB671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D519-1E18-4979-9A10-9E26B99C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015-4AA4-42E1-8A19-7B16971A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EC01-140B-4E4E-88C9-AEDB7C62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30F5-FBFF-4B0D-9281-3DE9465F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D6FD-3EF9-4E53-8FA5-763CB31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39A9-14C1-4561-8ECF-2C4EE6BF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6B3C-6105-4FD7-AE59-0D3A5D8C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DC4E-7245-42BD-A41C-D9659C84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B09A-7825-4F44-A86B-FCE4FE15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21E9-E906-45B2-ADD8-4FE749DD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042D-86E5-4D20-A590-674712C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4527-5F01-41E2-8679-5AF2EBDD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1F3-A8E4-4DEC-8386-AE0547C7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53A5-8F3C-480C-BF4A-94E4DB29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DFF5-19A9-41D5-BA33-89B3F55C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9F21-95FC-4B10-9E29-3814C4C0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3139-057B-4668-B315-5CDBE4EE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FED1-150C-4D72-9E40-E1C1126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109EA-605C-4B01-A829-CB119E26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3CACA-542B-4E45-A159-B6257258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B44A-C1C6-4347-B11A-506A2959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FFDB-059E-469D-9BEB-366193C9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26F-7738-44C3-985D-464C0587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929-7108-4290-AAE2-B2A05C5E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9CD-4B6D-496E-AB2A-095C67AA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1F1-4E3A-4ACC-9D50-68558A9D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918-DD1F-488B-9715-3663B3C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70B2-88A0-40D1-AE0D-319326DA33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36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53792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45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84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845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845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77488" r="0" b="0"/>
          <a:stretch/>
        </p:blipFill>
        <p:spPr>
          <a:xfrm>
            <a:off x="0" y="4449600"/>
            <a:ext cx="9144000" cy="128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12600" y="3182760"/>
            <a:ext cx="915660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5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47840"/>
            <a:ext cx="82292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52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8452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28452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52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8452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28452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52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28452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52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52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52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7067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44240"/>
            <a:ext cx="70675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3F46-C1F7-492B-AF9D-2AA945BECA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3710" b="0"/>
          <a:stretch/>
        </p:blipFill>
        <p:spPr>
          <a:xfrm>
            <a:off x="7667640" y="22320"/>
            <a:ext cx="149076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0" t="0" r="0" b="78934"/>
          <a:stretch/>
        </p:blipFill>
        <p:spPr>
          <a:xfrm>
            <a:off x="0" y="22320"/>
            <a:ext cx="9144000" cy="1203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C181-BC79-43BD-9930-AA41A65E32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fengjing/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84523"/>
                </a:solidFill>
                <a:latin typeface="Arial"/>
              </a:rPr>
              <a:t>希望的田野</a:t>
            </a:r>
            <a:r>
              <a:rPr b="1" lang="zh-CN" sz="4000" spc="-1" strike="noStrike">
                <a:solidFill>
                  <a:srgbClr val="284523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284523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59371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7067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70675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8400"/>
            <a:ext cx="82072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a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066680"/>
            <a:ext cx="892800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279360"/>
            <a:ext cx="1388880" cy="293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E1EA-C142-4FA1-B916-FBE8F3FFB2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Administrator</dc:creator>
  <dc:description/>
  <dc:language>en-US</dc:language>
  <cp:lastModifiedBy>a</cp:lastModifiedBy>
  <dcterms:modified xsi:type="dcterms:W3CDTF">2015-07-04T07:57:1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