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DB4-AB01-4458-9173-32B437DB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BCD-79D1-4DA9-9976-A9AED49F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62A-DC26-44B0-8502-9B9AEC45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D4A-1893-4F77-9697-4393DFD8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EEF-17FE-474C-B0E3-DFF1A89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D85-D659-430E-BE58-933EB06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C80-1598-44CA-9B89-00BBDFC6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EFD-BB14-44FA-ACBC-3C88326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143-283D-4953-A99A-DED1FF1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542-33B7-4234-B9AD-5BC1A52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30D-CAA1-4B3A-BABB-6D0B2D5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202-8CF4-448B-8F49-AB948E8B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898C-1C82-405D-A2F6-1BDA9B3330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F0B-3585-49A0-8BE4-DE36E36884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190600" y="2286000"/>
            <a:ext cx="42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小学课件</a:t>
            </a:r>
            <a:r>
              <a:rPr b="1" lang="zh-CN" sz="5400" spc="-1" strike="noStrike">
                <a:solidFill>
                  <a:srgbClr val="4f81b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4f81bd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246480"/>
            <a:ext cx="48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4f81bd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D82-A3C3-434B-A0AA-97746F6CAE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785960" y="214308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81bd"/>
                </a:solidFill>
                <a:latin typeface="方正隶二简体"/>
                <a:ea typeface="微软雅黑"/>
              </a:rPr>
              <a:t>谢谢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3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"/>
          <p:cNvPicPr/>
          <p:nvPr/>
        </p:nvPicPr>
        <p:blipFill>
          <a:blip r:embed="rId4"/>
          <a:stretch/>
        </p:blipFill>
        <p:spPr>
          <a:xfrm>
            <a:off x="407196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"/>
          <p:cNvPicPr/>
          <p:nvPr/>
        </p:nvPicPr>
        <p:blipFill>
          <a:blip r:embed="rId5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6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42E-C9E6-482B-93BB-C2685015F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>微软用户</dc:creator>
  <dc:description/>
  <dc:language>en-US</dc:language>
  <cp:lastModifiedBy>微软用户</cp:lastModifiedBy>
  <dcterms:modified xsi:type="dcterms:W3CDTF">2015-07-04T07:18:1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