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9DC-3061-4CB1-BEFA-91E17DF6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48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7BE-1B06-40DA-BC7C-5493D458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34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052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000-ACBB-487B-9662-7FD63B5F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592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34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592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DC3-AE12-491A-A7FD-4037FED4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6920-0E0D-470B-8F0F-F57536A9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62D9-DAF9-4AD7-BB19-A83B48D5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DE08-44BC-4CBE-A3F7-148F0C05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ADA7-C041-40BC-91BC-8D2DDA9F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AC2F-C0E9-4B86-8E9D-74956FA9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63480" y="18864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0CE0-9901-4260-BF97-8D37491D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4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1E43-89A8-41B6-B4BD-C378D728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C497-17AB-49BC-8A04-317AA2EF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052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A984-43CA-4146-9AFC-BFFD7BCC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348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B508-A655-492B-8FBF-42BDFFD3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348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A540-AE1B-4BD0-9449-1BEEB16E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4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052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2F30-765F-4E63-ADC4-ADF95143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4592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634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4592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A4C3-1FD7-43AE-9A13-E1C37D68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87F6-FB64-4216-A870-9B391E89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BFE-3A0A-4179-9CAE-EF4FC00B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6B1-4159-42AF-A153-D39678C9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3480" y="18864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741-AEF1-44B7-A17A-61935EC1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348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57B-DA7D-411E-8E01-EF0AC653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052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B0B-F0FA-485D-8E1A-DD0889DD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052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348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5F2-957F-485A-89AD-3F58A9D0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B6D9-B4A5-4790-89F6-8E6E551516A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20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A2BF-F58C-43E9-BE31-6F961AF0FA8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520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Rounded MT Bold"/>
              </a:rPr>
              <a:t>休闲时光</a:t>
            </a: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 Rounded MT Bold"/>
              </a:rPr>
              <a:t>模板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24000" y="4797000"/>
            <a:ext cx="46800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 Rounded MT Bold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 Rounded MT Bold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Rounded MT Bol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Rounded MT Bold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567-B6D6-4B14-ABB0-C60D4A107A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45:01Z</dcterms:created>
  <dc:creator/>
  <dc:description/>
  <dc:language>en-US</dc:language>
  <cp:lastModifiedBy/>
  <dcterms:modified xsi:type="dcterms:W3CDTF">2015-07-04T07:14:0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