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4208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844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420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420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844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844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420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420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420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400" y="1844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557440" y="275760"/>
            <a:ext cx="5616720" cy="56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844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420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844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400" y="420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844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4208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4208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844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20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400" y="420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50800" y="1844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3240" y="1844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420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50800" y="420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3240" y="4208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844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57440" y="275760"/>
            <a:ext cx="5616720" cy="56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844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420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844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4208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844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4208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F:\ppt\VV原创\【猫熊视觉】情人节模板\2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F:\ppt\VV原创\【猫熊视觉】情人节模板\1副本.jpg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0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68000" y="1555560"/>
            <a:ext cx="5977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0" y="1555560"/>
            <a:ext cx="5977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心相映情人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66560" y="2781360"/>
            <a:ext cx="5978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4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57440" y="275760"/>
            <a:ext cx="561672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F:\ppt\VV原创\【猫熊视觉】情人节模板\2副本.jpg"/>
          <p:cNvPicPr/>
          <p:nvPr/>
        </p:nvPicPr>
        <p:blipFill>
          <a:blip r:embed="rId1"/>
          <a:srcRect l="2559" t="0" r="3295" b="69937"/>
          <a:stretch/>
        </p:blipFill>
        <p:spPr>
          <a:xfrm>
            <a:off x="0" y="1628640"/>
            <a:ext cx="9182160" cy="266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F:\ppt\VV原创\【猫熊视觉】情人节模板\未标题-1.png"/>
          <p:cNvPicPr/>
          <p:nvPr/>
        </p:nvPicPr>
        <p:blipFill>
          <a:blip r:embed="rId2"/>
          <a:stretch/>
        </p:blipFill>
        <p:spPr>
          <a:xfrm>
            <a:off x="1835280" y="1484280"/>
            <a:ext cx="798480" cy="730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40000" y="2060640"/>
            <a:ext cx="5184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感谢观赏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F:\ppt\VV原创\【猫熊视觉】情人节模板\未标题-1.png"/>
          <p:cNvPicPr/>
          <p:nvPr/>
        </p:nvPicPr>
        <p:blipFill>
          <a:blip r:embed="rId3"/>
          <a:stretch/>
        </p:blipFill>
        <p:spPr>
          <a:xfrm>
            <a:off x="7164360" y="4221000"/>
            <a:ext cx="798480" cy="7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F:\ppt\VV原创\【猫熊视觉】情人节模板\未标题-1.png"/>
          <p:cNvPicPr/>
          <p:nvPr/>
        </p:nvPicPr>
        <p:blipFill>
          <a:blip r:embed="rId4"/>
          <a:stretch/>
        </p:blipFill>
        <p:spPr>
          <a:xfrm>
            <a:off x="7596360" y="4294080"/>
            <a:ext cx="944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0:11:08Z</dcterms:created>
  <dc:creator/>
  <dc:description/>
  <dc:language>en-US</dc:language>
  <cp:lastModifiedBy>微软用户</cp:lastModifiedBy>
  <dcterms:modified xsi:type="dcterms:W3CDTF">2015-07-04T07:15:3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