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325-4683-4EB6-B646-8C682177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857F-D869-4855-A54E-2A46CDAB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435-C2C2-4FBD-8B4C-4CB7991ED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24C-E9E7-419F-B642-A8A05984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285-5C08-4094-9153-48209CB9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23F2-475C-4490-8DDA-EE16816D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5831-6798-4093-A612-FB5B0BB9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7030-A915-4DD3-AA4F-2F4FC4BD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70E-4327-4AB4-AFD1-19FBD344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1E25-2F30-421B-8EDC-CFE776F1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A7B-72BC-4E1D-B167-C637D16A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9C8-7836-47E7-AB5E-E11F4984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B509-CFBB-4AF0-91A9-D0F1ED5BEC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16360" y="472608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熏衣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zh-CN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57121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7569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2711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14259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64980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2426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5426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3854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62125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47836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25689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783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6640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426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283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068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569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306900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3550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40690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17830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2125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4978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6407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997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712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6640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711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24260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AF5-1625-48F2-8A68-EE1493F69E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/>
  <dc:language>en-US</dc:language>
  <cp:lastModifiedBy/>
  <dcterms:modified xsi:type="dcterms:W3CDTF">2015-07-04T09:14:40Z</dcterms:modified>
  <cp:revision>1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