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87F-F096-4372-A6B2-141556F6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16B6-7EAA-4825-994B-4DC55AB5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055-3018-4817-B8ED-ACF0075A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015-3F0F-48BE-8560-02F0B20A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8D15-CC12-43C6-8116-7DA2132A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36B5-41F9-4F1F-8653-F5A6F746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BDA9-D6EF-46E0-B1D2-50CBC112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8215-A9DA-4710-A4C4-9986F0ED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6ABC-5920-4CAE-A371-26F25B78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6450-864B-4AFA-A8CD-56C08940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71A4-9C69-4D3A-80DD-AFCF0673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32C7-E9DA-44DA-8718-FFB1EB98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8D13-D1AA-4F70-8B3A-69F6348B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7B5B-350E-4DAF-815F-807517FB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F59D-0405-4BDF-8420-DBD4ED29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11AD-C690-40DB-9BD1-EA03B772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99C0-BBBD-4E6A-BBDF-F3EFFB25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66DC-319B-452F-B849-783DA95A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943-42A3-48BF-9DBE-271E2074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246B-B03A-47FB-93FE-775B858F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B2F-AD29-44E2-92ED-13DF585D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BFE-BA33-4E8F-9D70-007690BD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3CA-F78B-4A6A-887B-425B77DB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67A-1DEC-4064-BCBF-B8FCCF6F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F9BE-3E8B-43EA-9072-943287B838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2931-8DC5-4DB8-A3D7-E6A1D0E23D43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9479-1A21-4E9A-96B1-96028035F45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image" Target="../media/image10.jpeg"/><Relationship Id="rId16" Type="http://schemas.openxmlformats.org/officeDocument/2006/relationships/image" Target="../media/image11.jpeg"/><Relationship Id="rId17" Type="http://schemas.openxmlformats.org/officeDocument/2006/relationships/image" Target="../media/image12.jpeg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12120" y="4957920"/>
            <a:ext cx="44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汉仪秀英体简"/>
                <a:ea typeface="汉仪秀英体简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汉仪秀英体简"/>
                <a:ea typeface="汉仪秀英体简"/>
              </a:rPr>
              <a:t>四 年 相 伴，全 心 为 你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99280" y="695160"/>
            <a:ext cx="362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校园活动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" nodeType="after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714240" y="833400"/>
            <a:ext cx="7572600" cy="4455360"/>
            <a:chOff x="714240" y="833400"/>
            <a:chExt cx="7572600" cy="4455360"/>
          </a:xfrm>
        </p:grpSpPr>
        <p:grpSp>
          <p:nvGrpSpPr>
            <p:cNvPr id="85" name=""/>
            <p:cNvGrpSpPr/>
            <p:nvPr/>
          </p:nvGrpSpPr>
          <p:grpSpPr>
            <a:xfrm>
              <a:off x="714240" y="833400"/>
              <a:ext cx="7572600" cy="4455360"/>
              <a:chOff x="714240" y="833400"/>
              <a:chExt cx="7572600" cy="4455360"/>
            </a:xfrm>
          </p:grpSpPr>
          <p:sp>
            <p:nvSpPr>
              <p:cNvPr id="86" name="Rectangle 1"/>
              <p:cNvSpPr/>
              <p:nvPr/>
            </p:nvSpPr>
            <p:spPr>
              <a:xfrm>
                <a:off x="714240" y="1724400"/>
                <a:ext cx="1714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本土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Box 66"/>
              <p:cNvSpPr/>
              <p:nvPr/>
            </p:nvSpPr>
            <p:spPr>
              <a:xfrm>
                <a:off x="1142640" y="4167360"/>
                <a:ext cx="1571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创新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矩形 67"/>
              <p:cNvSpPr/>
              <p:nvPr/>
            </p:nvSpPr>
            <p:spPr>
              <a:xfrm>
                <a:off x="6715440" y="833400"/>
                <a:ext cx="1571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互动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矩形 68"/>
              <p:cNvSpPr/>
              <p:nvPr/>
            </p:nvSpPr>
            <p:spPr>
              <a:xfrm>
                <a:off x="6500880" y="4465080"/>
                <a:ext cx="14288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创新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矩形 69"/>
              <p:cNvSpPr/>
              <p:nvPr/>
            </p:nvSpPr>
            <p:spPr>
              <a:xfrm>
                <a:off x="1928520" y="2797920"/>
                <a:ext cx="1928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实用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矩形 70"/>
              <p:cNvSpPr/>
              <p:nvPr/>
            </p:nvSpPr>
            <p:spPr>
              <a:xfrm>
                <a:off x="2285640" y="952200"/>
                <a:ext cx="14288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原创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矩形 71"/>
              <p:cNvSpPr/>
              <p:nvPr/>
            </p:nvSpPr>
            <p:spPr>
              <a:xfrm>
                <a:off x="3143160" y="4524480"/>
                <a:ext cx="1643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本土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矩形 72"/>
              <p:cNvSpPr/>
              <p:nvPr/>
            </p:nvSpPr>
            <p:spPr>
              <a:xfrm>
                <a:off x="4357800" y="3512520"/>
                <a:ext cx="1571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分享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矩形 73"/>
              <p:cNvSpPr/>
              <p:nvPr/>
            </p:nvSpPr>
            <p:spPr>
              <a:xfrm>
                <a:off x="4714920" y="1726200"/>
                <a:ext cx="1714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简约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矩形 64"/>
            <p:cNvSpPr/>
            <p:nvPr/>
          </p:nvSpPr>
          <p:spPr>
            <a:xfrm>
              <a:off x="6357960" y="2559960"/>
              <a:ext cx="1428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草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933560" y="1393920"/>
            <a:ext cx="5440320" cy="292572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595520" y="952560"/>
            <a:ext cx="5384160" cy="3405240"/>
            <a:chOff x="1595520" y="952560"/>
            <a:chExt cx="5384160" cy="3405240"/>
          </a:xfrm>
        </p:grpSpPr>
        <p:sp>
          <p:nvSpPr>
            <p:cNvPr id="98" name="Rectangle 1"/>
            <p:cNvSpPr/>
            <p:nvPr/>
          </p:nvSpPr>
          <p:spPr>
            <a:xfrm>
              <a:off x="1595520" y="2053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77"/>
            <p:cNvSpPr/>
            <p:nvPr/>
          </p:nvSpPr>
          <p:spPr>
            <a:xfrm>
              <a:off x="1785600" y="398952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78"/>
            <p:cNvSpPr/>
            <p:nvPr/>
          </p:nvSpPr>
          <p:spPr>
            <a:xfrm>
              <a:off x="5500440" y="184572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质互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79"/>
            <p:cNvSpPr/>
            <p:nvPr/>
          </p:nvSpPr>
          <p:spPr>
            <a:xfrm>
              <a:off x="5572080" y="3930120"/>
              <a:ext cx="184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80"/>
            <p:cNvSpPr/>
            <p:nvPr/>
          </p:nvSpPr>
          <p:spPr>
            <a:xfrm>
              <a:off x="4290840" y="1369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实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81"/>
            <p:cNvSpPr/>
            <p:nvPr/>
          </p:nvSpPr>
          <p:spPr>
            <a:xfrm>
              <a:off x="2666880" y="3096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原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82"/>
            <p:cNvSpPr/>
            <p:nvPr/>
          </p:nvSpPr>
          <p:spPr>
            <a:xfrm>
              <a:off x="2666880" y="952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环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83"/>
            <p:cNvSpPr/>
            <p:nvPr/>
          </p:nvSpPr>
          <p:spPr>
            <a:xfrm>
              <a:off x="3309840" y="2084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84"/>
            <p:cNvSpPr/>
            <p:nvPr/>
          </p:nvSpPr>
          <p:spPr>
            <a:xfrm>
              <a:off x="4524480" y="2858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简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85"/>
            <p:cNvSpPr/>
            <p:nvPr/>
          </p:nvSpPr>
          <p:spPr>
            <a:xfrm>
              <a:off x="6524640" y="279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草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41400" y="893880"/>
            <a:ext cx="5475600" cy="3674160"/>
            <a:chOff x="1841400" y="893880"/>
            <a:chExt cx="5475600" cy="3674160"/>
          </a:xfrm>
        </p:grpSpPr>
        <p:sp>
          <p:nvSpPr>
            <p:cNvPr id="109" name="Rectangle 1"/>
            <p:cNvSpPr/>
            <p:nvPr/>
          </p:nvSpPr>
          <p:spPr>
            <a:xfrm>
              <a:off x="6770520" y="38923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88"/>
            <p:cNvSpPr/>
            <p:nvPr/>
          </p:nvSpPr>
          <p:spPr>
            <a:xfrm>
              <a:off x="2500200" y="2917800"/>
              <a:ext cx="121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89"/>
            <p:cNvSpPr/>
            <p:nvPr/>
          </p:nvSpPr>
          <p:spPr>
            <a:xfrm>
              <a:off x="3214800" y="4108320"/>
              <a:ext cx="107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互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90"/>
            <p:cNvSpPr/>
            <p:nvPr/>
          </p:nvSpPr>
          <p:spPr>
            <a:xfrm>
              <a:off x="1841400" y="1667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91"/>
            <p:cNvSpPr/>
            <p:nvPr/>
          </p:nvSpPr>
          <p:spPr>
            <a:xfrm>
              <a:off x="4912920" y="3215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实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92"/>
            <p:cNvSpPr/>
            <p:nvPr/>
          </p:nvSpPr>
          <p:spPr>
            <a:xfrm>
              <a:off x="6770520" y="11912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原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93"/>
            <p:cNvSpPr/>
            <p:nvPr/>
          </p:nvSpPr>
          <p:spPr>
            <a:xfrm>
              <a:off x="2769840" y="8938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94"/>
            <p:cNvSpPr/>
            <p:nvPr/>
          </p:nvSpPr>
          <p:spPr>
            <a:xfrm>
              <a:off x="3412800" y="2024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95"/>
            <p:cNvSpPr/>
            <p:nvPr/>
          </p:nvSpPr>
          <p:spPr>
            <a:xfrm>
              <a:off x="5913000" y="22629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简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96"/>
            <p:cNvSpPr/>
            <p:nvPr/>
          </p:nvSpPr>
          <p:spPr>
            <a:xfrm>
              <a:off x="4412880" y="1012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草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826920" y="1116000"/>
            <a:ext cx="6031440" cy="3620520"/>
            <a:chOff x="826920" y="1116000"/>
            <a:chExt cx="6031440" cy="3620520"/>
          </a:xfrm>
        </p:grpSpPr>
        <p:sp>
          <p:nvSpPr>
            <p:cNvPr id="120" name="Rectangle 1"/>
            <p:cNvSpPr/>
            <p:nvPr/>
          </p:nvSpPr>
          <p:spPr>
            <a:xfrm>
              <a:off x="1382040" y="22100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99"/>
            <p:cNvSpPr/>
            <p:nvPr/>
          </p:nvSpPr>
          <p:spPr>
            <a:xfrm>
              <a:off x="826920" y="331956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100"/>
            <p:cNvSpPr/>
            <p:nvPr/>
          </p:nvSpPr>
          <p:spPr>
            <a:xfrm>
              <a:off x="4255920" y="2426040"/>
              <a:ext cx="107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互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101"/>
            <p:cNvSpPr/>
            <p:nvPr/>
          </p:nvSpPr>
          <p:spPr>
            <a:xfrm>
              <a:off x="5516640" y="40939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102"/>
            <p:cNvSpPr/>
            <p:nvPr/>
          </p:nvSpPr>
          <p:spPr>
            <a:xfrm>
              <a:off x="4025520" y="15328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实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103"/>
            <p:cNvSpPr/>
            <p:nvPr/>
          </p:nvSpPr>
          <p:spPr>
            <a:xfrm>
              <a:off x="2453760" y="3259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原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04"/>
            <p:cNvSpPr/>
            <p:nvPr/>
          </p:nvSpPr>
          <p:spPr>
            <a:xfrm>
              <a:off x="2453760" y="1116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105"/>
            <p:cNvSpPr/>
            <p:nvPr/>
          </p:nvSpPr>
          <p:spPr>
            <a:xfrm>
              <a:off x="3096720" y="22474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106"/>
            <p:cNvSpPr/>
            <p:nvPr/>
          </p:nvSpPr>
          <p:spPr>
            <a:xfrm>
              <a:off x="3382560" y="35578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简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07"/>
            <p:cNvSpPr/>
            <p:nvPr/>
          </p:nvSpPr>
          <p:spPr>
            <a:xfrm>
              <a:off x="6311880" y="29620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草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248920" y="741960"/>
            <a:ext cx="5466240" cy="3288960"/>
            <a:chOff x="2248920" y="741960"/>
            <a:chExt cx="5466240" cy="3288960"/>
          </a:xfrm>
        </p:grpSpPr>
        <p:sp>
          <p:nvSpPr>
            <p:cNvPr id="131" name="Rectangle 1"/>
            <p:cNvSpPr/>
            <p:nvPr/>
          </p:nvSpPr>
          <p:spPr>
            <a:xfrm>
              <a:off x="4892040" y="7419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110"/>
            <p:cNvSpPr/>
            <p:nvPr/>
          </p:nvSpPr>
          <p:spPr>
            <a:xfrm>
              <a:off x="7000920" y="291780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111"/>
            <p:cNvSpPr/>
            <p:nvPr/>
          </p:nvSpPr>
          <p:spPr>
            <a:xfrm>
              <a:off x="2571480" y="10126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互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112"/>
            <p:cNvSpPr/>
            <p:nvPr/>
          </p:nvSpPr>
          <p:spPr>
            <a:xfrm>
              <a:off x="3463200" y="27392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113"/>
            <p:cNvSpPr/>
            <p:nvPr/>
          </p:nvSpPr>
          <p:spPr>
            <a:xfrm>
              <a:off x="2463120" y="202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实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114"/>
            <p:cNvSpPr/>
            <p:nvPr/>
          </p:nvSpPr>
          <p:spPr>
            <a:xfrm>
              <a:off x="4749120" y="36320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原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115"/>
            <p:cNvSpPr/>
            <p:nvPr/>
          </p:nvSpPr>
          <p:spPr>
            <a:xfrm>
              <a:off x="6820920" y="19058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原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116"/>
            <p:cNvSpPr/>
            <p:nvPr/>
          </p:nvSpPr>
          <p:spPr>
            <a:xfrm>
              <a:off x="3891960" y="14889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17"/>
            <p:cNvSpPr/>
            <p:nvPr/>
          </p:nvSpPr>
          <p:spPr>
            <a:xfrm>
              <a:off x="4618080" y="20844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简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118"/>
            <p:cNvSpPr/>
            <p:nvPr/>
          </p:nvSpPr>
          <p:spPr>
            <a:xfrm>
              <a:off x="2248920" y="3572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草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Box 119"/>
          <p:cNvSpPr/>
          <p:nvPr/>
        </p:nvSpPr>
        <p:spPr>
          <a:xfrm>
            <a:off x="1476360" y="1965240"/>
            <a:ext cx="604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27" dur="38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path" presetID="0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-4.44444E-006 -2.31214E-007 L 1.01511 -0.00254 E">
                                      <p:cBhvr>
                                        <p:cTn id="29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autoRev="1" nodeType="withEffect" fill="hold" presetClass="emph" presetID="6" repeatCount="7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5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02000" y="102000"/>
                                    </p:animScale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23" presetSubtype="16">
                                  <p:stCondLst>
                                    <p:cond delay="62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780000" y="1780000"/>
                                    </p:animScale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1000" fill="hold"/>
                                        <p:tgtEl>
                                          <p:spTgt spid="84"/>
                                        </p:tgtEl>
                                      </p:cBhvr>
                                      <p:to x="360000" y="360000"/>
                                    </p:animScale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53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835280" y="1357200"/>
            <a:ext cx="6051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51960" y="635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想独立一些，自信一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02760" y="1116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想无拘无束一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52680" y="16556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想玩点什么，攒点什么，折腾点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69720" y="2138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想快乐一点，充实一点，哪怕是累一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75800" y="267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也许，只是想，谈一场恋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11320" y="3338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有什么不可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18400" y="387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大学只有一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39320" y="44179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我们要做那些让自己体验深刻的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82400" y="5067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优优校，我们只为优质生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200"/>
                            </p:stCondLst>
                            <p:childTnLst>
                              <p:par>
                                <p:cTn id="9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200"/>
                            </p:stCondLst>
                            <p:childTnLst>
                              <p:par>
                                <p:cTn id="106" nodeType="afterEffect" fill="hold" presetClass="emp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7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9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10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8200"/>
                            </p:stCondLst>
                            <p:childTnLst>
                              <p:par>
                                <p:cTn id="1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1200"/>
                            </p:stCondLst>
                            <p:childTnLst>
                              <p:par>
                                <p:cTn id="1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320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7700"/>
                            </p:stCondLst>
                            <p:childTnLst>
                              <p:par>
                                <p:cTn id="13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2100"/>
                            </p:stCondLst>
                            <p:childTnLst>
                              <p:par>
                                <p:cTn id="136" nodeType="afterEffect" fill="hold" presetClass="emp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3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4"/>
          <p:cNvSpPr/>
          <p:nvPr/>
        </p:nvSpPr>
        <p:spPr>
          <a:xfrm>
            <a:off x="2720880" y="1168560"/>
            <a:ext cx="3897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方正卡通简体"/>
              </a:rPr>
              <a:t>生活不给力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方正卡通简体"/>
              </a:rPr>
              <a:t>不知道哪买东西便宜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方正卡通简体"/>
              </a:rPr>
              <a:t>错过重要讲座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方正卡通简体"/>
              </a:rPr>
              <a:t>想多了解校园八卦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方正卡通简体"/>
              </a:rPr>
              <a:t>想兼职没地儿去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方正卡通简体"/>
              </a:rPr>
              <a:t>小情侣们让你看红了眼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方正卡通简体"/>
              </a:rPr>
              <a:t>各种愁？各种要命？？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99760" y="3849840"/>
            <a:ext cx="442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9900"/>
                </a:solidFill>
                <a:latin typeface="Arial"/>
              </a:rPr>
              <a:t>UUSCHOOL</a:t>
            </a:r>
            <a:r>
              <a:rPr b="1" lang="zh-CN" sz="4000" spc="-1" strike="noStrike">
                <a:solidFill>
                  <a:srgbClr val="669900"/>
                </a:solidFill>
                <a:latin typeface="Arial"/>
              </a:rPr>
              <a:t>来帮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100"/>
                            </p:stCondLst>
                            <p:childTnLst>
                              <p:par>
                                <p:cTn id="1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100"/>
                            </p:stCondLst>
                            <p:childTnLst>
                              <p:par>
                                <p:cTn id="163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67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3100"/>
                            </p:stCondLst>
                            <p:childTnLst>
                              <p:par>
                                <p:cTn id="169" nodeType="afterEffect" fill="hold" presetClass="emp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7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7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1" descr=""/>
          <p:cNvPicPr/>
          <p:nvPr/>
        </p:nvPicPr>
        <p:blipFill>
          <a:blip r:embed="rId1"/>
          <a:stretch/>
        </p:blipFill>
        <p:spPr>
          <a:xfrm rot="18180000">
            <a:off x="1325160" y="2638440"/>
            <a:ext cx="890640" cy="1039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 rot="3600000">
            <a:off x="7459920" y="683280"/>
            <a:ext cx="495360" cy="579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"/>
          <p:cNvPicPr/>
          <p:nvPr/>
        </p:nvPicPr>
        <p:blipFill>
          <a:blip r:embed="rId3"/>
          <a:stretch/>
        </p:blipFill>
        <p:spPr>
          <a:xfrm rot="21540000">
            <a:off x="4937040" y="2141280"/>
            <a:ext cx="673200" cy="547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"/>
          <p:cNvPicPr/>
          <p:nvPr/>
        </p:nvPicPr>
        <p:blipFill>
          <a:blip r:embed="rId4"/>
          <a:stretch/>
        </p:blipFill>
        <p:spPr>
          <a:xfrm rot="20100000">
            <a:off x="4073040" y="4846680"/>
            <a:ext cx="493920" cy="39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"/>
          <p:cNvPicPr/>
          <p:nvPr/>
        </p:nvPicPr>
        <p:blipFill>
          <a:blip r:embed="rId5"/>
          <a:stretch/>
        </p:blipFill>
        <p:spPr>
          <a:xfrm rot="2700000">
            <a:off x="6080400" y="2913840"/>
            <a:ext cx="416160" cy="487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" descr=""/>
          <p:cNvPicPr/>
          <p:nvPr/>
        </p:nvPicPr>
        <p:blipFill>
          <a:blip r:embed="rId6"/>
          <a:stretch/>
        </p:blipFill>
        <p:spPr>
          <a:xfrm rot="17580000">
            <a:off x="2687400" y="3326760"/>
            <a:ext cx="747720" cy="874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7" descr=""/>
          <p:cNvPicPr/>
          <p:nvPr/>
        </p:nvPicPr>
        <p:blipFill>
          <a:blip r:embed="rId7"/>
          <a:stretch/>
        </p:blipFill>
        <p:spPr>
          <a:xfrm rot="21540000">
            <a:off x="2776320" y="1180800"/>
            <a:ext cx="542880" cy="441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"/>
          <p:cNvPicPr/>
          <p:nvPr/>
        </p:nvPicPr>
        <p:blipFill>
          <a:blip r:embed="rId8"/>
          <a:stretch/>
        </p:blipFill>
        <p:spPr>
          <a:xfrm rot="21540000">
            <a:off x="762120" y="4841640"/>
            <a:ext cx="672840" cy="547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547560" y="157320"/>
            <a:ext cx="1905120" cy="1676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2678040" y="18720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4743360" y="17460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2"/>
          <a:stretch/>
        </p:blipFill>
        <p:spPr>
          <a:xfrm>
            <a:off x="6805440" y="189000"/>
            <a:ext cx="1905120" cy="1676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3"/>
          <a:stretch/>
        </p:blipFill>
        <p:spPr>
          <a:xfrm>
            <a:off x="3583080" y="2081160"/>
            <a:ext cx="1904760" cy="1676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4"/>
          <a:stretch/>
        </p:blipFill>
        <p:spPr>
          <a:xfrm>
            <a:off x="1324080" y="2093760"/>
            <a:ext cx="1904760" cy="1676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5"/>
          <a:stretch/>
        </p:blipFill>
        <p:spPr>
          <a:xfrm>
            <a:off x="5877000" y="2021040"/>
            <a:ext cx="1904760" cy="1676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6"/>
          <a:stretch/>
        </p:blipFill>
        <p:spPr>
          <a:xfrm>
            <a:off x="6904080" y="3900600"/>
            <a:ext cx="1905120" cy="1676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7"/>
          <a:stretch/>
        </p:blipFill>
        <p:spPr>
          <a:xfrm>
            <a:off x="4780080" y="3900600"/>
            <a:ext cx="1904760" cy="1676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8"/>
          <a:stretch/>
        </p:blipFill>
        <p:spPr>
          <a:xfrm>
            <a:off x="2741760" y="3876840"/>
            <a:ext cx="1904760" cy="1676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9"/>
          <a:stretch/>
        </p:blipFill>
        <p:spPr>
          <a:xfrm>
            <a:off x="542880" y="3911760"/>
            <a:ext cx="190512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xit" presetID="53" repeatCount="3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53" repeatCount="3000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3" repeatCount="3000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3" repeatCount="3000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53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53" repeatCount="3000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53" repeatCount="300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3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500"/>
                            </p:stCondLst>
                            <p:childTnLst>
                              <p:par>
                                <p:cTn id="2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9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4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0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1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2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3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14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矩形 22" descr=""/>
          <p:cNvPicPr/>
          <p:nvPr/>
        </p:nvPicPr>
        <p:blipFill>
          <a:blip r:embed="rId1"/>
          <a:stretch/>
        </p:blipFill>
        <p:spPr>
          <a:xfrm>
            <a:off x="2909880" y="2449440"/>
            <a:ext cx="3359160" cy="42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5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1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12600" y="-34920"/>
            <a:ext cx="9144000" cy="570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坚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Arial"/>
                <a:ea typeface="微软雅黑"/>
              </a:rPr>
              <a:t>UUSCHOOL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像星星之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样点亮新的希望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3"/>
          <p:cNvSpPr/>
          <p:nvPr/>
        </p:nvSpPr>
        <p:spPr>
          <a:xfrm>
            <a:off x="2809800" y="1001880"/>
            <a:ext cx="35625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948360" y="6238800"/>
            <a:ext cx="2087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400"/>
                            </p:stCondLst>
                            <p:childTnLst>
                              <p:par>
                                <p:cTn id="368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400"/>
                            </p:stCondLst>
                            <p:childTnLst>
                              <p:par>
                                <p:cTn id="375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400"/>
                            </p:stCondLst>
                            <p:childTnLst>
                              <p:par>
                                <p:cTn id="382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9400"/>
                            </p:stCondLst>
                            <p:childTnLst>
                              <p:par>
                                <p:cTn id="389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FE6-EC33-4E79-A05E-D23AA37CB338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8:44:54Z</dcterms:created>
  <dc:creator>UUschool</dc:creator>
  <dc:description>UUschool，校园移动新生活！</dc:description>
  <cp:keywords>UUschool</cp:keywords>
  <dc:language>en-US</dc:language>
  <cp:lastModifiedBy>Vigor</cp:lastModifiedBy>
  <dcterms:modified xsi:type="dcterms:W3CDTF">2015-07-04T07:16:27Z</dcterms:modified>
  <cp:revision>114</cp:revision>
  <dc:subject>UUschool</dc:subject>
  <dc:title>UUschool，记得你曾经也深深爱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