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96E-D9A1-4DEF-BD86-6B851819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C43-FAA6-4886-80D6-146ADDB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6FF-3D16-4446-8C68-39611DFA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3AD-422E-4721-BE2C-00125B96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CAE-C343-4B53-98B5-F5C013A9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CEF-F681-4A9D-B2B6-C80C0AA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BE5-C24F-4A75-B86D-8140658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439-D577-49B7-96F7-D77D47A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F21-9936-4F07-BACB-3F8C3D4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828-7E28-49A3-8362-EB8504E7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C4F-8406-4876-BB0D-18236FEB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D91-1957-4D58-8DED-59E3293F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D38-34CE-4D2F-9C32-D9296DF16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月度工作计划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086440"/>
            <a:ext cx="42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8920" y="1916280"/>
            <a:ext cx="6481800" cy="3817800"/>
          </a:xfrm>
          <a:prstGeom prst="donut">
            <a:avLst>
              <a:gd name="adj" fmla="val 1884"/>
            </a:avLst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3399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349360"/>
            <a:ext cx="5769000" cy="2965680"/>
          </a:xfrm>
          <a:prstGeom prst="ellipse">
            <a:avLst/>
          </a:prstGeom>
          <a:gradFill rotWithShape="0">
            <a:gsLst>
              <a:gs pos="0">
                <a:srgbClr val="339966">
                  <a:alpha val="26274"/>
                </a:srgbClr>
              </a:gs>
              <a:gs pos="100000">
                <a:srgbClr val="339966">
                  <a:alpha val="8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7040" y="2924280"/>
            <a:ext cx="2746440" cy="1847880"/>
            <a:chOff x="527040" y="2924280"/>
            <a:chExt cx="2746440" cy="1847880"/>
          </a:xfrm>
        </p:grpSpPr>
        <p:sp>
          <p:nvSpPr>
            <p:cNvPr id="86" name=""/>
            <p:cNvSpPr/>
            <p:nvPr/>
          </p:nvSpPr>
          <p:spPr>
            <a:xfrm>
              <a:off x="625680" y="2943360"/>
              <a:ext cx="2647800" cy="1828800"/>
            </a:xfrm>
            <a:prstGeom prst="rightArrowCallout">
              <a:avLst>
                <a:gd name="adj1" fmla="val 22567"/>
                <a:gd name="adj2" fmla="val 25000"/>
                <a:gd name="adj3" fmla="val 20772"/>
                <a:gd name="adj4" fmla="val 77796"/>
              </a:avLst>
            </a:prstGeom>
            <a:gradFill rotWithShape="0">
              <a:gsLst>
                <a:gs pos="0">
                  <a:srgbClr val="bbe0e3">
                    <a:alpha val="64313"/>
                  </a:srgbClr>
                </a:gs>
                <a:gs pos="100000">
                  <a:srgbClr val="56676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5680" y="2943360"/>
              <a:ext cx="2057400" cy="38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3362400"/>
              <a:ext cx="13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280" y="2924280"/>
              <a:ext cx="208908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419640" y="1268280"/>
            <a:ext cx="2232000" cy="1752480"/>
            <a:chOff x="3419640" y="1268280"/>
            <a:chExt cx="2232000" cy="1752480"/>
          </a:xfrm>
        </p:grpSpPr>
        <p:sp>
          <p:nvSpPr>
            <p:cNvPr id="91" name=""/>
            <p:cNvSpPr/>
            <p:nvPr/>
          </p:nvSpPr>
          <p:spPr>
            <a:xfrm>
              <a:off x="3419640" y="1268280"/>
              <a:ext cx="2160720" cy="1752480"/>
            </a:xfrm>
            <a:prstGeom prst="downArrowCallout">
              <a:avLst>
                <a:gd name="adj1" fmla="val 33875"/>
                <a:gd name="adj2" fmla="val 31583"/>
                <a:gd name="adj3" fmla="val 19384"/>
                <a:gd name="adj4" fmla="val 72102"/>
              </a:avLst>
            </a:prstGeom>
            <a:gradFill rotWithShape="0">
              <a:gsLst>
                <a:gs pos="0">
                  <a:srgbClr val="33cc33">
                    <a:alpha val="65098"/>
                  </a:srgbClr>
                </a:gs>
                <a:gs pos="100000">
                  <a:srgbClr val="175e17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9640" y="1282680"/>
              <a:ext cx="2160720" cy="409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45200" y="1679400"/>
              <a:ext cx="22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640" y="1268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80000" y="2924280"/>
            <a:ext cx="2881440" cy="1847880"/>
            <a:chOff x="5580000" y="2924280"/>
            <a:chExt cx="2881440" cy="1847880"/>
          </a:xfrm>
        </p:grpSpPr>
        <p:sp>
          <p:nvSpPr>
            <p:cNvPr id="96" name=""/>
            <p:cNvSpPr/>
            <p:nvPr/>
          </p:nvSpPr>
          <p:spPr>
            <a:xfrm>
              <a:off x="5580000" y="2943360"/>
              <a:ext cx="2878200" cy="1828800"/>
            </a:xfrm>
            <a:prstGeom prst="leftArrowCallout">
              <a:avLst>
                <a:gd name="adj1" fmla="val 21317"/>
                <a:gd name="adj2" fmla="val 25000"/>
                <a:gd name="adj3" fmla="val 31105"/>
                <a:gd name="adj4" fmla="val 74748"/>
              </a:avLst>
            </a:prstGeom>
            <a:gradFill rotWithShape="0">
              <a:gsLst>
                <a:gs pos="0">
                  <a:srgbClr val="3399ff">
                    <a:alpha val="68235"/>
                  </a:srgbClr>
                </a:gs>
                <a:gs pos="100000">
                  <a:srgbClr val="174675">
                    <a:alpha val="27058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0720" y="2924280"/>
              <a:ext cx="2157480" cy="42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3440" y="363564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00720" y="2924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49440" y="4829040"/>
            <a:ext cx="2230560" cy="1695600"/>
            <a:chOff x="3349440" y="4829040"/>
            <a:chExt cx="2230560" cy="1695600"/>
          </a:xfrm>
        </p:grpSpPr>
        <p:sp>
          <p:nvSpPr>
            <p:cNvPr id="101" name=""/>
            <p:cNvSpPr/>
            <p:nvPr/>
          </p:nvSpPr>
          <p:spPr>
            <a:xfrm>
              <a:off x="3432240" y="6143400"/>
              <a:ext cx="2133360" cy="38124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2240" y="4829040"/>
              <a:ext cx="2133360" cy="1295280"/>
            </a:xfrm>
            <a:prstGeom prst="upArrowCallout">
              <a:avLst>
                <a:gd name="adj1" fmla="val 51596"/>
                <a:gd name="adj2" fmla="val 41176"/>
                <a:gd name="adj3" fmla="val 13856"/>
                <a:gd name="adj4" fmla="val 46184"/>
              </a:avLst>
            </a:prstGeom>
            <a:gradFill rotWithShape="0">
              <a:gsLst>
                <a:gs pos="0">
                  <a:srgbClr val="dddddd">
                    <a:alpha val="71372"/>
                  </a:srgbClr>
                </a:gs>
                <a:gs pos="100000">
                  <a:srgbClr val="656565">
                    <a:alpha val="32156"/>
                  </a:srgbClr>
                </a:gs>
              </a:gsLst>
              <a:lin ang="54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9440" y="515448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19280" y="616572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757575">
                    <a:alpha val="3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08360" y="3068640"/>
            <a:ext cx="1655640" cy="1655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80000" y="3141720"/>
            <a:ext cx="1476360" cy="1485720"/>
            <a:chOff x="3780000" y="3141720"/>
            <a:chExt cx="1476360" cy="14857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3780000" y="3141720"/>
              <a:ext cx="14763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212720" y="3357360"/>
              <a:ext cx="6073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70600" y="1700280"/>
            <a:ext cx="2863080" cy="1434600"/>
          </a:xfrm>
          <a:prstGeom prst="rect">
            <a:avLst/>
          </a:prstGeom>
          <a:noFill/>
          <a:ln w="0">
            <a:noFill/>
          </a:ln>
          <a:effectLst>
            <a:outerShdw dist="85328" dir="3806096" blurRad="0" rotWithShape="0">
              <a:srgbClr val="0e3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dad42"/>
                </a:solidFill>
                <a:latin typeface="Arial"/>
                <a:ea typeface="华文行楷"/>
              </a:rPr>
              <a:t>工作主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5280" y="260280"/>
            <a:ext cx="1441440" cy="5689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689800"/>
              <a:gd name="textAreaBottom" fmla="*/ 5619600 h 5689800"/>
            </a:gdLst>
            <a:ahLst/>
            <a:rect l="textAreaLeft" t="textAreaTop" r="textAreaRight" b="textAreaBottom"/>
            <a:pathLst>
              <a:path w="21600" h="85246">
                <a:moveTo>
                  <a:pt x="3600" y="0"/>
                </a:moveTo>
                <a:arcTo wR="3600" hR="3600" stAng="16200000" swAng="-5400000"/>
                <a:lnTo>
                  <a:pt x="0" y="81646"/>
                </a:lnTo>
                <a:arcTo wR="3600" hR="3600" stAng="10800000" swAng="-5400000"/>
                <a:lnTo>
                  <a:pt x="18000" y="85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47e2d"/>
              </a:gs>
              <a:gs pos="50000">
                <a:srgbClr val="a5e5ab"/>
              </a:gs>
              <a:gs pos="100000">
                <a:srgbClr val="247e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260280"/>
            <a:ext cx="1584360" cy="4314960"/>
            <a:chOff x="6443640" y="260280"/>
            <a:chExt cx="1584360" cy="43149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443640" y="1628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3640" y="2997000"/>
              <a:ext cx="157788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443640" y="26028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66560" y="260280"/>
            <a:ext cx="5904000" cy="2016000"/>
            <a:chOff x="466560" y="260280"/>
            <a:chExt cx="5904000" cy="2016000"/>
          </a:xfrm>
        </p:grpSpPr>
        <p:sp>
          <p:nvSpPr>
            <p:cNvPr id="116" name=""/>
            <p:cNvSpPr/>
            <p:nvPr/>
          </p:nvSpPr>
          <p:spPr>
            <a:xfrm>
              <a:off x="498240" y="27936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cc">
                    <a:alpha val="64313"/>
                  </a:srgbClr>
                </a:gs>
                <a:gs pos="100000">
                  <a:srgbClr val="752f5e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240" y="279360"/>
              <a:ext cx="5153040" cy="38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560" y="7110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560" y="26028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8360" y="1413000"/>
            <a:ext cx="5904000" cy="2232000"/>
            <a:chOff x="468360" y="1413000"/>
            <a:chExt cx="5904000" cy="2232000"/>
          </a:xfrm>
        </p:grpSpPr>
        <p:sp>
          <p:nvSpPr>
            <p:cNvPr id="121" name=""/>
            <p:cNvSpPr/>
            <p:nvPr/>
          </p:nvSpPr>
          <p:spPr>
            <a:xfrm>
              <a:off x="500040" y="1432080"/>
              <a:ext cx="5872320" cy="2212920"/>
            </a:xfrm>
            <a:prstGeom prst="rightArrowCallout">
              <a:avLst>
                <a:gd name="adj1" fmla="val 31947"/>
                <a:gd name="adj2" fmla="val 25000"/>
                <a:gd name="adj3" fmla="val 21733"/>
                <a:gd name="adj4" fmla="val 88185"/>
              </a:avLst>
            </a:prstGeom>
            <a:gradFill rotWithShape="0">
              <a:gsLst>
                <a:gs pos="0">
                  <a:srgbClr val="70d67a">
                    <a:alpha val="64313"/>
                  </a:srgbClr>
                </a:gs>
                <a:gs pos="100000">
                  <a:srgbClr val="33623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040" y="1432080"/>
              <a:ext cx="5153040" cy="38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360" y="18637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14130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66560" y="2851200"/>
            <a:ext cx="5904000" cy="2016000"/>
            <a:chOff x="466560" y="2851200"/>
            <a:chExt cx="5904000" cy="2016000"/>
          </a:xfrm>
        </p:grpSpPr>
        <p:sp>
          <p:nvSpPr>
            <p:cNvPr id="126" name=""/>
            <p:cNvSpPr/>
            <p:nvPr/>
          </p:nvSpPr>
          <p:spPr>
            <a:xfrm>
              <a:off x="498240" y="287028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3399ff">
                    <a:alpha val="64313"/>
                  </a:srgbClr>
                </a:gs>
                <a:gs pos="100000">
                  <a:srgbClr val="174675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8240" y="2870280"/>
              <a:ext cx="5153040" cy="38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560" y="33019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560" y="28512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50804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68360" y="4076640"/>
            <a:ext cx="5904000" cy="2016000"/>
            <a:chOff x="468360" y="4076640"/>
            <a:chExt cx="5904000" cy="2016000"/>
          </a:xfrm>
        </p:grpSpPr>
        <p:sp>
          <p:nvSpPr>
            <p:cNvPr id="132" name=""/>
            <p:cNvSpPr/>
            <p:nvPr/>
          </p:nvSpPr>
          <p:spPr>
            <a:xfrm>
              <a:off x="500040" y="409572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00">
                    <a:alpha val="64313"/>
                  </a:srgbClr>
                </a:gs>
                <a:gs pos="100000">
                  <a:srgbClr val="752f00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0040" y="4095720"/>
              <a:ext cx="5153040" cy="38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452736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360" y="407664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788000" y="3141720"/>
            <a:ext cx="2157120" cy="2231640"/>
            <a:chOff x="4788000" y="3141720"/>
            <a:chExt cx="2157120" cy="2231640"/>
          </a:xfrm>
        </p:grpSpPr>
        <p:grpSp>
          <p:nvGrpSpPr>
            <p:cNvPr id="137" name=""/>
            <p:cNvGrpSpPr/>
            <p:nvPr/>
          </p:nvGrpSpPr>
          <p:grpSpPr>
            <a:xfrm>
              <a:off x="4788000" y="3141720"/>
              <a:ext cx="2157120" cy="2231640"/>
              <a:chOff x="4788000" y="3141720"/>
              <a:chExt cx="2157120" cy="2231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788000" y="3141720"/>
                <a:ext cx="2157120" cy="2231640"/>
              </a:xfrm>
              <a:prstGeom prst="ellipse">
                <a:avLst/>
              </a:prstGeom>
              <a:gradFill rotWithShape="0">
                <a:gsLst>
                  <a:gs pos="0">
                    <a:srgbClr val="d60093">
                      <a:alpha val="71372"/>
                    </a:srgbClr>
                  </a:gs>
                  <a:gs pos="50000">
                    <a:srgbClr val="ff66cc">
                      <a:alpha val="35294"/>
                    </a:srgbClr>
                  </a:gs>
                  <a:gs pos="100000">
                    <a:srgbClr val="d60093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1160" y="3398760"/>
                <a:ext cx="1770840" cy="177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"/>
            <p:cNvSpPr/>
            <p:nvPr/>
          </p:nvSpPr>
          <p:spPr>
            <a:xfrm>
              <a:off x="5184720" y="3830760"/>
              <a:ext cx="1619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92720" y="549360"/>
            <a:ext cx="1943280" cy="1873080"/>
            <a:chOff x="5292720" y="549360"/>
            <a:chExt cx="1943280" cy="1873080"/>
          </a:xfrm>
        </p:grpSpPr>
        <p:grpSp>
          <p:nvGrpSpPr>
            <p:cNvPr id="142" name=""/>
            <p:cNvGrpSpPr/>
            <p:nvPr/>
          </p:nvGrpSpPr>
          <p:grpSpPr>
            <a:xfrm>
              <a:off x="5292720" y="549360"/>
              <a:ext cx="1798560" cy="1873080"/>
              <a:chOff x="5292720" y="549360"/>
              <a:chExt cx="1798560" cy="1873080"/>
            </a:xfrm>
          </p:grpSpPr>
          <p:sp>
            <p:nvSpPr>
              <p:cNvPr id="143" name=""/>
              <p:cNvSpPr/>
              <p:nvPr/>
            </p:nvSpPr>
            <p:spPr>
              <a:xfrm>
                <a:off x="5292720" y="549360"/>
                <a:ext cx="1798560" cy="1873080"/>
              </a:xfrm>
              <a:prstGeom prst="ellipse">
                <a:avLst/>
              </a:prstGeom>
              <a:gradFill rotWithShape="0">
                <a:gsLst>
                  <a:gs pos="0">
                    <a:srgbClr val="0066ff">
                      <a:alpha val="71372"/>
                    </a:srgbClr>
                  </a:gs>
                  <a:gs pos="50000">
                    <a:srgbClr val="3399ff">
                      <a:alpha val="35294"/>
                    </a:srgbClr>
                  </a:gs>
                  <a:gs pos="100000">
                    <a:srgbClr val="0066ff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2000" y="719280"/>
                <a:ext cx="1476360" cy="14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/>
            <p:nvPr/>
          </p:nvSpPr>
          <p:spPr>
            <a:xfrm>
              <a:off x="5651640" y="908280"/>
              <a:ext cx="1584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0" y="260280"/>
            <a:ext cx="4570560" cy="2146320"/>
            <a:chOff x="0" y="260280"/>
            <a:chExt cx="4570560" cy="2146320"/>
          </a:xfrm>
        </p:grpSpPr>
        <p:grpSp>
          <p:nvGrpSpPr>
            <p:cNvPr id="147" name=""/>
            <p:cNvGrpSpPr/>
            <p:nvPr/>
          </p:nvGrpSpPr>
          <p:grpSpPr>
            <a:xfrm>
              <a:off x="0" y="691920"/>
              <a:ext cx="3732120" cy="1714680"/>
              <a:chOff x="0" y="691920"/>
              <a:chExt cx="3732120" cy="1714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16000" y="981000"/>
                <a:ext cx="33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32516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280" y="175860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9080" y="213192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52360" y="21319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080" y="132516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360360" y="96660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44360" y="175824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92000" y="96660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60360" y="214560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00800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1152360" y="2131560"/>
                <a:ext cx="50184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65564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52960" y="105228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476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640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2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40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5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28720" y="184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800360" y="1844280"/>
                <a:ext cx="573120" cy="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376360" y="981000"/>
                <a:ext cx="0" cy="86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6108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76360" y="1641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448000" y="1628280"/>
                <a:ext cx="57312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3024360" y="980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0872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5640" y="260280"/>
              <a:ext cx="3814920" cy="2017440"/>
              <a:chOff x="755640" y="260280"/>
              <a:chExt cx="3814920" cy="2017440"/>
            </a:xfrm>
          </p:grpSpPr>
          <p:sp>
            <p:nvSpPr>
              <p:cNvPr id="175" name=""/>
              <p:cNvSpPr/>
              <p:nvPr/>
            </p:nvSpPr>
            <p:spPr>
              <a:xfrm>
                <a:off x="755640" y="260280"/>
                <a:ext cx="1944360" cy="201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631520" y="348480"/>
                <a:ext cx="156132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62" y="19545"/>
                    </a:moveTo>
                    <a:arcTo wR="10800" hR="10800" stAng="7556030" swAng="5528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62" y="19545"/>
                    </a:moveTo>
                    <a:arcTo wR="10800" hR="10800" stAng="7556030" swAng="5528352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3204720" y="1125360"/>
                <a:ext cx="647640" cy="43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851280" y="1557360"/>
                <a:ext cx="71928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7240" y="119700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66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900000" y="3681000"/>
            <a:ext cx="4032000" cy="2456280"/>
            <a:chOff x="900000" y="3681000"/>
            <a:chExt cx="4032000" cy="2456280"/>
          </a:xfrm>
        </p:grpSpPr>
        <p:grpSp>
          <p:nvGrpSpPr>
            <p:cNvPr id="181" name=""/>
            <p:cNvGrpSpPr/>
            <p:nvPr/>
          </p:nvGrpSpPr>
          <p:grpSpPr>
            <a:xfrm>
              <a:off x="900000" y="4076640"/>
              <a:ext cx="2652480" cy="2060640"/>
              <a:chOff x="900000" y="4076640"/>
              <a:chExt cx="2652480" cy="2060640"/>
            </a:xfrm>
          </p:grpSpPr>
          <p:sp>
            <p:nvSpPr>
              <p:cNvPr id="182" name=""/>
              <p:cNvSpPr/>
              <p:nvPr/>
            </p:nvSpPr>
            <p:spPr>
              <a:xfrm>
                <a:off x="900000" y="4351320"/>
                <a:ext cx="252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0000" y="47098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71280" y="51433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04720" y="5502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76360" y="5862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73080" y="470988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1260360" y="435132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044360" y="514296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692000" y="435132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476360" y="550224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124000" y="435096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547640" y="5862240"/>
                <a:ext cx="93348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84360" y="435132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73320" y="442260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7236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05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837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68720" y="40766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31640" y="3681000"/>
              <a:ext cx="3600360" cy="2417400"/>
              <a:chOff x="1331640" y="3681000"/>
              <a:chExt cx="3600360" cy="2417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331640" y="4081680"/>
                <a:ext cx="1944360" cy="20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1135200">
                <a:off x="2319840" y="3885480"/>
                <a:ext cx="156240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" y="12246"/>
                    </a:moveTo>
                    <a:arcTo wR="10800" hR="10800" stAng="10338490" swAng="66263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" y="12246"/>
                    </a:moveTo>
                    <a:arcTo wR="10800" hR="10800" stAng="10338490" swAng="6626348"/>
                  </a:path>
                </a:pathLst>
              </a:custGeom>
              <a:noFill/>
              <a:ln w="9360">
                <a:solidFill>
                  <a:srgbClr val="ff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3852360" y="4945320"/>
                <a:ext cx="647640" cy="14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500360" y="4657320"/>
                <a:ext cx="431640" cy="2876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89960" y="465768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99ff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708360" y="1413000"/>
            <a:ext cx="1942920" cy="2302920"/>
            <a:chOff x="3708360" y="1413000"/>
            <a:chExt cx="1942920" cy="2302920"/>
          </a:xfrm>
        </p:grpSpPr>
        <p:grpSp>
          <p:nvGrpSpPr>
            <p:cNvPr id="207" name=""/>
            <p:cNvGrpSpPr/>
            <p:nvPr/>
          </p:nvGrpSpPr>
          <p:grpSpPr>
            <a:xfrm>
              <a:off x="3708360" y="1413000"/>
              <a:ext cx="1942920" cy="2302920"/>
              <a:chOff x="3708360" y="1413000"/>
              <a:chExt cx="1942920" cy="2302920"/>
            </a:xfrm>
          </p:grpSpPr>
          <p:sp>
            <p:nvSpPr>
              <p:cNvPr id="208" name=""/>
              <p:cNvSpPr/>
              <p:nvPr/>
            </p:nvSpPr>
            <p:spPr>
              <a:xfrm>
                <a:off x="3708360" y="1413000"/>
                <a:ext cx="1942920" cy="230292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67058"/>
                    </a:srgbClr>
                  </a:gs>
                  <a:gs pos="50000">
                    <a:srgbClr val="ffff66">
                      <a:alpha val="32156"/>
                    </a:srgbClr>
                  </a:gs>
                  <a:gs pos="100000">
                    <a:srgbClr val="ffcc00">
                      <a:alpha val="67058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28600" y="1668960"/>
                <a:ext cx="1645560" cy="17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4067280" y="202212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877080" y="0"/>
            <a:ext cx="1944720" cy="1368360"/>
            <a:chOff x="6877080" y="0"/>
            <a:chExt cx="1944720" cy="1368360"/>
          </a:xfrm>
        </p:grpSpPr>
        <p:grpSp>
          <p:nvGrpSpPr>
            <p:cNvPr id="212" name=""/>
            <p:cNvGrpSpPr/>
            <p:nvPr/>
          </p:nvGrpSpPr>
          <p:grpSpPr>
            <a:xfrm>
              <a:off x="6877080" y="0"/>
              <a:ext cx="1297080" cy="1368360"/>
              <a:chOff x="6877080" y="0"/>
              <a:chExt cx="1297080" cy="13683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77080" y="0"/>
                <a:ext cx="1297080" cy="1368360"/>
              </a:xfrm>
              <a:prstGeom prst="ellipse">
                <a:avLst/>
              </a:prstGeom>
              <a:gradFill rotWithShape="0">
                <a:gsLst>
                  <a:gs pos="0">
                    <a:srgbClr val="3dad42">
                      <a:alpha val="71372"/>
                    </a:srgbClr>
                  </a:gs>
                  <a:gs pos="50000">
                    <a:srgbClr val="66ff99">
                      <a:alpha val="35294"/>
                    </a:srgbClr>
                  </a:gs>
                  <a:gs pos="100000">
                    <a:srgbClr val="3dad42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0040" y="158760"/>
                <a:ext cx="10645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7093080" y="333360"/>
              <a:ext cx="172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84440" y="2349360"/>
            <a:ext cx="2982960" cy="4543560"/>
            <a:chOff x="6184440" y="2349360"/>
            <a:chExt cx="2982960" cy="4543560"/>
          </a:xfrm>
        </p:grpSpPr>
        <p:sp>
          <p:nvSpPr>
            <p:cNvPr id="217" name=""/>
            <p:cNvSpPr/>
            <p:nvPr/>
          </p:nvSpPr>
          <p:spPr>
            <a:xfrm>
              <a:off x="7308720" y="4006800"/>
              <a:ext cx="214560" cy="8618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13875600">
              <a:off x="7084800" y="4782240"/>
              <a:ext cx="154620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87" y="4521"/>
                  </a:moveTo>
                  <a:arcTo wR="10800" hR="10800" stAng="-2133076" swAng="4326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87" y="4521"/>
                  </a:moveTo>
                  <a:arcTo wR="10800" hR="10800" stAng="-2133076" swAng="4326405"/>
                </a:path>
              </a:pathLst>
            </a:custGeom>
            <a:noFill/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6300720" y="2349360"/>
              <a:ext cx="2866680" cy="4543560"/>
              <a:chOff x="6300720" y="2349360"/>
              <a:chExt cx="2866680" cy="4543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6300720" y="5013360"/>
                <a:ext cx="2866680" cy="1879560"/>
                <a:chOff x="6300720" y="5013360"/>
                <a:chExt cx="2866680" cy="187956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443640" y="5300280"/>
                  <a:ext cx="252108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16720" y="5660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7235640" y="5301720"/>
                  <a:ext cx="0" cy="358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00720" y="5601960"/>
                  <a:ext cx="1843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21080" y="50133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688240" y="5385960"/>
                  <a:ext cx="47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月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5660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877080" y="5876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7596000" y="5300280"/>
                  <a:ext cx="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16720" y="58766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74108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37440" y="616536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956360" y="5300280"/>
                  <a:ext cx="0" cy="86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59640" y="6092640"/>
                  <a:ext cx="18396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10144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8316720" y="5300280"/>
                  <a:ext cx="0" cy="1080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7440" y="638136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53080" y="6381360"/>
                  <a:ext cx="8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46000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5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44000" y="659736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8675640" y="5299920"/>
                  <a:ext cx="0" cy="130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60920" y="6616440"/>
                  <a:ext cx="42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6300720" y="2349360"/>
                <a:ext cx="1008000" cy="1655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84440" y="24206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6ff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09400" y="633240"/>
            <a:ext cx="2262240" cy="3270960"/>
            <a:chOff x="6809400" y="633240"/>
            <a:chExt cx="2262240" cy="3270960"/>
          </a:xfrm>
        </p:grpSpPr>
        <p:grpSp>
          <p:nvGrpSpPr>
            <p:cNvPr id="246" name=""/>
            <p:cNvGrpSpPr/>
            <p:nvPr/>
          </p:nvGrpSpPr>
          <p:grpSpPr>
            <a:xfrm>
              <a:off x="6865920" y="1915920"/>
              <a:ext cx="2154960" cy="1643040"/>
              <a:chOff x="6865920" y="1915920"/>
              <a:chExt cx="2154960" cy="1643040"/>
            </a:xfrm>
          </p:grpSpPr>
          <p:sp>
            <p:nvSpPr>
              <p:cNvPr id="247" name=""/>
              <p:cNvSpPr/>
              <p:nvPr/>
            </p:nvSpPr>
            <p:spPr>
              <a:xfrm>
                <a:off x="7029360" y="22050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02440" y="2563560"/>
                <a:ext cx="71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821720" y="2205000"/>
                <a:ext cx="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5920" y="2577960"/>
                <a:ext cx="1162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0608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627040" y="2205000"/>
                <a:ext cx="39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037360" y="2204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389360" y="28526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20000" y="285264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5844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3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5372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8459640" y="2205000"/>
                <a:ext cx="972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956360" y="321300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93000" y="328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 rot="17629800">
              <a:off x="6959160" y="1878480"/>
              <a:ext cx="19623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56" y="3084"/>
                  </a:moveTo>
                  <a:arcTo wR="10800" hR="10800" stAng="-2736049" swAng="49293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56" y="3084"/>
                  </a:moveTo>
                  <a:arcTo wR="10800" hR="10800" stAng="-2736049" swAng="4929378"/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8000" y="981000"/>
              <a:ext cx="64764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388360" y="981000"/>
              <a:ext cx="287280" cy="792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65600" y="633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9900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10:02Z</dcterms:created>
  <dc:creator>pc</dc:creator>
  <dc:description/>
  <dc:language>en-US</dc:language>
  <cp:lastModifiedBy>微软用户</cp:lastModifiedBy>
  <dcterms:modified xsi:type="dcterms:W3CDTF">2015-07-04T06:27:3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