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D55-0249-4138-8382-87520032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168-D87F-4CFB-9AC8-807B6C0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B7D-DA18-4E9B-B3CA-555A2BBC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C9B-DBAC-4FC5-8E5D-03575C11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C33-8BD8-42C7-A902-2A7B6187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0E29-345D-44EB-8BB4-86C2401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FFCC-27F4-4792-B9C7-59EFCB1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B6EE-5D47-4EF0-838B-BEF9C53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284-61CC-4E08-8C54-63DA132F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8633-4415-456C-AFF4-0C402E5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7A87-3E2A-49B5-99AE-FB287A5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433-9EC0-41EE-9380-2655291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B7E-54FE-49BA-A221-5EB2D9B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9AA1-DF3E-4B48-A59A-94390E9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E41B-289E-497A-A85C-B38A2FA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5863-D1FB-49D5-954E-3E84A36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ABF-5247-4AEC-9DD1-7FFBEFFB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B5F-D6C7-412E-AFE9-416022B0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B3B-2590-4CDA-B488-FEC5050A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BB4-1589-4DF2-8351-ECDB8877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424-CAEF-4623-AA49-AA466819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B4E-9363-4C81-AE15-D209CCF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EBA-23BF-45B7-B3CC-75694580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252-82CD-449C-98C0-B4849B6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DEAF-8A9E-443F-804D-4107C2415BF1}" type="slidenum">
              <a:rPr b="0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D175-2388-496C-892D-C32CEB90788B}" type="slidenum"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xmu.net.cn/gxmufy1/ks/my%20webs/tangyaojianfufa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sj.wuxi.gov.cn/_BORDERS/pop.jpg&amp;imgrefurl=http://wsj.wuxi.gov.cn/xywenyao/jkhuli/new_page_1.htm&amp;h=100&amp;w=68&amp;sz=9&amp;tbnid=uUsyXLy7VZMJ:&amp;tbnh=76&amp;tbnw=52&amp;start=42&amp;prev=/images%3Fq%3D%25E7%2596%25BE%25E7%2597%2585%25E6%258A%25A4%25E7%2590%2586%26start%3D40%26hl%3Dzh-CN%26lr%3D%26ie%3DUTF-8%26inlang%3Dzh-CN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yiliao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zbzk.com/yemian/02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vod.ttyy.org/Flowers/0002/s/289.jpg&amp;f=http://vod.ttyy.org/Flowers/0002/index20.htm&amp;c=baid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352680" y="510552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华文新魏"/>
                <a:ea typeface="华文新魏"/>
              </a:rPr>
              <a:t>祝您健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219320" y="17524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办公室工作人员如何预防颈椎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Picture 11" descr="tangyao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819680"/>
            <a:ext cx="1371600" cy="129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7840" y="27813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3880" y="2095560"/>
            <a:ext cx="701064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华文新魏"/>
                <a:ea typeface="华文新魏"/>
              </a:rPr>
              <a:t>6.  </a:t>
            </a:r>
            <a:r>
              <a:rPr b="0" lang="zh-CN" sz="26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防寒防湿</a:t>
            </a:r>
            <a:r>
              <a:rPr b="0" lang="zh-CN" sz="2600" spc="-1" strike="noStrike">
                <a:solidFill>
                  <a:srgbClr val="e9133c"/>
                </a:solidFill>
                <a:latin typeface="华文新魏"/>
                <a:ea typeface="华文新魏"/>
              </a:rPr>
              <a:t>：防风寒、潮湿，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避免午夜、凌晨洗澡时受风寒侵袭。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颈椎病患者常与风寒、潮湿等季节气候变化有密切关系。风寒使局部血管收缩，血流速度降低，有碍组织的代谢和血液循环。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冬季外出应戴围巾或穿高领毛衫等，防止颈部受风、受寒。</a:t>
            </a:r>
            <a:r>
              <a:rPr b="0" lang="en-US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华文新魏"/>
                <a:ea typeface="华文新魏"/>
              </a:rPr>
              <a:t>7.  </a:t>
            </a:r>
            <a:r>
              <a:rPr b="0" lang="zh-CN" sz="26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预防感染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：积极治疗颈部感染和其他颈部疾病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6" descr="p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6960" y="5410080"/>
            <a:ext cx="112212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7"/>
          <p:cNvSpPr/>
          <p:nvPr/>
        </p:nvSpPr>
        <p:spPr>
          <a:xfrm>
            <a:off x="1447920" y="838080"/>
            <a:ext cx="708660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676520" y="106668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Picture 10" descr="NA00864_"/>
          <p:cNvPicPr/>
          <p:nvPr/>
        </p:nvPicPr>
        <p:blipFill>
          <a:blip r:embed="rId3"/>
          <a:stretch/>
        </p:blipFill>
        <p:spPr>
          <a:xfrm>
            <a:off x="457200" y="115884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171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00160" y="2114640"/>
            <a:ext cx="5143680" cy="2560680"/>
            <a:chOff x="2000160" y="2114640"/>
            <a:chExt cx="5143680" cy="2560680"/>
          </a:xfrm>
        </p:grpSpPr>
        <p:sp>
          <p:nvSpPr>
            <p:cNvPr id="156" name="Rectangle 5"/>
            <p:cNvSpPr/>
            <p:nvPr/>
          </p:nvSpPr>
          <p:spPr>
            <a:xfrm>
              <a:off x="2000160" y="211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2000160" y="2114640"/>
              <a:ext cx="514368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8" name="Picture 7" descr="F2004040909485300000"/>
          <p:cNvPicPr/>
          <p:nvPr/>
        </p:nvPicPr>
        <p:blipFill>
          <a:blip r:embed="rId1"/>
          <a:stretch/>
        </p:blipFill>
        <p:spPr>
          <a:xfrm>
            <a:off x="3505320" y="2836800"/>
            <a:ext cx="2819160" cy="2116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15228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5157720"/>
            <a:ext cx="6552720" cy="1252080"/>
            <a:chOff x="1676520" y="5157720"/>
            <a:chExt cx="6552720" cy="1252080"/>
          </a:xfrm>
        </p:grpSpPr>
        <p:sp>
          <p:nvSpPr>
            <p:cNvPr id="161" name="Rectangle 10"/>
            <p:cNvSpPr/>
            <p:nvPr/>
          </p:nvSpPr>
          <p:spPr>
            <a:xfrm>
              <a:off x="1980720" y="5600520"/>
              <a:ext cx="360" cy="36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676520" y="5157720"/>
              <a:ext cx="6552720" cy="125208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1809720"/>
                  <a:tab algn="l" pos="1905120"/>
                  <a:tab algn="l" pos="2000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1.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按摩百会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 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：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1809720"/>
                  <a:tab algn="l" pos="1905120"/>
                  <a:tab algn="l" pos="2000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用中指或食指按于头顶最高处正中的百会穴，用力由轻到重按揉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次。功效：健脑宁神，益气固脱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1980720"/>
            <a:ext cx="7010280" cy="1434600"/>
            <a:chOff x="1371600" y="1980720"/>
            <a:chExt cx="7010280" cy="1434600"/>
          </a:xfrm>
        </p:grpSpPr>
        <p:sp>
          <p:nvSpPr>
            <p:cNvPr id="165" name="Rectangle 14"/>
            <p:cNvSpPr/>
            <p:nvPr/>
          </p:nvSpPr>
          <p:spPr>
            <a:xfrm>
              <a:off x="1371600" y="2163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1371600" y="1980720"/>
              <a:ext cx="7010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66ff"/>
                  </a:solidFill>
                  <a:latin typeface="Times New Roman"/>
                </a:rPr>
                <a:t>要减少颈椎病的发生，不但应注意纠正不良的工作和生活习惯，还应在紧张的工作之余常做自我保健按摩，可缓解颈部疲劳，预防颈椎病的发生。</a:t>
              </a:r>
              <a:br>
                <a:rPr sz="2200"/>
              </a:br>
              <a:br>
                <a:rPr sz="2200"/>
              </a:b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00160" y="2178000"/>
            <a:ext cx="5143680" cy="2438280"/>
            <a:chOff x="2000160" y="2178000"/>
            <a:chExt cx="5143680" cy="2438280"/>
          </a:xfrm>
        </p:grpSpPr>
        <p:sp>
          <p:nvSpPr>
            <p:cNvPr id="172" name="Rectangle 5"/>
            <p:cNvSpPr/>
            <p:nvPr/>
          </p:nvSpPr>
          <p:spPr>
            <a:xfrm>
              <a:off x="2000160" y="2178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2000160" y="2178000"/>
              <a:ext cx="51436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54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74" name="Picture 7" descr="F2004040909503900000"/>
          <p:cNvPicPr/>
          <p:nvPr/>
        </p:nvPicPr>
        <p:blipFill>
          <a:blip r:embed="rId1"/>
          <a:stretch/>
        </p:blipFill>
        <p:spPr>
          <a:xfrm>
            <a:off x="3276720" y="2060640"/>
            <a:ext cx="3435120" cy="2577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5058000"/>
            <a:ext cx="7086600" cy="1252080"/>
            <a:chOff x="1371600" y="5058000"/>
            <a:chExt cx="7086600" cy="1252080"/>
          </a:xfrm>
        </p:grpSpPr>
        <p:sp>
          <p:nvSpPr>
            <p:cNvPr id="177" name="Rectangle 10"/>
            <p:cNvSpPr/>
            <p:nvPr/>
          </p:nvSpPr>
          <p:spPr>
            <a:xfrm>
              <a:off x="2590560" y="5500440"/>
              <a:ext cx="360" cy="36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1371600" y="5058000"/>
              <a:ext cx="7086600" cy="125208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2.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对按头部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: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双手拇指分别放在额部两侧的太阳穴处，其余四指分开，放在两侧头部，双手同时用力做对按揉动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次。功效：清脑明目，振奋精神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183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5" name="Picture 7" descr="F2004040909510200000"/>
          <p:cNvPicPr/>
          <p:nvPr/>
        </p:nvPicPr>
        <p:blipFill>
          <a:blip r:embed="rId1"/>
          <a:stretch/>
        </p:blipFill>
        <p:spPr>
          <a:xfrm>
            <a:off x="3276720" y="2057400"/>
            <a:ext cx="3429000" cy="2519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4572000"/>
            <a:ext cx="685800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揉风池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两手拇指分别按在同侧风池穴（颈后两侧凹陷处），其余手指附在头的两侧，由轻到重地按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疏风散寒，开窍镇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4495320"/>
            <a:ext cx="7086600" cy="2057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拿捏颈肌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左（右）手上举置于颈后，拇指放置于同侧颈外侧，其余四指放在颈肌对侧，双手用力对合，将颈肌向上提起后放松，沿风池穴向下拿捏至大椎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解痉止痛，调和气血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192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94" name="Picture 7" descr="F2004040909511500000"/>
          <p:cNvPicPr/>
          <p:nvPr/>
        </p:nvPicPr>
        <p:blipFill>
          <a:blip r:embed="rId1"/>
          <a:stretch/>
        </p:blipFill>
        <p:spPr>
          <a:xfrm>
            <a:off x="3276720" y="1917720"/>
            <a:ext cx="342900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4495320"/>
            <a:ext cx="7010640" cy="2057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压肩井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左（右）手中指指腹按于对侧肩井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大椎与肩峰连线中点，肩部筋肉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由轻到重按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两侧交替进行。功效：通经活络，散寒定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200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02" name="Picture 7" descr="F2004040909514500000"/>
          <p:cNvPicPr/>
          <p:nvPr/>
        </p:nvPicPr>
        <p:blipFill>
          <a:blip r:embed="rId1"/>
          <a:stretch/>
        </p:blipFill>
        <p:spPr>
          <a:xfrm>
            <a:off x="3203640" y="1773360"/>
            <a:ext cx="3581280" cy="259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20880" y="4152960"/>
            <a:ext cx="6964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医疗ppt模板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ttp://www.eeppt.com/moban/yiliao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4419720"/>
            <a:ext cx="7010280" cy="213336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摩大椎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左（右）手四指并拢放于上背部，用力反复按摩大椎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于后颈部颈椎中最大椎体下方的空隙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至局部发热为佳，两侧交替进行。功效：疏风散寒，活血通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209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11" name="Picture 7" descr="F2004040909520200000"/>
          <p:cNvPicPr/>
          <p:nvPr/>
        </p:nvPicPr>
        <p:blipFill>
          <a:blip r:embed="rId1"/>
          <a:stretch/>
        </p:blipFill>
        <p:spPr>
          <a:xfrm>
            <a:off x="3276720" y="1773360"/>
            <a:ext cx="35049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7315200" cy="198144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   </a:t>
            </a:r>
            <a:r>
              <a:rPr b="1" lang="en-US" sz="2400" spc="-1" strike="noStrike">
                <a:solidFill>
                  <a:srgbClr val="e9133c"/>
                </a:solidFill>
                <a:latin typeface="华文新魏"/>
                <a:ea typeface="华文新魏"/>
              </a:rPr>
              <a:t>7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对按内、外关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左（右）手拇指尖放在右（左）手内关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横纹以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寸，两肌腱之间），中指放在对侧的外关穴（内关穴对面），同时对合用力按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，双手交替进行。功效：宁心通络，宽胸行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81080" y="1523880"/>
            <a:ext cx="5143680" cy="3444840"/>
            <a:chOff x="1981080" y="1523880"/>
            <a:chExt cx="5143680" cy="3444840"/>
          </a:xfrm>
        </p:grpSpPr>
        <p:sp>
          <p:nvSpPr>
            <p:cNvPr id="217" name="Rectangle 5"/>
            <p:cNvSpPr/>
            <p:nvPr/>
          </p:nvSpPr>
          <p:spPr>
            <a:xfrm>
              <a:off x="1981080" y="1523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981080" y="1523880"/>
              <a:ext cx="514368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220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19" name="Picture 7" descr="F2004040909522800000"/>
          <p:cNvPicPr/>
          <p:nvPr/>
        </p:nvPicPr>
        <p:blipFill>
          <a:blip r:embed="rId1"/>
          <a:stretch/>
        </p:blipFill>
        <p:spPr>
          <a:xfrm>
            <a:off x="3809880" y="1752480"/>
            <a:ext cx="2222640" cy="2735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3880" y="5669640"/>
            <a:ext cx="6934320" cy="459720"/>
            <a:chOff x="1523880" y="5669640"/>
            <a:chExt cx="6934320" cy="459720"/>
          </a:xfrm>
        </p:grpSpPr>
        <p:sp>
          <p:nvSpPr>
            <p:cNvPr id="222" name="Rectangle 10"/>
            <p:cNvSpPr/>
            <p:nvPr/>
          </p:nvSpPr>
          <p:spPr>
            <a:xfrm>
              <a:off x="3056400" y="5716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1523880" y="566964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80880"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171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4648320"/>
            <a:ext cx="701028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掐揉合谷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左（右）手拇指指尖放在另一手的合谷穴（即虎口处），拇指用力掐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双手交替进行。功效：疏风解表，开窍醒神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000160" y="2149560"/>
            <a:ext cx="5143680" cy="2500200"/>
            <a:chOff x="2000160" y="2149560"/>
            <a:chExt cx="5143680" cy="2500200"/>
          </a:xfrm>
        </p:grpSpPr>
        <p:sp>
          <p:nvSpPr>
            <p:cNvPr id="229" name="Rectangle 5"/>
            <p:cNvSpPr/>
            <p:nvPr/>
          </p:nvSpPr>
          <p:spPr>
            <a:xfrm>
              <a:off x="2000160" y="2149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2000160" y="2149560"/>
              <a:ext cx="51436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5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31" name="Picture 7" descr="F2004040909524300000"/>
          <p:cNvPicPr/>
          <p:nvPr/>
        </p:nvPicPr>
        <p:blipFill>
          <a:blip r:embed="rId1"/>
          <a:stretch/>
        </p:blipFill>
        <p:spPr>
          <a:xfrm>
            <a:off x="3276720" y="1989000"/>
            <a:ext cx="350496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4648320"/>
            <a:ext cx="693396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梳摩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头顶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手五指微曲分别放在头顶两侧，稍加压力从前发际沿头顶至脑后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梳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状动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提神醒目，清脑镇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00160" y="2286000"/>
            <a:ext cx="5143680" cy="2241720"/>
            <a:chOff x="2000160" y="2286000"/>
            <a:chExt cx="5143680" cy="2241720"/>
          </a:xfrm>
        </p:grpSpPr>
        <p:sp>
          <p:nvSpPr>
            <p:cNvPr id="237" name="Rectangle 5"/>
            <p:cNvSpPr/>
            <p:nvPr/>
          </p:nvSpPr>
          <p:spPr>
            <a:xfrm>
              <a:off x="2000160" y="2286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000160" y="2286000"/>
              <a:ext cx="514368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41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39" name="Picture 7" descr="F2004040909525700000"/>
          <p:cNvPicPr/>
          <p:nvPr/>
        </p:nvPicPr>
        <p:blipFill>
          <a:blip r:embed="rId1"/>
          <a:stretch/>
        </p:blipFill>
        <p:spPr>
          <a:xfrm>
            <a:off x="3203640" y="1917720"/>
            <a:ext cx="358128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颈椎病又称</a:t>
            </a:r>
            <a:r>
              <a:rPr b="0" lang="zh-CN" sz="2800" spc="-1" strike="noStrike">
                <a:solidFill>
                  <a:srgbClr val="f2287a"/>
                </a:solidFill>
                <a:latin typeface="华文新魏"/>
                <a:ea typeface="华文新魏"/>
              </a:rPr>
              <a:t>颈椎综合症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可发生于中老年人，也可发生于</a:t>
            </a:r>
            <a:r>
              <a:rPr b="1" lang="zh-CN" sz="2800" spc="-1" strike="noStrike" u="sng">
                <a:solidFill>
                  <a:srgbClr val="f2287a"/>
                </a:solidFill>
                <a:uFillTx/>
                <a:latin typeface="华文新魏"/>
                <a:ea typeface="华文新魏"/>
              </a:rPr>
              <a:t>青年人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是由于人体颈椎间盘逐渐地发生退行性变、颈椎骨质增生或颈椎正常生理曲线改变后刺激或</a:t>
            </a:r>
            <a:r>
              <a:rPr b="1" lang="zh-CN" sz="2800" spc="-1" strike="noStrike">
                <a:solidFill>
                  <a:srgbClr val="8d19bb"/>
                </a:solidFill>
                <a:latin typeface="华文新魏"/>
                <a:ea typeface="华文新魏"/>
              </a:rPr>
              <a:t>压迫</a:t>
            </a:r>
            <a:r>
              <a:rPr b="0" lang="zh-CN" sz="2800" spc="-1" strike="noStrike">
                <a:solidFill>
                  <a:srgbClr val="f2287a"/>
                </a:solidFill>
                <a:latin typeface="华文新魏"/>
                <a:ea typeface="华文新魏"/>
              </a:rPr>
              <a:t>颈神经根、颈部脊髓、椎动脉、颈部交感神经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而引起的一组综合症状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DownRibbonSharp"/>
          <p:cNvSpPr/>
          <p:nvPr/>
        </p:nvSpPr>
        <p:spPr>
          <a:xfrm>
            <a:off x="1143000" y="1066680"/>
            <a:ext cx="7467480" cy="838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990000"/>
                </a:solidFill>
                <a:latin typeface="华文行楷"/>
                <a:ea typeface="华文行楷"/>
              </a:rPr>
              <a:t>什么是颈椎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1522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46" descr="jizhu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619520"/>
            <a:ext cx="2765520" cy="193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9" descr="颈椎图"/>
          <p:cNvPicPr/>
          <p:nvPr/>
        </p:nvPicPr>
        <p:blipFill>
          <a:blip r:embed="rId3"/>
          <a:stretch/>
        </p:blipFill>
        <p:spPr>
          <a:xfrm>
            <a:off x="2362320" y="4343400"/>
            <a:ext cx="20811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康复操可改善患者颈部的血液循环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松解粘连和痉挛的软组织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无颈椎病者可起到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预防作用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姿势：两脚分开与肩同宽，两臂自然下垂，全身放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松</a:t>
            </a:r>
            <a:r>
              <a:rPr b="0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两眼平视，均匀呼吸，站坐均可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1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左顾右盼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先向左后向右转动，幅度宜大，以自觉酸胀为好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前后点头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先前再后，前俯时颈项尽量前伸拉长，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2362320" y="99072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颈椎病预防保健操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4" name="Picture 5" descr="NA00864_"/>
          <p:cNvPicPr/>
          <p:nvPr/>
        </p:nvPicPr>
        <p:blipFill>
          <a:blip r:embed="rId1"/>
          <a:stretch/>
        </p:blipFill>
        <p:spPr>
          <a:xfrm>
            <a:off x="838080" y="990720"/>
            <a:ext cx="914400" cy="688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7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3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旋肩舒颈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置两侧肩部，掌心向下，两臂先由后向前旋转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2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—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，再由前向后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2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—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4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摇头晃脑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向左一前一右一后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，再反方向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头手相抗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交叉紧贴后颈部，用力顶头颈，头颈则向后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力，互相抵抗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6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双手托天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上举过头，掌心向上，仰视手背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秒钟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WordArt 5"/>
          <p:cNvSpPr txBox="1"/>
          <p:nvPr/>
        </p:nvSpPr>
        <p:spPr>
          <a:xfrm>
            <a:off x="2590920" y="9144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颈椎病预防保健操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9" name="Picture 6" descr="NA00864_"/>
          <p:cNvPicPr/>
          <p:nvPr/>
        </p:nvPicPr>
        <p:blipFill>
          <a:blip r:embed="rId1"/>
          <a:stretch/>
        </p:blipFill>
        <p:spPr>
          <a:xfrm>
            <a:off x="914400" y="91440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1026"/>
          <p:cNvSpPr/>
          <p:nvPr/>
        </p:nvSpPr>
        <p:spPr>
          <a:xfrm>
            <a:off x="2651040" y="3330720"/>
            <a:ext cx="56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1027"/>
          <p:cNvSpPr/>
          <p:nvPr/>
        </p:nvSpPr>
        <p:spPr>
          <a:xfrm>
            <a:off x="2270160" y="279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WordArt 1028"/>
          <p:cNvSpPr txBox="1"/>
          <p:nvPr/>
        </p:nvSpPr>
        <p:spPr>
          <a:xfrm>
            <a:off x="1836720" y="2781360"/>
            <a:ext cx="6143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祝您健康！</a:t>
            </a:r>
            <a:endParaRPr b="1" i="1" lang="en-US" sz="24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556-4FF1-47A1-AEC3-DB463D018224}" type="slidenum">
              <a:t>23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22860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颈型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主诉</a:t>
            </a:r>
            <a:r>
              <a:rPr b="0" lang="zh-CN" sz="27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头、颈、肩疼痛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等异常感觉，并伴有相应的</a:t>
            </a:r>
            <a:r>
              <a:rPr b="0" lang="zh-CN" sz="2700" spc="-1" strike="noStrike">
                <a:solidFill>
                  <a:srgbClr val="5b5249"/>
                </a:solidFill>
                <a:latin typeface="华文新魏"/>
                <a:ea typeface="华文新魏"/>
              </a:rPr>
              <a:t>压痛点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特征是颈部僵硬、不舒服、疼痛，以及活动不灵活，这也是最常见的一种类型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神经根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病人的手掌或手臂</a:t>
            </a:r>
            <a:r>
              <a:rPr b="0" lang="zh-CN" sz="2700" spc="-1" strike="noStrike">
                <a:solidFill>
                  <a:srgbClr val="ff3300"/>
                </a:solidFill>
                <a:latin typeface="华文新魏"/>
                <a:ea typeface="华文新魏"/>
              </a:rPr>
              <a:t>麻木、疼痛、握力减弱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有时连拿杯都觉得没有力，病情严重时，整夜疼痛难于入睡。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83320" y="1229760"/>
            <a:ext cx="5743080" cy="42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颈椎病的症状有哪些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4" descr="2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791320"/>
            <a:ext cx="11649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椎动脉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病人的征状是偏头痛、头晕，或者胸闷、 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胸痛。每次眩晕发作都和</a:t>
            </a:r>
            <a:r>
              <a:rPr b="0" lang="zh-CN" sz="2700" spc="-1" strike="noStrike">
                <a:solidFill>
                  <a:srgbClr val="5b5249"/>
                </a:solidFill>
                <a:latin typeface="华文新魏"/>
                <a:ea typeface="华文新魏"/>
              </a:rPr>
              <a:t>颈项转动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有关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交感神经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临床表现为头晕、眼花、耳鸣、手麻、心动过速、心前区疼痛等一系列交感神经症状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7499520" y="5486400"/>
            <a:ext cx="1035000" cy="1295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083320" y="1229760"/>
            <a:ext cx="5743080" cy="42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颈椎病的症状有哪些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01028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期从事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财会、写作、打字、办公室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职业的工作人员，由于长期低头伏案工作，使颈椎长时间处于屈曲位或某些特定体位，不仅使颈椎间盘内的压力增高，而且也使颈部肌肉长期处于非协调受力状态，颈后部</a:t>
            </a:r>
            <a:r>
              <a:rPr b="0" lang="zh-CN" sz="2600" spc="-1" strike="noStrike">
                <a:solidFill>
                  <a:srgbClr val="5a2bef"/>
                </a:solidFill>
                <a:latin typeface="华文新魏"/>
                <a:ea typeface="华文新魏"/>
              </a:rPr>
              <a:t>肌肉和韧带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受牵拉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劳损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椎体前缘相互磨损、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增生</a:t>
            </a:r>
            <a:r>
              <a:rPr b="0" lang="en-US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加上扭转、侧屈过度，更进一步导致损伤，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易于发生颈椎病。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7" descr="j0292020"/>
          <p:cNvPicPr/>
          <p:nvPr/>
        </p:nvPicPr>
        <p:blipFill>
          <a:blip r:embed="rId1"/>
          <a:stretch/>
        </p:blipFill>
        <p:spPr>
          <a:xfrm>
            <a:off x="7010280" y="5302080"/>
            <a:ext cx="1640160" cy="1555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1447920" y="838080"/>
            <a:ext cx="708660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20800" y="106668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Picture 10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90720" cy="74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419112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室工作人员首先在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坐姿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应保持自然的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端坐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臀部和背部要充分接触椅面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双肩后展，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肩连线与桌缘平行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脊柱正直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两足着地。将桌椅高度调到与自己身高比例合适的最佳状态，使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目光平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脑屏幕，双肩放松。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避免头颈部过度前屈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或过度后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减轻长时间端坐引起的颈部疲劳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190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838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4479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3716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7" descr="sitting040401"/>
          <p:cNvPicPr/>
          <p:nvPr/>
        </p:nvPicPr>
        <p:blipFill>
          <a:blip r:embed="rId1"/>
          <a:stretch/>
        </p:blipFill>
        <p:spPr>
          <a:xfrm>
            <a:off x="5715000" y="2057400"/>
            <a:ext cx="2801880" cy="4038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1371600" y="838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447920" y="1035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a0a8c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10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90720" cy="74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7086600" cy="4343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1. </a:t>
            </a:r>
            <a:r>
              <a:rPr b="0" lang="zh-CN" sz="25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坐姿正确 </a:t>
            </a:r>
            <a:r>
              <a:rPr b="1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:</a:t>
            </a: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  </a:t>
            </a:r>
            <a:r>
              <a:rPr b="0" lang="en-US" sz="25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zh-CN" sz="25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要预防颈椎病的发生，最重要的是坐姿要正确，使颈肩部放松，保持最舒适自然的姿势</a:t>
            </a:r>
            <a:r>
              <a:rPr b="0" lang="zh-CN" sz="25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</a:t>
            </a:r>
            <a:r>
              <a:rPr b="0" lang="zh-CN" sz="2500" spc="-1" strike="noStrike">
                <a:solidFill>
                  <a:srgbClr val="5b5249"/>
                </a:solidFill>
                <a:latin typeface="华文新魏"/>
                <a:ea typeface="华文新魏"/>
              </a:rPr>
              <a:t>办公室工作者，还应不时站起来走动，活动一下颈肩部，使颈肩部的肌肉得到松弛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762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2.  </a:t>
            </a:r>
            <a:r>
              <a:rPr b="0" lang="zh-CN" sz="25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活动颈部</a:t>
            </a:r>
            <a:r>
              <a:rPr b="0" lang="zh-CN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en-US" sz="25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在工作</a:t>
            </a:r>
            <a:r>
              <a:rPr b="1" lang="en-US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1" lang="zh-CN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～</a:t>
            </a:r>
            <a:r>
              <a:rPr b="1" lang="en-US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小时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右，有目的地让头颈部向前后左右转动数次，转动时应轻柔、缓慢，以达到各个方向的最大运动范围为准。使得颈椎关节疲劳得到缓解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90840" y="980640"/>
            <a:ext cx="695340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657440" y="108576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12" descr="NA00864_"/>
          <p:cNvPicPr/>
          <p:nvPr/>
        </p:nvPicPr>
        <p:blipFill>
          <a:blip r:embed="rId1"/>
          <a:stretch/>
        </p:blipFill>
        <p:spPr>
          <a:xfrm>
            <a:off x="457200" y="106668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3520" y="2057400"/>
            <a:ext cx="708660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3.  </a:t>
            </a:r>
            <a:r>
              <a:rPr b="0" lang="zh-CN" sz="28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抬头望远</a:t>
            </a:r>
            <a:r>
              <a:rPr b="0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：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长时间近距离看物，尤其是处于低头状态者，既影响颈椎，又易引起视力疲劳，甚至诱发屈光不正。因此，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每当伏案过久后，应抬头向远方眺望半分钟左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这样既可消除疲劳感，又有利于颈椎的保健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90480" y="980640"/>
            <a:ext cx="687744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64c52"/>
                </a:solidFill>
                <a:latin typeface="_x000b__x000c_"/>
                <a:ea typeface="华文隶书"/>
              </a:rPr>
              <a:t>                                                                      </a:t>
            </a:r>
            <a:br>
              <a:rPr sz="3600"/>
            </a:br>
            <a:br>
              <a:rPr sz="2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657440" y="110484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10" descr="NA00864_"/>
          <p:cNvPicPr/>
          <p:nvPr/>
        </p:nvPicPr>
        <p:blipFill>
          <a:blip r:embed="rId1"/>
          <a:stretch/>
        </p:blipFill>
        <p:spPr>
          <a:xfrm>
            <a:off x="457200" y="11430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BD06790_"/>
          <p:cNvPicPr/>
          <p:nvPr/>
        </p:nvPicPr>
        <p:blipFill>
          <a:blip r:embed="rId2"/>
          <a:stretch/>
        </p:blipFill>
        <p:spPr>
          <a:xfrm>
            <a:off x="6172200" y="5207040"/>
            <a:ext cx="1676520" cy="127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3880" y="2114640"/>
            <a:ext cx="6934320" cy="3930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4.  </a:t>
            </a:r>
            <a:r>
              <a:rPr b="0" lang="zh-CN" sz="26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睡眠方式</a:t>
            </a:r>
            <a:r>
              <a:rPr b="1" lang="zh-CN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睡觉时不可俯着睡，枕头不可以过高、过硬或过低。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枕头：中央应 </a:t>
            </a:r>
            <a:r>
              <a:rPr b="0" lang="zh-CN" sz="2600" spc="-1" strike="noStrike">
                <a:solidFill>
                  <a:srgbClr val="f65b24"/>
                </a:solidFill>
                <a:latin typeface="华文新魏"/>
                <a:ea typeface="华文新魏"/>
              </a:rPr>
              <a:t>略凹进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颈部应充分接触枕头并保持略后仰，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要悬空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习惯侧卧位者，应使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枕头与肩同高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</a:t>
            </a:r>
            <a:r>
              <a:rPr b="0" lang="zh-CN" sz="2500" spc="-1" strike="noStrike">
                <a:solidFill>
                  <a:srgbClr val="333333"/>
                </a:solidFill>
                <a:latin typeface="华文新魏"/>
                <a:ea typeface="华文新魏"/>
              </a:rPr>
              <a:t>睡觉时，不要躺着看书。不要对着头颈部吹冷风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5.  </a:t>
            </a:r>
            <a:r>
              <a:rPr b="0" lang="zh-CN" sz="26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避免损伤</a:t>
            </a:r>
            <a:r>
              <a:rPr b="0" lang="zh-CN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避免和减少急性颈椎损伤，如避免猛抬重物、紧急刹车等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7" descr="BD07175_"/>
          <p:cNvPicPr/>
          <p:nvPr/>
        </p:nvPicPr>
        <p:blipFill>
          <a:blip r:embed="rId1"/>
          <a:stretch/>
        </p:blipFill>
        <p:spPr>
          <a:xfrm>
            <a:off x="6324480" y="5622840"/>
            <a:ext cx="152424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590480" y="980640"/>
            <a:ext cx="687744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76520" y="106668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11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54:00Z</dcterms:created>
  <dc:creator/>
  <dc:description/>
  <dc:language>en-US</dc:language>
  <cp:lastModifiedBy>dingxiaoyan</cp:lastModifiedBy>
  <dcterms:modified xsi:type="dcterms:W3CDTF">2015-07-04T06:35:43Z</dcterms:modified>
  <cp:revision>7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