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C137-BE70-429D-98D7-592951967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0467-6841-461A-93C1-04B2D09E8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98A9-5CF1-40D4-AD90-3708F5DE8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4177-E926-4457-84FC-E57DA101F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5FA5-E2E6-427B-9547-FAF25FB88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DE59-ABDB-41FA-94F4-DF771416A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9515-81C1-49E1-98D7-F7773B16C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F7C3-2846-4255-B347-C25FCB9D6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E922-4DCC-4733-8DEB-A2E217441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7DB9-C9B2-4695-AF71-95B5106AA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046C-1A12-41B2-8C75-0D7DF70B0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D746-2B97-472D-ADEA-EA1A397CD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31680" y="9360"/>
            <a:ext cx="9175680" cy="6951960"/>
          </a:xfrm>
          <a:prstGeom prst="rect">
            <a:avLst/>
          </a:prstGeom>
          <a:solidFill>
            <a:srgbClr val="ffcc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DF77A-8900-4CD1-94EB-1B73BDBDC9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e3e3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e3e3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樱花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789360"/>
            <a:ext cx="6400800" cy="982800"/>
          </a:xfrm>
          <a:prstGeom prst="rect">
            <a:avLst/>
          </a:prstGeom>
          <a:solidFill>
            <a:srgbClr val="ffe3e3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幻灯片之家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61AD-542C-4CFA-A9DF-74D2A50D490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16:10:09Z</dcterms:created>
  <dc:creator>Administrator</dc:creator>
  <dc:description/>
  <dc:language>en-US</dc:language>
  <cp:lastModifiedBy/>
  <dcterms:modified xsi:type="dcterms:W3CDTF">2015-07-04T06:44:4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