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A2AA-A5F0-4846-8F78-C018B6BB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7E6-52EE-4CD4-B661-0458938C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79C6-5F5F-4B89-AF35-DE005542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2BEC-00A3-430A-9D8E-102E9296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EF93-5237-4751-B03F-319DDF9B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4A58-634D-4F5B-AEA5-29C5ED03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4F30-76E3-48B2-8628-023DD10B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B644-8928-4BB8-A6DF-D477EA50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8071-660D-42FC-9F9F-859A1114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77F2-8B19-4738-9729-6A880AC4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8D30-CCFA-463F-8CB3-E40E41CD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212-F17F-419E-870B-F2D88EAA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67C4-4BA5-438D-BF5C-9E166A53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4B1C-80AB-47FF-95F5-7AF05E4D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9ED1-78AE-44F3-BA95-09B91D25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B30E-DF76-47E3-B6B4-C8771640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6579-A240-4187-8787-29CF5D20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2B8-95C6-49C0-A042-8E538771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86D1-573A-4FC7-BE6E-FEA5D0D4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744-1011-4326-832B-28D347A0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AE95-ACCC-444F-8695-63A1FA67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467-E431-4B51-A7C2-46863E80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FEF-D12C-403B-8CEB-54180D39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1EF-7116-4B4B-B0D0-79D29538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505e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980E-E89D-4C67-B395-639208E91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8c5b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A58B-ACBA-4BDE-A3CD-7E84DABCB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8c5b8"/>
                </a:solidFill>
                <a:latin typeface="Times New Roman"/>
              </a:rPr>
              <a:t>演讲报告</a:t>
            </a:r>
            <a:r>
              <a:rPr b="0" lang="zh-CN" sz="3600" spc="-1" strike="noStrike">
                <a:solidFill>
                  <a:srgbClr val="d8c5b8"/>
                </a:solidFill>
                <a:latin typeface="Times New Roman"/>
                <a:ea typeface="宋体"/>
              </a:rPr>
              <a:t>PPT</a:t>
            </a:r>
            <a:r>
              <a:rPr b="0" lang="en-US" sz="3600" spc="-1" strike="noStrike">
                <a:solidFill>
                  <a:srgbClr val="d8c5b8"/>
                </a:solidFill>
                <a:latin typeface="Times New Roman"/>
              </a:rPr>
              <a:t>模板</a:t>
            </a: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80720" y="312408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52280"/>
            <a:ext cx="23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迷你简柏青"/>
                <a:ea typeface="迷你简柏青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2505e"/>
                </a:solidFill>
                <a:latin typeface="Times New Roman"/>
              </a:rPr>
              <a:t>使用规范说明</a:t>
            </a: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43E-F113-4CDF-BDEB-F5CFFF5F9B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0:13:18Z</dcterms:created>
  <dc:creator/>
  <dc:description/>
  <dc:language>en-US</dc:language>
  <cp:lastModifiedBy>eclipse</cp:lastModifiedBy>
  <dcterms:modified xsi:type="dcterms:W3CDTF">2015-07-04T07:05:2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