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AA4-23A2-4819-8834-5026CB9D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9640" y="369936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66D-DCAE-4E25-8FA9-09416FE8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640" y="369936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6680" y="369936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6A7-B573-4BCC-81B2-9B057420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22080" y="148428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4520" y="148428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9640" y="369936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22080" y="369936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4520" y="369936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DC8-CF27-4CAA-A26D-79FEA555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8832-B8A1-4F61-BC44-7410F446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9640" y="1484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5C08-5E3E-490C-B2D4-6EB65488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1B42-649A-4643-B137-A3888181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2DD0-6A8F-4997-B3CC-C62A155D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E750-1A5A-4DEA-8A47-D324F561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843280" y="259920"/>
            <a:ext cx="5618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6CC6-283F-4D5E-A1F2-1F81F8EE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640" y="369936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F5CC-495F-4895-8611-55CF1B9B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9640" y="1484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413-00D7-4F0E-A3EC-8718127D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6680" y="369936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2CC2-46E2-4DEA-BF96-9F23149B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640" y="369936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67F6-8DB0-4D72-8C40-36CA3BBC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9640" y="369936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B7A6-DFDE-45C7-A604-A74DC7B3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9640" y="369936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6680" y="369936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6942-271B-4919-A96A-CE8A0EB1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22080" y="148428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4520" y="148428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9640" y="369936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22080" y="369936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4520" y="3699360"/>
            <a:ext cx="264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9A64-2CA5-44CE-A53E-4DEE27B9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34A-AE4D-4E3F-BC25-5E7562EB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5D1-2A42-45D1-92A7-67502D1C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516-E228-4D83-AA8A-584459BF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843280" y="259920"/>
            <a:ext cx="5618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C6F-CBFC-44EB-AF92-F4A86967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69936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883-CBFA-4D7A-8720-C4C16FB0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6680" y="369936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325-EDA6-4CD5-8F64-7B6D88F3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680" y="1484280"/>
            <a:ext cx="40158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640" y="369936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123-4FC0-4793-AF05-90780579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0" y="620640"/>
            <a:ext cx="8713800" cy="5832720"/>
          </a:xfrm>
          <a:prstGeom prst="roundRect">
            <a:avLst>
              <a:gd name="adj" fmla="val 2764"/>
            </a:avLst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21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700000" y="609300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667280" y="6093000"/>
            <a:ext cx="1081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fld id="{37E41EC9-F357-4C94-9657-24708515A6F6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771640" y="189000"/>
            <a:ext cx="57628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11111"/>
              </a:gs>
              <a:gs pos="100000">
                <a:srgbClr val="333333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413000"/>
            <a:ext cx="8353440" cy="4392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12600">
            <a:solidFill>
              <a:srgbClr val="969696"/>
            </a:solidFill>
            <a:miter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732720" y="5661000"/>
            <a:ext cx="1493640" cy="1028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68360" y="1413000"/>
            <a:ext cx="8351640" cy="432108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969696"/>
            </a:solidFill>
            <a:miter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39640" y="1484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89000"/>
            <a:ext cx="8496000" cy="6553080"/>
          </a:xfrm>
          <a:prstGeom prst="roundRect">
            <a:avLst>
              <a:gd name="adj" fmla="val 2764"/>
            </a:avLst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AB8B-5D92-496A-A34A-17E37D9AA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0" r="0" b="4285"/>
          <a:stretch/>
        </p:blipFill>
        <p:spPr>
          <a:xfrm>
            <a:off x="5940360" y="5000760"/>
            <a:ext cx="2808360" cy="1668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3360" y="476280"/>
            <a:ext cx="215640" cy="21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3360" y="765000"/>
            <a:ext cx="215640" cy="216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476280"/>
            <a:ext cx="216000" cy="216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研究生毕业答辩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34920" y="3502080"/>
            <a:ext cx="4392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765000"/>
            <a:ext cx="1584360" cy="4320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515-92BF-49A9-A343-CF7C6E71A3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60360" y="386064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765000"/>
            <a:ext cx="1584360" cy="4320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A51-810E-406D-A823-D647163669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3:51:22Z</dcterms:created>
  <dc:creator/>
  <dc:description/>
  <dc:language>en-US</dc:language>
  <cp:lastModifiedBy/>
  <dcterms:modified xsi:type="dcterms:W3CDTF">2015-07-04T07:06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