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243-C1A8-456C-BE27-46298B5B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3B3-D3F6-47BE-B938-55D77E4E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962-B3F8-400B-A01A-08592CE2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121-4AE0-4E02-AA79-BA3E0F64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6BF-0BAC-4E6D-A79B-C06AE35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59F-A5D0-4DE4-A253-68F3F1B2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693-F4A2-4B89-8AD1-5005285D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4F6-BCB6-4BE7-8CBF-83768EA1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7C1-A788-49A4-A970-83180E04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649-4C6A-402F-A8DC-96B7BAF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35B-54B4-4502-B77D-0E86A19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386-5E74-482A-B732-B73730C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103-F3AB-424D-996D-64CE9237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愿景系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335772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2332080"/>
            <a:ext cx="82296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標   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內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56B-5DD2-4C29-B27A-77C07D140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37:41Z</dcterms:created>
  <dc:creator/>
  <dc:description/>
  <dc:language>en-US</dc:language>
  <cp:lastModifiedBy>alex</cp:lastModifiedBy>
  <dcterms:modified xsi:type="dcterms:W3CDTF">2015-07-04T06:33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