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1520488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556-A7C0-455B-BE30-D05F79A2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6360" y="288720"/>
            <a:ext cx="10368000" cy="1199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6360" y="1679040"/>
            <a:ext cx="1036800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6360" y="4161600"/>
            <a:ext cx="1036800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8E3-3251-415C-95B5-9871ED96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6360" y="288720"/>
            <a:ext cx="10368000" cy="1199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6360" y="1679040"/>
            <a:ext cx="505944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89240" y="1679040"/>
            <a:ext cx="505944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6360" y="4161600"/>
            <a:ext cx="505944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89240" y="4161600"/>
            <a:ext cx="505944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0C4-8F1F-4D43-91E6-85EBFEB0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6360" y="288720"/>
            <a:ext cx="10368000" cy="1199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6360" y="1679040"/>
            <a:ext cx="333828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82040" y="1679040"/>
            <a:ext cx="333828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587360" y="1679040"/>
            <a:ext cx="333828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6360" y="4161600"/>
            <a:ext cx="333828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82040" y="4161600"/>
            <a:ext cx="333828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587360" y="4161600"/>
            <a:ext cx="333828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8F7-72A3-48DD-A02D-EBE714AF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A8C7-5F19-47A8-8176-2A77A902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360" y="288720"/>
            <a:ext cx="10368000" cy="1199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6360" y="1679040"/>
            <a:ext cx="103680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0F4D-17CA-4E01-A968-C2B995F3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6360" y="288720"/>
            <a:ext cx="10368000" cy="1199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6360" y="1679040"/>
            <a:ext cx="10368000" cy="47530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7015-EEFC-4691-BE69-DAD11D74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6360" y="288720"/>
            <a:ext cx="10368000" cy="1199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6360" y="1679040"/>
            <a:ext cx="5059440" cy="47530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889240" y="1679040"/>
            <a:ext cx="5059440" cy="47530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90A9-B493-4156-BB1F-68662D05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6360" y="288720"/>
            <a:ext cx="10368000" cy="1199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BF71-FE4B-4B7D-9A00-8F315A42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6360" y="288720"/>
            <a:ext cx="103680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D706-5EA8-4C16-AB49-F3909951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6360" y="288720"/>
            <a:ext cx="10368000" cy="1199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6360" y="1679040"/>
            <a:ext cx="505944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889240" y="1679040"/>
            <a:ext cx="5059440" cy="47530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6360" y="4161600"/>
            <a:ext cx="505944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8CA3-A434-4DC4-A1E6-8A2E92FE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6360" y="288720"/>
            <a:ext cx="10368000" cy="1199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6360" y="1679040"/>
            <a:ext cx="103680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2FF9-3265-43ED-AD7B-9545AE76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6360" y="288720"/>
            <a:ext cx="10368000" cy="1199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6360" y="1679040"/>
            <a:ext cx="5059440" cy="47530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89240" y="1679040"/>
            <a:ext cx="505944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89240" y="4161600"/>
            <a:ext cx="505944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176D-8C40-4B2B-9963-F9EA21E2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6360" y="288720"/>
            <a:ext cx="10368000" cy="1199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6360" y="1679040"/>
            <a:ext cx="505944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889240" y="1679040"/>
            <a:ext cx="505944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76360" y="4161600"/>
            <a:ext cx="1036800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3504-89B6-4A2A-97E4-90EA250C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6360" y="288720"/>
            <a:ext cx="10368000" cy="1199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6360" y="1679040"/>
            <a:ext cx="1036800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6360" y="4161600"/>
            <a:ext cx="1036800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2B72-0DFA-4008-8500-7D75BBD1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6360" y="288720"/>
            <a:ext cx="10368000" cy="1199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6360" y="1679040"/>
            <a:ext cx="505944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889240" y="1679040"/>
            <a:ext cx="505944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6360" y="4161600"/>
            <a:ext cx="505944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889240" y="4161600"/>
            <a:ext cx="505944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A033-EEE1-408F-A644-F502FAA6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6360" y="288720"/>
            <a:ext cx="10368000" cy="1199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6360" y="1679040"/>
            <a:ext cx="333828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82040" y="1679040"/>
            <a:ext cx="333828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87360" y="1679040"/>
            <a:ext cx="333828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6360" y="4161600"/>
            <a:ext cx="333828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082040" y="4161600"/>
            <a:ext cx="333828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587360" y="4161600"/>
            <a:ext cx="333828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811E-ECA2-4825-907E-F940EAD3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6360" y="288720"/>
            <a:ext cx="10368000" cy="1199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6360" y="1679040"/>
            <a:ext cx="10368000" cy="47530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EB02-A339-468E-868E-0F09947C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6360" y="288720"/>
            <a:ext cx="10368000" cy="1199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6360" y="1679040"/>
            <a:ext cx="5059440" cy="47530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89240" y="1679040"/>
            <a:ext cx="5059440" cy="47530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19A-66E7-468F-947A-BB4C657C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6360" y="288720"/>
            <a:ext cx="10368000" cy="1199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8D95-2588-407F-BD7B-67C45EC9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6360" y="288720"/>
            <a:ext cx="103680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3C10-206E-487B-B34A-1570AA91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6360" y="288720"/>
            <a:ext cx="10368000" cy="1199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6360" y="1679040"/>
            <a:ext cx="505944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89240" y="1679040"/>
            <a:ext cx="5059440" cy="47530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360" y="4161600"/>
            <a:ext cx="505944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DBB7-F94C-4333-BBE8-38A567E9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6360" y="288720"/>
            <a:ext cx="10368000" cy="1199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6360" y="1679040"/>
            <a:ext cx="5059440" cy="47530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89240" y="1679040"/>
            <a:ext cx="505944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89240" y="4161600"/>
            <a:ext cx="505944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B61-BBD1-4E8F-8480-B0C251D1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6360" y="288720"/>
            <a:ext cx="10368000" cy="1199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6360" y="1679040"/>
            <a:ext cx="505944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89240" y="1679040"/>
            <a:ext cx="505944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6360" y="4161600"/>
            <a:ext cx="10368000" cy="2266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176-0795-46E1-A0D7-453E72E6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11520360" cy="7180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6360" y="288720"/>
            <a:ext cx="10368000" cy="1199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76360" y="1679040"/>
            <a:ext cx="10368000" cy="47530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marL="396720" indent="-3967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301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20840" indent="-265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47880" indent="-263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76360" indent="-2649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76360" indent="-264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76360" indent="-264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6000" y="6555960"/>
            <a:ext cx="2687400" cy="500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35160" y="6555960"/>
            <a:ext cx="3647880" cy="500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55160" y="6555960"/>
            <a:ext cx="2689200" cy="500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88DF-BE22-43D1-BB18-527B770FFAD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520360" cy="7201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7280" y="1871640"/>
            <a:ext cx="9791640" cy="1542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76000" y="6555960"/>
            <a:ext cx="2687400" cy="500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935160" y="6555960"/>
            <a:ext cx="3647880" cy="500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255160" y="6555960"/>
            <a:ext cx="2689200" cy="500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13F2-DC6D-4772-89A0-F09761D6D60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0" algn="ctr">
              <a:spcBef>
                <a:spcPts val="799"/>
              </a:spcBef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55520" algn="ctr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584360" algn="ctr"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4" marL="2111400" algn="ctr">
              <a:spcBef>
                <a:spcPts val="5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5" marL="21114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6" marL="21114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280" y="1871640"/>
            <a:ext cx="9791640" cy="1542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羊皮卷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95280" y="3095280"/>
            <a:ext cx="4608360" cy="5014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6360" y="288720"/>
            <a:ext cx="10368000" cy="1199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6360" y="1679040"/>
            <a:ext cx="10368000" cy="47530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280" y="1871640"/>
            <a:ext cx="9791640" cy="1542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谢谢观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55640" y="3528720"/>
            <a:ext cx="8064720" cy="11523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0040" y="198360"/>
            <a:ext cx="10339560" cy="6033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6080" y="1333080"/>
            <a:ext cx="11246040" cy="54802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178920" y="349200"/>
            <a:ext cx="1751040" cy="368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7C8-1478-40D8-A58F-E7B68A8454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4:49:43Z</dcterms:created>
  <dc:creator/>
  <dc:description/>
  <dc:language>en-US</dc:language>
  <cp:lastModifiedBy/>
  <dcterms:modified xsi:type="dcterms:W3CDTF">2015-07-04T07:04:3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