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A12-FCFD-4657-9941-9C2CEB5F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5B3-4820-4B2C-B65D-7C0B3F2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54E-2AEF-4C55-B8ED-6A905021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6CB-2D1B-46F9-9BE0-84798CB3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74C7-F417-495B-BC6F-A371612C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6795-3E01-45CC-8F55-2CD0900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B0C5-1616-47D0-8B41-605FBF7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17C2-AC72-42C1-8DB8-85FD8CE4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DA51-1BFD-4A3D-B70D-1ADCD5B2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274680"/>
            <a:ext cx="73152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5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AE0C-B853-4C17-BABB-3A136602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AC95-3863-4332-9703-B34ACF5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080-8CE7-4A79-AAAB-BA478EF3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D5D6-A0C8-4C8E-9C72-D4B0D9D9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2150-7ADA-40E9-88F4-F5027E6E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8A70-A2AC-465D-BE8F-03BBF556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0638-686F-4650-BB5D-E4CFC26C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EF6C-4207-4E5F-8A34-4BCB87A4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B0D-8565-4B5E-826E-024467B7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14C-F0CA-4A6A-BAD7-DD095A6E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31A-D053-4DF1-9157-08655F4D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274680"/>
            <a:ext cx="73152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5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B8E-29CB-4C32-9E9D-ED47800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24A-4319-476D-9E85-2CE3CF83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F9B-0273-4592-A0D2-A37D90A5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5A1-7FFC-4DE7-A69D-202A874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Franklin Gothic Demi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CDC6-EC19-4E5E-BE6A-CE7B9F5F8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4280" y="2130120"/>
            <a:ext cx="37339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Franklin Gothic Demi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16A1-9876-467D-8615-8F41EFAC0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c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24280" y="2130120"/>
            <a:ext cx="373392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艺术抽象类</a:t>
            </a:r>
            <a:r>
              <a:rPr b="0" lang="zh-CN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PPT</a:t>
            </a:r>
            <a:r>
              <a:rPr b="0" lang="zh-CN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模板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24280" y="480024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Your Topic Goes Here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Your Topic Goes Here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5909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Franklin Gothic Demi"/>
                <a:ea typeface="宋体"/>
              </a:rPr>
              <a:t>请输入文字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Franklin Gothic Demi"/>
              </a:rPr>
              <a:t>使用规范说明</a:t>
            </a:r>
            <a:endParaRPr b="0" lang="en-US" sz="4400" spc="-1" strike="noStrike">
              <a:solidFill>
                <a:srgbClr val="080808"/>
              </a:solidFill>
              <a:latin typeface="Franklin Gothic 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D50-ECD2-4D4F-8E9C-3F411E9F1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2:37:20Z</dcterms:created>
  <dc:creator/>
  <dc:description/>
  <dc:language>en-US</dc:language>
  <cp:lastModifiedBy>a</cp:lastModifiedBy>
  <dcterms:modified xsi:type="dcterms:W3CDTF">2015-07-04T06:54:05Z</dcterms:modified>
  <cp:revision>3</cp:revision>
  <dc:subject/>
  <dc:title>请输入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