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797-18E5-4A49-9520-ABAA92C3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35F-264D-4FA9-A7F4-2240D9D5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A7C-3ACF-45B0-9903-DA1A70A2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C82-CCEE-47E3-A194-C503D9B5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4223-F435-4B37-9D61-5F085185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CD31-E305-433E-A083-6C63C935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F8DF-1826-41F6-9DE6-00747608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9778-9DFD-41CA-92F8-36F94F13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CA49-A930-4F1E-882A-F838F93F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D1E4-3E58-42E8-A2BA-65C68B94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38D2-8C3C-4F93-A64C-8F54F2D6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242-5C51-45A0-98F7-8EC048CF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AFB7-8C5F-45A9-9367-E8AFF32B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EA97-B661-430F-8FB2-6914CDF6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F7C7-9EC8-4399-A581-0DB14FC8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2B46-F407-4457-ABBC-474915E8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2E5A-208F-41FC-9A92-4840F802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1118-0DA7-41A6-BC3D-B772AB75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D15CA-9C73-42F3-912A-33E6D67C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85A13-4419-4415-96D7-C4672240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F352-20CE-4EBA-922F-C539452A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72771-EF96-4866-A34D-21D182EE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393-06EA-4153-B2BE-20B0A4A4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6B2F4-44D0-478C-A5C3-033F04A3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7550-05BE-4692-B555-E6523949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1FF7-0FA0-4931-BEA3-1C3CC834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6886-5E4B-40DE-A3DF-71E1976C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AE85-9794-4090-BF53-F3190CA3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F655-CE48-438C-900E-229D0384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DF4B-4076-41CE-A6CB-7998AADC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33F4F-FBEA-4395-A255-F6BCAC94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D5EB5-D017-4E75-80D7-CAD349B6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4A01-001B-423A-A780-CED99624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E3A-6CC7-408A-80C1-6E784258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5785-7404-47ED-A280-FC3E51A7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31A9-1F04-4441-B87F-61E9103D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DE3A8-F971-4F64-BA23-41D4D337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B4996-7C1D-401A-A26F-713FD284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376F3-FA82-4590-B86F-F22D2DA8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56AD-A6AF-4E23-B59C-49EE6028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3E7A-20DC-43F5-B077-26C2F1DF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240B7-64E0-4279-85D6-EB42F4A8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B5E69-1973-4563-AC62-A28FE125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56A47-2EA2-49D6-BFBF-C1396519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B76-CE34-4224-A7FB-F5126BD0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53208-BA7D-4895-AA7F-9BCF7FDB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5B6EA-C90F-4D89-97BC-4A34B206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1ABC8-31D9-4316-9614-6462BAEE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16A4C-3E60-40F7-BE6C-7E1C90D2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FABDF-FF96-4243-8D7B-DAB9DC76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EDA49-65E9-4385-AD91-6830361E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9D3E7-D948-4900-B27E-100251E6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03FD6-1771-42EE-8121-0AC5A478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738B6-C2D7-4D08-A21D-98DF9433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64749-7EBE-446D-87E6-BAB4AACF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280-08E0-4564-B534-07A820BA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30ABB-57EF-4144-9139-FD5CFC9C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86362-A13F-444F-9F6D-EFFE47BB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F9F9C-51CD-46C0-8E0C-A16FFA0C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B292B-8D82-4244-82A9-DCE5CA6A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4EEBE-762B-48DB-B1BC-DE825A67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6FB41-3A81-4D2D-9DBC-810E4CF8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31536-2E97-4065-A352-A64F200D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BEA9E-855D-454C-BF74-AA8E6A1A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52DA6-B958-41A6-AEF8-04A6503B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DC166-7D03-468B-A184-79FDCFB1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FE9-5B23-4797-A71F-82B914EB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5B8EE-2CFD-48D3-A073-3E68F8A2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C1003-E8FE-4ED2-9623-47879385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EAC94-9C6D-4F0F-AC07-1F6E3FBE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755-84EC-4791-9CD3-964D868E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15B-C95A-40E5-B64C-F09C07B3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EA0B-1BB9-4CFD-97FF-9515F8E0143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D36C-BD3B-4FEE-B247-4E6DD6054C0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4408-5B2E-4050-89E9-00C2E6F9FCC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A2A4-2C3D-4510-887A-C3AA7D103F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DB60-422A-46F8-AE36-354F211A4EB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CB15-320C-4298-837F-C6A3F79E7D5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FC40-11C7-4472-8A13-245A02031B2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3EA0-64C7-4EB1-937F-46A55987AF6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A7E0-C317-457B-A9F9-EF0DA9B41D0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5278-C907-47AC-BADC-D4E97690A38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62E3-A4BF-4A0A-A915-4CD1791D5BC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7C74-3404-4840-A2E0-68D6F0F4D51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15" descr=""/>
          <p:cNvPicPr/>
          <p:nvPr/>
        </p:nvPicPr>
        <p:blipFill>
          <a:blip r:embed="rId2"/>
          <a:stretch/>
        </p:blipFill>
        <p:spPr>
          <a:xfrm>
            <a:off x="4324320" y="2523960"/>
            <a:ext cx="4819680" cy="43340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4" descr=""/>
          <p:cNvPicPr/>
          <p:nvPr/>
        </p:nvPicPr>
        <p:blipFill>
          <a:blip r:embed="rId3"/>
          <a:stretch/>
        </p:blipFill>
        <p:spPr>
          <a:xfrm>
            <a:off x="4324320" y="2523960"/>
            <a:ext cx="4819680" cy="433404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7" descr=""/>
          <p:cNvPicPr/>
          <p:nvPr/>
        </p:nvPicPr>
        <p:blipFill>
          <a:blip r:embed="rId4">
            <a:lum bright="40000"/>
          </a:blip>
          <a:stretch/>
        </p:blipFill>
        <p:spPr>
          <a:xfrm>
            <a:off x="1440" y="5357880"/>
            <a:ext cx="9142560" cy="217152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9" descr=""/>
          <p:cNvPicPr/>
          <p:nvPr/>
        </p:nvPicPr>
        <p:blipFill>
          <a:blip r:embed="rId5"/>
          <a:stretch/>
        </p:blipFill>
        <p:spPr>
          <a:xfrm>
            <a:off x="0" y="5072040"/>
            <a:ext cx="9142560" cy="1676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38360" y="1916280"/>
            <a:ext cx="54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艺术设计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15200" y="2708280"/>
            <a:ext cx="51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4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2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直接连接符 10"/>
          <p:cNvSpPr/>
          <p:nvPr/>
        </p:nvSpPr>
        <p:spPr>
          <a:xfrm>
            <a:off x="0" y="5429160"/>
            <a:ext cx="911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12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440" y="5143680"/>
            <a:ext cx="9142560" cy="217152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4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2752920" cy="275256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"/>
          <p:cNvPicPr/>
          <p:nvPr/>
        </p:nvPicPr>
        <p:blipFill>
          <a:blip r:embed="rId4"/>
          <a:stretch/>
        </p:blipFill>
        <p:spPr>
          <a:xfrm>
            <a:off x="2928960" y="714240"/>
            <a:ext cx="2752560" cy="275292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5" descr=""/>
          <p:cNvPicPr/>
          <p:nvPr/>
        </p:nvPicPr>
        <p:blipFill>
          <a:blip r:embed="rId5"/>
          <a:stretch/>
        </p:blipFill>
        <p:spPr>
          <a:xfrm>
            <a:off x="3571920" y="3143160"/>
            <a:ext cx="2752560" cy="275292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7" descr=""/>
          <p:cNvPicPr/>
          <p:nvPr/>
        </p:nvPicPr>
        <p:blipFill>
          <a:blip r:embed="rId6"/>
          <a:stretch/>
        </p:blipFill>
        <p:spPr>
          <a:xfrm>
            <a:off x="5572080" y="785880"/>
            <a:ext cx="2752920" cy="2752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8"/>
          <p:cNvSpPr/>
          <p:nvPr/>
        </p:nvSpPr>
        <p:spPr>
          <a:xfrm>
            <a:off x="0" y="46432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6" descr=""/>
          <p:cNvPicPr/>
          <p:nvPr/>
        </p:nvPicPr>
        <p:blipFill>
          <a:blip r:embed="rId7"/>
          <a:stretch/>
        </p:blipFill>
        <p:spPr>
          <a:xfrm>
            <a:off x="6143760" y="3214800"/>
            <a:ext cx="2752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矩形 4"/>
          <p:cNvSpPr/>
          <p:nvPr/>
        </p:nvSpPr>
        <p:spPr>
          <a:xfrm>
            <a:off x="393840" y="331920"/>
            <a:ext cx="64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单击输入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208584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4"/>
          <p:cNvSpPr/>
          <p:nvPr/>
        </p:nvSpPr>
        <p:spPr>
          <a:xfrm>
            <a:off x="466560" y="1555920"/>
            <a:ext cx="64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单击输入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4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单击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395280" y="1700280"/>
            <a:ext cx="504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3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单击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4"/>
          <p:cNvSpPr/>
          <p:nvPr/>
        </p:nvSpPr>
        <p:spPr>
          <a:xfrm>
            <a:off x="538200" y="1773360"/>
            <a:ext cx="7419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3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单击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4"/>
          <p:cNvSpPr/>
          <p:nvPr/>
        </p:nvSpPr>
        <p:spPr>
          <a:xfrm>
            <a:off x="538200" y="1700280"/>
            <a:ext cx="7635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004840" y="6454800"/>
            <a:ext cx="6796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4"/>
              </a:rPr>
              <a:t>PPT之家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整理发布，更多幻灯片之家请访问：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4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C1DE6-DFEA-4F30-A3CF-510D7583D0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07:14:00Z</dcterms:created>
  <dc:creator>dt</dc:creator>
  <dc:description/>
  <dc:language>en-US</dc:language>
  <cp:lastModifiedBy>12</cp:lastModifiedBy>
  <dcterms:modified xsi:type="dcterms:W3CDTF">2015-07-04T06:50:11Z</dcterms:modified>
  <cp:revision>1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