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690-63D2-428A-88D4-89B48BF0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738-BE66-412F-B16C-72640D77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A4F-F3B9-43C9-8374-A9ED404A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22F-33DF-4ED3-995A-0B32590F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366-49A0-4F39-B7BA-4E4AFAD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687-AEB4-40F9-81E5-47C2C0BE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795-CADB-42F8-9FA0-5F314C49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768-AB1F-4034-94FC-09A5100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6B7-69C7-4141-8617-ADE25C2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B5C-55E9-4187-B18A-A757965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315-C8E5-4AF8-B017-A703BE5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71E-0ADD-46F1-9A5B-B0EC4EB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49EA-4CF9-4A49-90C4-8D07D17164D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4"/>
          <p:cNvSpPr/>
          <p:nvPr/>
        </p:nvSpPr>
        <p:spPr>
          <a:xfrm>
            <a:off x="428760" y="2357280"/>
            <a:ext cx="72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Happy Teacher’s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6"/>
          <p:cNvSpPr/>
          <p:nvPr/>
        </p:nvSpPr>
        <p:spPr>
          <a:xfrm>
            <a:off x="428760" y="3571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Thank you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500040" y="4714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I love yo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圖片 8" descr="j0446310.wmf"/>
          <p:cNvPicPr/>
          <p:nvPr/>
        </p:nvPicPr>
        <p:blipFill>
          <a:blip r:embed="rId1"/>
          <a:stretch/>
        </p:blipFill>
        <p:spPr>
          <a:xfrm>
            <a:off x="5784840" y="3645000"/>
            <a:ext cx="23526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字方塊 4"/>
          <p:cNvSpPr/>
          <p:nvPr/>
        </p:nvSpPr>
        <p:spPr>
          <a:xfrm>
            <a:off x="826920" y="206064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September 2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5"/>
          <p:cNvSpPr/>
          <p:nvPr/>
        </p:nvSpPr>
        <p:spPr>
          <a:xfrm>
            <a:off x="1285920" y="32860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文鼎中楷"/>
              </a:rPr>
              <a:t>九月二十八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字方塊 6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omic Sans MS"/>
                <a:ea typeface="文鼎中楷"/>
              </a:rPr>
              <a:t>Happy  Teac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7" descr="AG00399_.gif"/>
          <p:cNvPicPr/>
          <p:nvPr/>
        </p:nvPicPr>
        <p:blipFill>
          <a:blip r:embed="rId1"/>
          <a:stretch/>
        </p:blipFill>
        <p:spPr>
          <a:xfrm>
            <a:off x="7667640" y="5732640"/>
            <a:ext cx="1114560" cy="876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8" descr="j0446314.wmf"/>
          <p:cNvPicPr/>
          <p:nvPr/>
        </p:nvPicPr>
        <p:blipFill>
          <a:blip r:embed="rId2"/>
          <a:stretch/>
        </p:blipFill>
        <p:spPr>
          <a:xfrm>
            <a:off x="6804000" y="1341360"/>
            <a:ext cx="18003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9E2-7CCD-40C4-9928-E263AD317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07:00Z</dcterms:created>
  <dc:creator/>
  <dc:description/>
  <dc:language>en-US</dc:language>
  <cp:lastModifiedBy/>
  <dcterms:modified xsi:type="dcterms:W3CDTF">2015-07-03T23:18:15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