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15D-D4EB-4FE9-A83E-B67BD778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3C2-FDA4-4CA6-BA76-320EB7E6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58A-18BE-4B20-959F-B790FB2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E4E-99D7-4E81-A242-3EC42E8E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934-22A6-4AD6-B422-393620F4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7432-7D5B-4944-A271-DC822FD0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631-1133-4299-AC03-95EE9B1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E436-34A5-4688-AEAA-80359F61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106-1E0A-40AB-A2BA-B256DEC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7DC3-5FAF-403C-94AB-1723283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E85-15EA-4198-95B5-A84EFC7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8DB-F31C-4217-8D40-3458399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3C2B-79E9-455C-824C-3B24C52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3E7F-7BF1-4F57-9D6A-5B30252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3D7-8A0A-40CF-93E7-28BB46A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994-5B6A-4F36-9309-E662FC3A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555-AD16-4E10-8785-225F8EEF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A18-7888-4204-95E1-DAB7FF7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85A-29B9-4610-B094-527EBE5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C74-84B3-494F-81C9-A9F14D8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C1B-31D3-452E-88FD-ADD2675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874-5B22-49FD-B985-2A359A1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811-72B9-4CA7-A09F-209BDCB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A66-3512-4445-A987-F0AF6AB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ED3-2AE0-4326-83DB-77CEA936CE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B35-75AB-42B3-8882-BC20304029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CDA8-470F-469C-9F79-3CD7DC478D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63360" y="396720"/>
            <a:ext cx="6731280" cy="8676000"/>
          </a:xfrm>
          <a:prstGeom prst="rect">
            <a:avLst/>
          </a:prstGeom>
          <a:noFill/>
          <a:ln w="604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0" y="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行政管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8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号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0081100143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汤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117360" y="682560"/>
            <a:ext cx="2543400" cy="43200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8" descr=""/>
          <p:cNvPicPr/>
          <p:nvPr/>
        </p:nvPicPr>
        <p:blipFill>
          <a:blip r:embed="rId1"/>
          <a:stretch/>
        </p:blipFill>
        <p:spPr>
          <a:xfrm>
            <a:off x="5229360" y="1479600"/>
            <a:ext cx="1004760" cy="100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04640" y="1553040"/>
            <a:ext cx="280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Email: 6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*****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8@qq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Mobile: 1501-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Add: Room 527, Building No.7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GDUFS in the HEMC of Guangzhou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19320" y="1547640"/>
            <a:ext cx="2136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Candidate for B.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Political Administration,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GUANGDONG UNIVERSITY OF FOREIGN STUD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117360" y="3203640"/>
            <a:ext cx="2541600" cy="43164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76280" y="3780000"/>
            <a:ext cx="1657440" cy="374400"/>
            <a:chOff x="476280" y="3780000"/>
            <a:chExt cx="1657440" cy="374400"/>
          </a:xfrm>
        </p:grpSpPr>
        <p:pic>
          <p:nvPicPr>
            <p:cNvPr id="90" name="图片 14" descr=""/>
            <p:cNvPicPr/>
            <p:nvPr/>
          </p:nvPicPr>
          <p:blipFill>
            <a:blip r:embed="rId2"/>
            <a:stretch/>
          </p:blipFill>
          <p:spPr>
            <a:xfrm>
              <a:off x="476280" y="3780000"/>
              <a:ext cx="360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6"/>
            <p:cNvSpPr/>
            <p:nvPr/>
          </p:nvSpPr>
          <p:spPr>
            <a:xfrm>
              <a:off x="837720" y="3832560"/>
              <a:ext cx="129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uture Engl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457360" y="3780000"/>
            <a:ext cx="1979640" cy="376200"/>
            <a:chOff x="2457360" y="3780000"/>
            <a:chExt cx="1979640" cy="376200"/>
          </a:xfrm>
        </p:grpSpPr>
        <p:pic>
          <p:nvPicPr>
            <p:cNvPr id="93" name="图片 15" descr=""/>
            <p:cNvPicPr/>
            <p:nvPr/>
          </p:nvPicPr>
          <p:blipFill>
            <a:blip r:embed="rId3"/>
            <a:stretch/>
          </p:blipFill>
          <p:spPr>
            <a:xfrm>
              <a:off x="2457360" y="3780000"/>
              <a:ext cx="3600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7"/>
            <p:cNvSpPr/>
            <p:nvPr/>
          </p:nvSpPr>
          <p:spPr>
            <a:xfrm>
              <a:off x="2775600" y="3814200"/>
              <a:ext cx="16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sian Games 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724280" y="3780000"/>
            <a:ext cx="1905120" cy="374400"/>
            <a:chOff x="4724280" y="3780000"/>
            <a:chExt cx="1905120" cy="374400"/>
          </a:xfrm>
        </p:grpSpPr>
        <p:pic>
          <p:nvPicPr>
            <p:cNvPr id="96" name="图片 13" descr=""/>
            <p:cNvPicPr/>
            <p:nvPr/>
          </p:nvPicPr>
          <p:blipFill>
            <a:blip r:embed="rId4"/>
            <a:stretch/>
          </p:blipFill>
          <p:spPr>
            <a:xfrm>
              <a:off x="4724280" y="3780000"/>
              <a:ext cx="35964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8"/>
            <p:cNvSpPr/>
            <p:nvPr/>
          </p:nvSpPr>
          <p:spPr>
            <a:xfrm>
              <a:off x="5083920" y="3782880"/>
              <a:ext cx="15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Jinhan F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9"/>
          <p:cNvSpPr/>
          <p:nvPr/>
        </p:nvSpPr>
        <p:spPr>
          <a:xfrm>
            <a:off x="404640" y="414036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ch English as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Improve oral English and presentation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2349360" y="4140360"/>
            <a:ext cx="248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ead the athletes to receive doping test as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oping control offic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Expand horizon and enhance communication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4653000" y="414036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 in charg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ggage Stor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Learn how to cooperate as a team and how to manag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5"/>
          <p:cNvSpPr/>
          <p:nvPr/>
        </p:nvSpPr>
        <p:spPr>
          <a:xfrm flipV="1">
            <a:off x="1268280" y="5868720"/>
            <a:ext cx="1800" cy="14436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6"/>
          <p:cNvSpPr/>
          <p:nvPr/>
        </p:nvSpPr>
        <p:spPr>
          <a:xfrm flipV="1">
            <a:off x="3284640" y="5868720"/>
            <a:ext cx="1440" cy="14436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7"/>
          <p:cNvSpPr/>
          <p:nvPr/>
        </p:nvSpPr>
        <p:spPr>
          <a:xfrm flipV="1">
            <a:off x="5589720" y="5797080"/>
            <a:ext cx="0" cy="14292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23"/>
          <p:cNvCxnSpPr/>
          <p:nvPr/>
        </p:nvCxnSpPr>
        <p:spPr>
          <a:xfrm>
            <a:off x="475920" y="5866920"/>
            <a:ext cx="5977800" cy="2520"/>
          </a:xfrm>
          <a:prstGeom prst="straightConnector1">
            <a:avLst/>
          </a:prstGeom>
          <a:ln w="38160">
            <a:solidFill>
              <a:srgbClr val="00aeed"/>
            </a:solidFill>
            <a:miter/>
            <a:tailEnd len="med" type="arrow" w="med"/>
          </a:ln>
        </p:spPr>
      </p:cxnSp>
      <p:sp>
        <p:nvSpPr>
          <p:cNvPr id="105" name="TextBox 28"/>
          <p:cNvSpPr/>
          <p:nvPr/>
        </p:nvSpPr>
        <p:spPr>
          <a:xfrm>
            <a:off x="765000" y="59515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ed"/>
                </a:solidFill>
                <a:latin typeface="Calibri"/>
                <a:ea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2557440" y="595152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5214960" y="588024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ril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图表 33"/>
          <p:cNvSpPr/>
          <p:nvPr/>
        </p:nvSpPr>
        <p:spPr>
          <a:xfrm>
            <a:off x="285840" y="6661080"/>
            <a:ext cx="645804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4"/>
          <p:cNvSpPr/>
          <p:nvPr/>
        </p:nvSpPr>
        <p:spPr>
          <a:xfrm>
            <a:off x="117360" y="6156360"/>
            <a:ext cx="2541600" cy="43164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5" descr=""/>
          <p:cNvPicPr/>
          <p:nvPr/>
        </p:nvPicPr>
        <p:blipFill>
          <a:blip r:embed="rId5"/>
          <a:stretch/>
        </p:blipFill>
        <p:spPr>
          <a:xfrm>
            <a:off x="512640" y="6891480"/>
            <a:ext cx="274680" cy="274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7" descr=""/>
          <p:cNvPicPr/>
          <p:nvPr/>
        </p:nvPicPr>
        <p:blipFill>
          <a:blip r:embed="rId6"/>
          <a:stretch/>
        </p:blipFill>
        <p:spPr>
          <a:xfrm>
            <a:off x="523800" y="8464680"/>
            <a:ext cx="252360" cy="252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8" descr=""/>
          <p:cNvPicPr/>
          <p:nvPr/>
        </p:nvPicPr>
        <p:blipFill>
          <a:blip r:embed="rId7"/>
          <a:stretch/>
        </p:blipFill>
        <p:spPr>
          <a:xfrm>
            <a:off x="514440" y="740268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9" descr=""/>
          <p:cNvPicPr/>
          <p:nvPr/>
        </p:nvPicPr>
        <p:blipFill>
          <a:blip r:embed="rId8"/>
          <a:stretch/>
        </p:blipFill>
        <p:spPr>
          <a:xfrm>
            <a:off x="563400" y="790560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0"/>
          <p:cNvSpPr/>
          <p:nvPr/>
        </p:nvSpPr>
        <p:spPr>
          <a:xfrm>
            <a:off x="708120" y="679752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Knowl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846000" y="730872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f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701640" y="781200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3"/>
          <p:cNvSpPr/>
          <p:nvPr/>
        </p:nvSpPr>
        <p:spPr>
          <a:xfrm>
            <a:off x="738360" y="8451720"/>
            <a:ext cx="10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ral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4"/>
          <p:cNvSpPr/>
          <p:nvPr/>
        </p:nvSpPr>
        <p:spPr>
          <a:xfrm>
            <a:off x="1776240" y="6743880"/>
            <a:ext cx="4869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s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D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as my life style. Be good at lea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aving, sharing and using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5"/>
          <p:cNvSpPr/>
          <p:nvPr/>
        </p:nvSpPr>
        <p:spPr>
          <a:xfrm>
            <a:off x="1771560" y="7272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requent user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ffi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oftware, espec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Enjoy usin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 present my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6"/>
          <p:cNvSpPr/>
          <p:nvPr/>
        </p:nvSpPr>
        <p:spPr>
          <a:xfrm>
            <a:off x="1771560" y="77994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cept presentation and speech trai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 willing to presen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n Chinese or Engl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7"/>
          <p:cNvSpPr/>
          <p:nvPr/>
        </p:nvSpPr>
        <p:spPr>
          <a:xfrm>
            <a:off x="1771560" y="83278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hance oral English in social experi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glish as working language has not an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3025800" y="1222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2-year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9360" y="118728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3FEB-B4AD-4983-9136-C403EE529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0:13:00Z</dcterms:created>
  <dc:creator>mingzao</dc:creator>
  <dc:description/>
  <dc:language>en-US</dc:language>
  <cp:lastModifiedBy>USER</cp:lastModifiedBy>
  <dcterms:modified xsi:type="dcterms:W3CDTF">2015-07-04T06:47:5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