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906-A870-4EB4-BC2A-0CA97157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C23D-0EDB-45BF-A742-7784AAD4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F1E4-829C-49B0-B3F1-CE833DC99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4AC4-A758-4A3E-BDA1-9F313EE8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B11-FD81-4BDB-B178-B385087C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8B03-14CD-4493-9372-C1AC5C1F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9BA5-AEF7-4C59-81BA-8E0838B1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9EFD-A1F8-4227-A510-EF0D6A6F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F9B7-7B99-438A-9920-A5BAB5B3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7827-A33A-4EC7-8645-A03F01DE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F291-5230-4E40-9B06-CCC25D4C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54C1-BE95-4701-8E77-F101BC02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4B45-681B-4D94-A5A2-11D695DC88A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5788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英语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BC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6094440"/>
            <a:ext cx="6400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428560" y="1600200"/>
            <a:ext cx="625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03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918A-21EF-4E73-AD6B-11518C53F5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7:31:27Z</dcterms:created>
  <dc:creator/>
  <dc:description/>
  <dc:language>en-US</dc:language>
  <cp:lastModifiedBy>Admin</cp:lastModifiedBy>
  <dcterms:modified xsi:type="dcterms:W3CDTF">2015-07-04T06:46:3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