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B61-75B9-40F8-BAAC-BB2B1F86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4DE-918F-4853-B747-75A0615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A13-A875-4FEB-BE2B-E7DFFA62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A4E-F457-4BE3-B5E2-48BA30EB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3A43-438D-45D8-8AD9-03D3A6E5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743-3468-4820-842C-A3E1B13B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E59F-E573-4F15-AE4C-7615AB45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455B-FA64-4162-9C55-3FCC2685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B8DC-3447-475E-B6BA-E978776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587-FC42-488D-AE72-5A7C33B1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59EB-03F3-40EB-A641-B69F59C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EAF-1604-4291-AA4F-AE6AEBF4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14F-3CCB-47B1-BD90-F3EA2E9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BE09-AC11-4957-83ED-31B8FDD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E249-3D3E-433B-B01E-B145A16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AE3-9FFC-4BCB-8B1E-4426A57F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23FF-8D3B-4A08-81BC-47520A55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B600-79C8-4A43-848E-BBE2065D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19E5-E54D-45F9-9571-2191CC24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0921-ADFC-4ACD-8FE3-EF1A504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3724-DF03-438B-AEF7-F20B008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3B59-4FB0-4EC1-97D3-E041531A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D9B-C3DB-4559-98DC-DD273DF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2F2C-5632-4DD9-8AA9-EA851B24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C397-6886-4658-8974-C154F80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DBAF-3BA8-4122-9A42-38C10D2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AF32-200A-428C-A8DF-7698529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8C1D-8846-4BB7-90EB-647E5FB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AE49-9646-4914-AF30-667516C3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3809-0322-4CF4-A5D0-E21462D0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5BB9-0A94-4579-B458-84EE31FB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EF4D7-8749-4D91-ACE5-ECEFC64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8919-7F30-4BB8-ABE5-16857E5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5A2-3F02-436B-9392-93EDBCE5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B708-98EE-4BC1-A4D4-22FE4B4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DE19-C9D0-4A18-B85A-F94FF0CE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F3DD-7E4B-4920-B0E5-8C815509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45C4-BD24-4BA0-B4F8-74FC34D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CE25-6859-4339-96FC-E31AA50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F856-E591-488F-88BC-AAF58FA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8E30-5199-4DCE-B63F-36982D6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2654-53DE-471E-8414-F5499535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07DC-6057-4BA0-BF75-9BA9AFEF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82D-20D4-449B-A578-D856B311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F20-3C19-42F3-830D-73F2A29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373-0833-41C9-BD63-9753124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074-173E-442C-B2EF-1E777198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612-6D60-492D-B961-39B2657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3BA-7C04-4E14-97EB-2DAABC1D9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B74-B7A5-440E-B537-D6A92C23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68320" y="1219320"/>
            <a:ext cx="60195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B06-CE21-4D96-A76A-615E523229C7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7AE-CEA6-4865-AB1E-524676A5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优雅蝴蝶保护大自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8320" y="1219320"/>
            <a:ext cx="60195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【格式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设计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配色方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编辑配色方案】下调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【视图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母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母版】下调整。直接选择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【视图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母版】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幻灯片母版】下调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首页主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36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副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内页标题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内页内容文字</a:t>
            </a:r>
            <a:r>
              <a:rPr b="0" lang="en-US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</a:t>
            </a: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华文细黑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247-3063-4BA0-9A44-2D508E85C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6:25:13Z</dcterms:created>
  <dc:creator/>
  <dc:description/>
  <dc:language>en-US</dc:language>
  <cp:lastModifiedBy>番茄花园</cp:lastModifiedBy>
  <dcterms:modified xsi:type="dcterms:W3CDTF">2015-07-04T06:42:2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