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DD6-DD92-4D6E-9D6D-52ABA0FD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C35-D222-48F0-964E-59DECE9B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C48-3BC8-41E1-92DB-749CD49A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F1A-9FD2-45D9-98C8-9D859127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785B-88BE-4C45-BF91-0611EDB8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A208-E692-41EC-8CB0-04401C6D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5166-6CF9-4A0D-A291-8D9A5FB1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5D6D-91E3-4CF0-BDEE-5D616B56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41EE-7E24-479F-A5BF-8E2FE73F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6B74-3CE5-4D11-8877-0C43CC50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7A8F-6617-43CC-A057-40264DB0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9BCA-C0B6-4018-BA64-9561E95C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F782-F637-49A6-8DBA-62E0B517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3B62-873B-4019-B3CD-CEF3ADE0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EF98-4E27-4ECD-BDB1-978AEE84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DB9D-6484-496D-92DA-F5F4C1EF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2303-6E95-4875-BAD3-7DA5B7CA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9EF-8B44-4A20-9B94-F0E6B2C9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707-5903-4449-AD7F-2164A9F3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D27-16F7-4708-805A-B4B1179D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DA1-8A7C-4FE8-B16D-4FA2F69B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B42-F0EB-4173-AC91-592E8818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C63-B938-45A4-B9C0-F0587FD1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F48-31CF-4392-A756-651E4A37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E7DB-61E7-41B2-AE75-F94E2956D41B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72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199-37BE-4E24-9FA7-68B47F0B49D0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0c0c0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300720" y="6237360"/>
            <a:ext cx="237672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双击添加署名</a:t>
            </a:r>
            <a:r>
              <a:rPr b="1" lang="en-US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公司名</a:t>
            </a:r>
            <a:r>
              <a:rPr b="1" lang="en-US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/</a:t>
            </a:r>
            <a:r>
              <a:rPr b="1" lang="zh-CN" sz="2400" spc="-1" strike="noStrike">
                <a:ln w="0">
                  <a:noFill/>
                </a:ln>
                <a:solidFill>
                  <a:srgbClr val="0c0c0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日期</a:t>
            </a:r>
            <a:endParaRPr b="1" lang="en-US" sz="2400" spc="-1" strike="noStrike">
              <a:ln w="0">
                <a:noFill/>
              </a:ln>
              <a:solidFill>
                <a:srgbClr val="0c0c0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"/>
          <p:cNvSpPr/>
          <p:nvPr/>
        </p:nvSpPr>
        <p:spPr>
          <a:xfrm>
            <a:off x="5416560" y="1989000"/>
            <a:ext cx="25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Arial"/>
              </a:rPr>
              <a:t>一叶绿舟</a:t>
            </a:r>
            <a:r>
              <a:rPr b="1" lang="en-US" sz="4000" spc="-1" strike="noStrike">
                <a:solidFill>
                  <a:srgbClr val="0c0c0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c0c0c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5080" y="2781360"/>
            <a:ext cx="417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5491080" y="2060640"/>
            <a:ext cx="2189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c0c"/>
                </a:solidFill>
                <a:latin typeface="Arial"/>
                <a:ea typeface="黑体"/>
              </a:rPr>
              <a:t>谢谢观赏！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黑体"/>
              </a:rPr>
              <a:t>    </a:t>
            </a:r>
            <a:r>
              <a:rPr b="1" lang="en-US" sz="3200" spc="-1" strike="noStrike">
                <a:solidFill>
                  <a:srgbClr val="0c0c0c"/>
                </a:solidFill>
                <a:latin typeface="Arial"/>
                <a:ea typeface="黑体"/>
              </a:rPr>
              <a:t>Thanks!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873-DF4A-4D41-AEA1-043937BB40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/>
  <dc:description/>
  <dc:language>en-US</dc:language>
  <cp:lastModifiedBy>雨林木风</cp:lastModifiedBy>
  <dcterms:modified xsi:type="dcterms:W3CDTF">2015-07-04T06:59:48Z</dcterms:modified>
  <cp:revision>1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