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E94-D115-40E1-B536-99D5495C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891-53CC-4F87-BB76-E2C4461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C32-CF5B-40A7-948A-304D5E65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A66-DB23-4631-8BBD-CC972C3D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854-1C7D-43D6-9079-65FEEFD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864-C7EA-4909-A486-6256C61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64E-9E7F-4E22-9BAB-B3EC7937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5BB-59AE-4C02-B4AF-3FD00B60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1A9-8062-47D2-AF12-C1780B8B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12C-DBC3-4941-A8DF-22C4576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84E-D239-48A0-ADA1-898DC03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E53-EF93-449E-A5D2-CD155775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AC2-8A97-4E41-BECF-2D87907AC232}" type="datetime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AB1-C5B1-408B-90CB-A96B693EACFB}" type="slidenum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87280" y="2205000"/>
            <a:ext cx="69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最初的梦想</a:t>
            </a: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PPT</a:t>
            </a: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0920" y="620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186000" y="2133720"/>
            <a:ext cx="27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WH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HOW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84720" y="2852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067280" y="4202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7200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067280" y="1998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067280" y="2813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067280" y="148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左大括号 6"/>
          <p:cNvSpPr/>
          <p:nvPr/>
        </p:nvSpPr>
        <p:spPr>
          <a:xfrm>
            <a:off x="3419640" y="17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808360"/>
              <a:gd name="textAreaBottom" fmla="*/ 2801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140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140360" y="378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51A-EF18-4EDB-9DCB-FDA91559DA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27280" y="1427040"/>
            <a:ext cx="1692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708360" y="2060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种风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0920" y="3068280"/>
            <a:ext cx="2376360" cy="1008360"/>
            <a:chOff x="3850920" y="3068280"/>
            <a:chExt cx="2376360" cy="1008360"/>
          </a:xfrm>
        </p:grpSpPr>
        <p:sp>
          <p:nvSpPr>
            <p:cNvPr id="46" name="矩形 5"/>
            <p:cNvSpPr/>
            <p:nvPr/>
          </p:nvSpPr>
          <p:spPr>
            <a:xfrm flipH="1" flipV="1">
              <a:off x="3850560" y="3648240"/>
              <a:ext cx="237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矩形 3"/>
            <p:cNvSpPr/>
            <p:nvPr/>
          </p:nvSpPr>
          <p:spPr>
            <a:xfrm flipH="1" flipV="1">
              <a:off x="3850560" y="3428280"/>
              <a:ext cx="2376360" cy="40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 flipH="1" flipV="1">
              <a:off x="3850560" y="3213000"/>
              <a:ext cx="23763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 flipH="1" flipV="1">
              <a:off x="3850560" y="3067920"/>
              <a:ext cx="2376360" cy="431640"/>
            </a:xfrm>
            <a:prstGeom prst="rect">
              <a:avLst/>
            </a:prstGeom>
            <a:solidFill>
              <a:srgbClr val="1e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627280" y="2060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>
            <a:lum bright="88000"/>
          </a:blip>
          <a:stretch/>
        </p:blipFill>
        <p:spPr>
          <a:xfrm>
            <a:off x="3716280" y="3500280"/>
            <a:ext cx="17114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023920" y="2496960"/>
            <a:ext cx="50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4932360" y="2316240"/>
            <a:ext cx="10033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340000" y="4005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87640" y="2048040"/>
            <a:ext cx="1368720" cy="145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268360" y="1236600"/>
            <a:ext cx="460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763640" y="1413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图片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32360" y="328464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422604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17640" y="4221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62" name="不等于号 5"/>
          <p:cNvSpPr/>
          <p:nvPr/>
        </p:nvSpPr>
        <p:spPr>
          <a:xfrm>
            <a:off x="3753000" y="4653000"/>
            <a:ext cx="1223640" cy="43164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9280" y="465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311640" y="3716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635280" y="174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2448000" y="3044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796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796000" y="4941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左大括号 5"/>
          <p:cNvSpPr/>
          <p:nvPr/>
        </p:nvSpPr>
        <p:spPr>
          <a:xfrm>
            <a:off x="5003640" y="1628640"/>
            <a:ext cx="216000" cy="36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 h 3600720"/>
              <a:gd name="textAreaBottom" fmla="*/ 359568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3469E-006 L -0.10833 2.53469E-006 E">
                                      <p:cBhvr>
                                        <p:cTn id="6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01:10:00Z</dcterms:created>
  <dc:creator>Gin</dc:creator>
  <dc:description/>
  <cp:keywords>YT-竞赛宣讲;XS-普屏 4：3;DH-静态</cp:keywords>
  <dc:language>en-US</dc:language>
  <cp:lastModifiedBy>a</cp:lastModifiedBy>
  <dcterms:modified xsi:type="dcterms:W3CDTF">2015-07-04T05:53:32Z</dcterms:modified>
  <cp:revision>80</cp:revision>
  <dc:subject>SW-信息概要类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