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D1F-79E9-4F09-96B0-BABFC647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620-9738-4C6E-B95E-C3C7322D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3B2-4BC7-4CD6-86DC-EFC8EB61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80F-4ED4-488D-9187-DE0268D0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DE7E-548F-4177-8811-FE53E7CB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8862-3E3F-468B-B0CD-E1FAE289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AA13-0CB8-441E-9756-9F0B1164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0688-FAF9-4E6A-A70C-3115EB0C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F27A-140E-48F8-8229-BA511A75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9028-577B-4987-94CC-2CBE21B1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1D2F-CD45-4360-8F38-E34225CE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129-67A4-4EF0-8B16-B191D6F3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AFAF-0D7E-4029-9072-7E0017C7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D5FD-9B63-425C-A408-4D23E261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0C51-5CB0-49CD-AA11-18A32843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ABEB-F590-49AD-9110-E2BDD770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8592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711600"/>
            <a:ext cx="264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1B8D-8977-46F0-9206-AAFD236F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32F-1720-459E-AB9F-8EEABCE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13C-C532-4C17-B91C-0CB99E1A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DCE-BDD5-49C2-BC65-ADBC1306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04376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111-6C8B-4589-A39D-889FAFD5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722-1436-4433-9DB0-859505F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160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5603-1810-4BB6-BFDE-03107D06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85920"/>
            <a:ext cx="40158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16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1AC-8B4D-4100-8EB5-E3587F3F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我的文件\素材文件\3D小人\8.JPG"/>
          <p:cNvPicPr/>
          <p:nvPr/>
        </p:nvPicPr>
        <p:blipFill>
          <a:blip r:embed="rId2"/>
          <a:srcRect l="0" t="10264" r="7692" b="12823"/>
          <a:stretch/>
        </p:blipFill>
        <p:spPr>
          <a:xfrm>
            <a:off x="7429680" y="0"/>
            <a:ext cx="1714320" cy="1071720"/>
          </a:xfrm>
          <a:prstGeom prst="rect">
            <a:avLst/>
          </a:prstGeom>
          <a:ln w="0">
            <a:noFill/>
          </a:ln>
        </p:spPr>
      </p:pic>
      <p:sp>
        <p:nvSpPr>
          <p:cNvPr id="1" name="任意多边形 6"/>
          <p:cNvSpPr/>
          <p:nvPr/>
        </p:nvSpPr>
        <p:spPr>
          <a:xfrm>
            <a:off x="0" y="-12600"/>
            <a:ext cx="7858080" cy="1084320"/>
          </a:xfrm>
          <a:prstGeom prst="pie">
            <a:avLst/>
          </a:prstGeom>
          <a:gradFill rotWithShape="0">
            <a:gsLst>
              <a:gs pos="0">
                <a:srgbClr val="94c0e8"/>
              </a:gs>
              <a:gs pos="100000">
                <a:srgbClr val="2287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2CA8-4460-4129-85FC-04AC6533C344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我的文件\素材文件\3D小人\8.JPG"/>
          <p:cNvPicPr/>
          <p:nvPr/>
        </p:nvPicPr>
        <p:blipFill>
          <a:blip r:embed="rId2"/>
          <a:srcRect l="27275" t="0" r="0" b="0"/>
          <a:stretch/>
        </p:blipFill>
        <p:spPr>
          <a:xfrm>
            <a:off x="0" y="0"/>
            <a:ext cx="5334120" cy="5500800"/>
          </a:xfrm>
          <a:prstGeom prst="rect">
            <a:avLst/>
          </a:prstGeom>
          <a:ln w="0">
            <a:noFill/>
          </a:ln>
        </p:spPr>
      </p:pic>
      <p:sp>
        <p:nvSpPr>
          <p:cNvPr id="44" name="任意多边形 5"/>
          <p:cNvSpPr/>
          <p:nvPr/>
        </p:nvSpPr>
        <p:spPr>
          <a:xfrm>
            <a:off x="2571840" y="0"/>
            <a:ext cx="6572160" cy="68580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4"/>
          <p:cNvSpPr/>
          <p:nvPr/>
        </p:nvSpPr>
        <p:spPr>
          <a:xfrm>
            <a:off x="3000240" y="0"/>
            <a:ext cx="6143760" cy="6858000"/>
          </a:xfrm>
          <a:prstGeom prst="pie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"/>
          <p:cNvSpPr/>
          <p:nvPr/>
        </p:nvSpPr>
        <p:spPr>
          <a:xfrm>
            <a:off x="3429000" y="0"/>
            <a:ext cx="5715000" cy="6858000"/>
          </a:xfrm>
          <a:prstGeom prst="pie">
            <a:avLst/>
          </a:prstGeom>
          <a:gradFill rotWithShape="0">
            <a:gsLst>
              <a:gs pos="0">
                <a:srgbClr val="4b9feb"/>
              </a:gs>
              <a:gs pos="100000">
                <a:srgbClr val="558ed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56000" y="1701720"/>
            <a:ext cx="4748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B651-50FC-4DA2-951A-58D008DF0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华文细黑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华文细黑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55640" y="1701720"/>
            <a:ext cx="46818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细黑"/>
              </a:rPr>
              <a:t>职场规划演讲</a:t>
            </a:r>
            <a:r>
              <a:rPr b="0" lang="en-US" sz="3600" spc="-1" strike="noStrike">
                <a:solidFill>
                  <a:srgbClr val="ffffff"/>
                </a:solidFill>
                <a:latin typeface="华文细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华文细黑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140000" y="2781000"/>
            <a:ext cx="4879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细黑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华文细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华文细黑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869080" y="2349360"/>
            <a:ext cx="2786040" cy="503280"/>
            <a:chOff x="5869080" y="2349360"/>
            <a:chExt cx="2786040" cy="503280"/>
          </a:xfrm>
        </p:grpSpPr>
        <p:sp>
          <p:nvSpPr>
            <p:cNvPr id="91" name="Rectangle 10"/>
            <p:cNvSpPr/>
            <p:nvPr/>
          </p:nvSpPr>
          <p:spPr>
            <a:xfrm>
              <a:off x="5869080" y="2349360"/>
              <a:ext cx="27860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8" descr="Unbenannt-2"/>
            <p:cNvPicPr/>
            <p:nvPr/>
          </p:nvPicPr>
          <p:blipFill>
            <a:blip r:embed="rId1"/>
            <a:stretch/>
          </p:blipFill>
          <p:spPr>
            <a:xfrm>
              <a:off x="6094080" y="2420640"/>
              <a:ext cx="28116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0437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360" y="2565360"/>
            <a:ext cx="4748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细黑"/>
              </a:rPr>
              <a:t>感谢您的关注</a:t>
            </a:r>
            <a:endParaRPr b="0" lang="en-US" sz="40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645336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细黑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FC2-2CA2-4CFC-B7F9-0087F2C306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12:58:23Z</dcterms:created>
  <dc:creator/>
  <dc:description/>
  <dc:language>en-US</dc:language>
  <cp:lastModifiedBy>dell</cp:lastModifiedBy>
  <dcterms:modified xsi:type="dcterms:W3CDTF">2015-07-04T06:24:3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