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D5A-2B65-4AA1-96C4-96401DFF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281-D8BA-442C-957A-140206EB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07F-EA86-4EB7-8AF0-77A8F896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F40-1A70-4E7B-8525-567A27CD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083-7ACD-4507-BA25-C5C2D0A9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D9D-683F-4147-9D69-E0E7DA08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FD2-C3E9-459F-949F-B0D7A71C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A77-438B-4E34-B581-46A8001F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C14-FAF2-4476-A1E1-9F8A5F5C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C77-CE9B-4149-8925-04DA5ECF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750-44F6-4E74-84E7-DF2ED2C7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053-1B19-44D1-91F9-C92FEE8D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F24E-FBC8-4886-8B30-AF0DC2661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2760" y="458100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2760" y="458100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风独钓寒江雪课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484360" y="5660640"/>
            <a:ext cx="6400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9440" y="0"/>
            <a:ext cx="23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迷你简柏青"/>
                <a:ea typeface="迷你简柏青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迷你简柏青"/>
                <a:ea typeface="迷你简柏青"/>
              </a:rPr>
              <a:t>www.eeppt.com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书体坊米芾体"/>
              </a:rPr>
              <a:t>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0560" y="3638520"/>
            <a:ext cx="682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6DD-3EB0-4AAA-8D72-F5695301E3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0:31:14Z</dcterms:created>
  <dc:creator>Administrator</dc:creator>
  <dc:description/>
  <dc:language>en-US</dc:language>
  <cp:lastModifiedBy/>
  <dcterms:modified xsi:type="dcterms:W3CDTF">2015-07-04T06:18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