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0963-2884-4EDD-BAAE-81DE87085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6F26-C34A-44F8-990E-6860A8F7F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3376-9375-4216-96C5-FCE3DB063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7377-A21E-424C-9D8B-25439C8C8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BBB69-E2B6-4626-8FBA-F9E22F937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15C20-C363-4A83-A142-B31AA549B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ABA85-6E0D-401E-9879-FA8DDA88A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F0CCA-AC32-47F2-A333-B695AD4F2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BED6F-0C12-40D2-B5A3-BF2AA07A8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749B7-2A2F-4982-8B28-EDA78A6A4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796AD-872A-45F0-B87E-CED61C7E3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7F79-10F7-4476-AF53-7FD4E681D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5607D-5268-474C-91D0-4441B5F95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33800-16E8-4818-9AD1-18CA8BC1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785FD-82D3-45DC-90DE-0C7660352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E2EA5-1759-42E2-817A-990BB7BAE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EE3D4-2AA8-41C5-AA91-200B3F2F8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606C4-6F5C-4A92-A324-310778775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CDBCA-2E52-4DD3-9158-1C8616730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8064D-FEA3-4B11-8462-80D4E33ED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14343-1977-4F98-B844-46DA635FA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953C9-A9CE-40A5-B2D9-EB2A6E267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6AA4-C999-4297-9B82-2A548EB76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05111-E305-44E7-AE49-D93ADB8AE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D356A-D3AF-4E6E-84BE-FBB4777C3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50535-091F-49DD-A1CF-DF5D209DC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AD777-47FD-48D2-ACCD-FA8B83C3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AA4F2-10D5-46EC-8A78-58DFAC7CE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BBD18-BFFC-456A-A27D-7F0730A26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2AB11-5739-485A-8417-3253B7A6E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4CDC-DAD3-47A0-8C88-EA5739F1B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5D68-2BA2-4807-AB6F-D9CC4F34C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CED2-DC72-4D80-8A5F-64B4D03DC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3397-C596-4B83-85A6-694DF9BF8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D86A-E33B-4E7E-B433-8C4284F7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9047-DA84-4C8A-ABDE-E4EBCD04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D5DAE-B81A-4699-A99A-B316D8B9604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E8821-E03E-4A94-9654-34522B76389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47A89-F176-4985-810F-C8E738CA9A6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3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F:\PPT 任务\水晶图片\抠图PNG\墨痕.png"/>
          <p:cNvPicPr/>
          <p:nvPr/>
        </p:nvPicPr>
        <p:blipFill>
          <a:blip r:embed="rId2"/>
          <a:stretch/>
        </p:blipFill>
        <p:spPr>
          <a:xfrm>
            <a:off x="539640" y="3070080"/>
            <a:ext cx="7859880" cy="1562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C:\Users\Soloman\Desktop\荷叶.png"/>
          <p:cNvPicPr/>
          <p:nvPr/>
        </p:nvPicPr>
        <p:blipFill>
          <a:blip r:embed="rId3"/>
          <a:srcRect l="83336" t="36378" r="2292" b="40012"/>
          <a:stretch/>
        </p:blipFill>
        <p:spPr>
          <a:xfrm>
            <a:off x="7273800" y="4630680"/>
            <a:ext cx="1906560" cy="23497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074760" y="2205000"/>
            <a:ext cx="33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中国风动态</a:t>
            </a: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/>
          <p:nvPr/>
        </p:nvSpPr>
        <p:spPr>
          <a:xfrm>
            <a:off x="2556000" y="2997360"/>
            <a:ext cx="43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3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3" descr="C:\Users\Soloman\Desktop\未标题-3.png"/>
          <p:cNvPicPr/>
          <p:nvPr/>
        </p:nvPicPr>
        <p:blipFill>
          <a:blip r:embed="rId2"/>
          <a:stretch/>
        </p:blipFill>
        <p:spPr>
          <a:xfrm rot="9305400">
            <a:off x="171000" y="1879560"/>
            <a:ext cx="3100320" cy="3098880"/>
          </a:xfrm>
          <a:prstGeom prst="rect">
            <a:avLst/>
          </a:prstGeom>
          <a:ln w="0">
            <a:noFill/>
          </a:ln>
        </p:spPr>
      </p:pic>
      <p:grpSp>
        <p:nvGrpSpPr>
          <p:cNvPr id="128" name=""/>
          <p:cNvGrpSpPr/>
          <p:nvPr/>
        </p:nvGrpSpPr>
        <p:grpSpPr>
          <a:xfrm>
            <a:off x="3276720" y="1125360"/>
            <a:ext cx="790560" cy="790920"/>
            <a:chOff x="3276720" y="1125360"/>
            <a:chExt cx="790560" cy="790920"/>
          </a:xfrm>
        </p:grpSpPr>
        <p:pic>
          <p:nvPicPr>
            <p:cNvPr id="129" name="Picture 4" descr="C:\Users\Soloman\Desktop\墨斑2.png"/>
            <p:cNvPicPr/>
            <p:nvPr/>
          </p:nvPicPr>
          <p:blipFill>
            <a:blip r:embed="rId3"/>
            <a:stretch/>
          </p:blipFill>
          <p:spPr>
            <a:xfrm>
              <a:off x="3276720" y="1125360"/>
              <a:ext cx="790560" cy="7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TextBox 4"/>
            <p:cNvSpPr/>
            <p:nvPr/>
          </p:nvSpPr>
          <p:spPr>
            <a:xfrm>
              <a:off x="3475440" y="12596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迷你繁赵楷"/>
                  <a:ea typeface="迷你繁赵楷"/>
                </a:rPr>
                <a:t>壹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3276720" y="2060640"/>
            <a:ext cx="790560" cy="792000"/>
            <a:chOff x="3276720" y="2060640"/>
            <a:chExt cx="790560" cy="792000"/>
          </a:xfrm>
        </p:grpSpPr>
        <p:pic>
          <p:nvPicPr>
            <p:cNvPr id="132" name="Picture 4" descr="C:\Users\Soloman\Desktop\墨斑2.png"/>
            <p:cNvPicPr/>
            <p:nvPr/>
          </p:nvPicPr>
          <p:blipFill>
            <a:blip r:embed="rId4"/>
            <a:stretch/>
          </p:blipFill>
          <p:spPr>
            <a:xfrm>
              <a:off x="3276720" y="2060640"/>
              <a:ext cx="79056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TextBox 12"/>
            <p:cNvSpPr/>
            <p:nvPr/>
          </p:nvSpPr>
          <p:spPr>
            <a:xfrm>
              <a:off x="3474720" y="21949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迷你简启体"/>
                  <a:ea typeface="迷你简启体"/>
                </a:rPr>
                <a:t>贰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276720" y="2997360"/>
            <a:ext cx="790560" cy="792000"/>
            <a:chOff x="3276720" y="2997360"/>
            <a:chExt cx="790560" cy="792000"/>
          </a:xfrm>
        </p:grpSpPr>
        <p:pic>
          <p:nvPicPr>
            <p:cNvPr id="135" name="Picture 4" descr="C:\Users\Soloman\Desktop\墨斑2.png"/>
            <p:cNvPicPr/>
            <p:nvPr/>
          </p:nvPicPr>
          <p:blipFill>
            <a:blip r:embed="rId5"/>
            <a:stretch/>
          </p:blipFill>
          <p:spPr>
            <a:xfrm>
              <a:off x="3276720" y="2997360"/>
              <a:ext cx="79056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Box 13"/>
            <p:cNvSpPr/>
            <p:nvPr/>
          </p:nvSpPr>
          <p:spPr>
            <a:xfrm>
              <a:off x="3474720" y="31316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迷你简启体"/>
                  <a:ea typeface="迷你简启体"/>
                </a:rPr>
                <a:t>叁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3276720" y="3933720"/>
            <a:ext cx="790560" cy="790560"/>
            <a:chOff x="3276720" y="3933720"/>
            <a:chExt cx="790560" cy="790560"/>
          </a:xfrm>
        </p:grpSpPr>
        <p:pic>
          <p:nvPicPr>
            <p:cNvPr id="138" name="Picture 4" descr="C:\Users\Soloman\Desktop\墨斑2.png"/>
            <p:cNvPicPr/>
            <p:nvPr/>
          </p:nvPicPr>
          <p:blipFill>
            <a:blip r:embed="rId6"/>
            <a:stretch/>
          </p:blipFill>
          <p:spPr>
            <a:xfrm>
              <a:off x="3276720" y="3933720"/>
              <a:ext cx="79056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Box 14"/>
            <p:cNvSpPr/>
            <p:nvPr/>
          </p:nvSpPr>
          <p:spPr>
            <a:xfrm>
              <a:off x="3474720" y="40676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迷你简启体"/>
                  <a:ea typeface="迷你简启体"/>
                </a:rPr>
                <a:t>肆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3276720" y="4869000"/>
            <a:ext cx="790560" cy="792000"/>
            <a:chOff x="3276720" y="4869000"/>
            <a:chExt cx="790560" cy="792000"/>
          </a:xfrm>
        </p:grpSpPr>
        <p:pic>
          <p:nvPicPr>
            <p:cNvPr id="141" name="Picture 4" descr="C:\Users\Soloman\Desktop\墨斑2.png"/>
            <p:cNvPicPr/>
            <p:nvPr/>
          </p:nvPicPr>
          <p:blipFill>
            <a:blip r:embed="rId7"/>
            <a:stretch/>
          </p:blipFill>
          <p:spPr>
            <a:xfrm>
              <a:off x="3276720" y="4869000"/>
              <a:ext cx="79056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Box 15"/>
            <p:cNvSpPr/>
            <p:nvPr/>
          </p:nvSpPr>
          <p:spPr>
            <a:xfrm>
              <a:off x="3474720" y="50032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迷你简启体"/>
                  <a:ea typeface="迷你简启体"/>
                </a:rPr>
                <a:t>伍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3" name="Picture 2" descr="C:\Users\Soloman\Desktop\荷叶.png"/>
          <p:cNvPicPr/>
          <p:nvPr/>
        </p:nvPicPr>
        <p:blipFill>
          <a:blip r:embed="rId8"/>
          <a:srcRect l="83336" t="36378" r="2292" b="40012"/>
          <a:stretch/>
        </p:blipFill>
        <p:spPr>
          <a:xfrm>
            <a:off x="8028000" y="5514840"/>
            <a:ext cx="1116000" cy="13748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"/>
          <p:cNvPicPr/>
          <p:nvPr/>
        </p:nvPicPr>
        <p:blipFill>
          <a:blip r:embed="rId9"/>
          <a:stretch/>
        </p:blipFill>
        <p:spPr>
          <a:xfrm>
            <a:off x="465120" y="2801880"/>
            <a:ext cx="2511360" cy="16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C:\Users\Soloman\Desktop\荷叶.png"/>
          <p:cNvPicPr/>
          <p:nvPr/>
        </p:nvPicPr>
        <p:blipFill>
          <a:blip r:embed="rId2"/>
          <a:srcRect l="83336" t="36378" r="2292" b="40012"/>
          <a:stretch/>
        </p:blipFill>
        <p:spPr>
          <a:xfrm>
            <a:off x="8028000" y="5514840"/>
            <a:ext cx="1116000" cy="13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幻灯片之家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ADAE6-8273-4F0B-8CF4-45BB4A61895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2T06:35:28Z</dcterms:created>
  <dc:creator/>
  <dc:description/>
  <dc:language>en-US</dc:language>
  <cp:lastModifiedBy>Peng Jinfeng</cp:lastModifiedBy>
  <dcterms:modified xsi:type="dcterms:W3CDTF">2015-07-04T06:19:59Z</dcterms:modified>
  <cp:revision>2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