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5AD2-7600-453A-9C01-3CD8ADBD3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5986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724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FB66-E5BE-4EC3-873C-FD2350BB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5986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733F-CDBB-4345-93EA-045734BA3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5986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7093-9456-4FDF-BC9C-94EBE488F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FFD4-7485-44D8-9F26-38714ED92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5986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C04E-E756-44E0-BBE6-3BB58689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5986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D84D-2902-45BF-BB3F-D9E3490E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5986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F707-888C-4BD7-B503-297766C2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5986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3AD8-9C67-455C-9629-293B5634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701440" y="274320"/>
            <a:ext cx="598644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6E33-9DC1-43F6-9D3D-BCBA2160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5986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D405-F0A5-443E-838A-2E6C5F05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5986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FB5A-CCC9-4649-B70E-D9B8F76C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5986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130F-AC22-4838-BDDF-EFEFF990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5986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9AF3-FB3C-4B9D-9B7F-933614BA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5986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724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27B2-FC6C-4091-9FFC-F5185CCC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5986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F33A-509A-4ED4-97FB-6E941C47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5986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1C39-7DE2-48E2-A9C5-11FD405CB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5986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C234-7807-41B6-9A95-41AB5F7A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5986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1300-57FD-421B-BCA1-7EC96F2C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5986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B4A1-27D1-43C2-8E0E-9C68D3A7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701440" y="274320"/>
            <a:ext cx="598644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89F7-A25C-4E35-8B33-2D27C6FD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5986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A1F7-DA81-42E5-9328-7DF50F94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5986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F816-132F-4454-956D-AD5573DA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5986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01C4-3712-4642-B1ED-93805F41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19282" t="47367" r="54942" b="32551"/>
          <a:stretch/>
        </p:blipFill>
        <p:spPr>
          <a:xfrm>
            <a:off x="0" y="0"/>
            <a:ext cx="2809800" cy="1368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5986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EE3C-8573-4E85-A50E-1FB9A08D2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rcRect l="56668" t="0" r="14820" b="0"/>
          <a:stretch/>
        </p:blipFill>
        <p:spPr>
          <a:xfrm>
            <a:off x="7077240" y="1341360"/>
            <a:ext cx="2606400" cy="571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0" t="0" r="16332" b="0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4510080"/>
            <a:ext cx="6408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0F85-8FE6-4264-9AE5-5623D4CEE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4510080"/>
            <a:ext cx="6408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中国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9640" y="5376960"/>
            <a:ext cx="3889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1440" y="274320"/>
            <a:ext cx="5986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DE42-AC52-4637-A97A-D9CF37BA5E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52:57Z</dcterms:created>
  <dc:creator/>
  <dc:description/>
  <dc:language>en-US</dc:language>
  <cp:lastModifiedBy/>
  <dcterms:modified xsi:type="dcterms:W3CDTF">2015-07-04T06:22:0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