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496-054E-404D-BEA8-909BD477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39C-1BAC-4E97-8B27-735A95C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D6B-5154-40A7-9BA0-5B78918E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712-052F-4C2B-A4C6-D2F71E1D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7F94-0C53-4CB8-8ADC-EFEA420F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C22D-F2BE-476C-8CB7-927B881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3E70-F964-4D20-8CF3-4353365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1354-5267-4341-9593-CA840AFE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4C6-E2CB-4148-8D51-B3A13455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A3EC-1514-4A50-9ACF-8A80A9C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E530-492C-4124-B718-A3EB663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B7A-DEDA-4F50-B8B4-B357848B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3D4-5478-436F-A609-E07A665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409-FCCF-4838-A0B2-9C4916C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555-DC7D-44C3-884D-16C0869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BB95-C0FD-4BEC-9F58-78735EF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5074-B31A-41F7-AB88-5206D63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D75-3C1B-4BF5-B137-558A7F25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74E-6B1D-42E5-AEF5-0F01D7D8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399-4915-4218-931F-3A98CF0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293-FA8B-4CEF-A5F9-1E71EA8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859-B55C-41C2-AF15-082DEA4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AE8-42E8-44B3-9885-A18CFCC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F74-7CDF-420E-9081-9D4A77A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4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>
              <a:off x="289080" y="227880"/>
              <a:ext cx="826560" cy="826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0C93-278D-4CE7-81EB-BA2E2B4F4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FD78-112D-4F66-84AB-F91168A6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52" name="Rectangle 9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008080" y="1170000"/>
            <a:ext cx="1494000" cy="1494000"/>
            <a:chOff x="2008080" y="1170000"/>
            <a:chExt cx="1494000" cy="1494000"/>
          </a:xfrm>
        </p:grpSpPr>
        <p:sp>
          <p:nvSpPr>
            <p:cNvPr id="57" name="Oval 14"/>
            <p:cNvSpPr/>
            <p:nvPr/>
          </p:nvSpPr>
          <p:spPr>
            <a:xfrm>
              <a:off x="2008080" y="1170000"/>
              <a:ext cx="1494000" cy="14940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2103480" y="1260360"/>
              <a:ext cx="129528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60" name="Oval 17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4336920" y="4707720"/>
              <a:ext cx="924840" cy="92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888840" y="2752200"/>
            <a:ext cx="65548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840" y="2752200"/>
            <a:ext cx="65548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风青花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9480" y="3778200"/>
            <a:ext cx="56592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09760" y="1734480"/>
            <a:ext cx="4792680" cy="789480"/>
            <a:chOff x="2309760" y="1734480"/>
            <a:chExt cx="4792680" cy="789480"/>
          </a:xfrm>
        </p:grpSpPr>
        <p:sp>
          <p:nvSpPr>
            <p:cNvPr id="104" name="Line 5"/>
            <p:cNvSpPr/>
            <p:nvPr/>
          </p:nvSpPr>
          <p:spPr>
            <a:xfrm>
              <a:off x="2554200" y="23968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6" descr="小花纹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 flipH="1" rot="2104200">
              <a:off x="6516360" y="18061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2309760" y="2197080"/>
              <a:ext cx="316080" cy="326880"/>
              <a:chOff x="2309760" y="2197080"/>
              <a:chExt cx="316080" cy="326880"/>
            </a:xfrm>
          </p:grpSpPr>
          <p:sp>
            <p:nvSpPr>
              <p:cNvPr id="107" name="Oval 8"/>
              <p:cNvSpPr/>
              <p:nvPr/>
            </p:nvSpPr>
            <p:spPr>
              <a:xfrm>
                <a:off x="2309760" y="21970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9"/>
              <p:cNvSpPr/>
              <p:nvPr/>
            </p:nvSpPr>
            <p:spPr>
              <a:xfrm>
                <a:off x="2342880" y="22323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2377440" y="22676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2412360" y="23022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12"/>
          <p:cNvSpPr/>
          <p:nvPr/>
        </p:nvSpPr>
        <p:spPr>
          <a:xfrm>
            <a:off x="2865600" y="190008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322360" y="2458440"/>
            <a:ext cx="4792680" cy="789480"/>
            <a:chOff x="2322360" y="2458440"/>
            <a:chExt cx="4792680" cy="789480"/>
          </a:xfrm>
        </p:grpSpPr>
        <p:sp>
          <p:nvSpPr>
            <p:cNvPr id="113" name="Line 53"/>
            <p:cNvSpPr/>
            <p:nvPr/>
          </p:nvSpPr>
          <p:spPr>
            <a:xfrm>
              <a:off x="2566800" y="31208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54" descr="小花纹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 flipH="1" rot="2104200">
              <a:off x="6528960" y="25300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2322360" y="2921040"/>
              <a:ext cx="316080" cy="326880"/>
              <a:chOff x="2322360" y="2921040"/>
              <a:chExt cx="316080" cy="326880"/>
            </a:xfrm>
          </p:grpSpPr>
          <p:sp>
            <p:nvSpPr>
              <p:cNvPr id="116" name="Oval 56"/>
              <p:cNvSpPr/>
              <p:nvPr/>
            </p:nvSpPr>
            <p:spPr>
              <a:xfrm>
                <a:off x="2322360" y="29210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7"/>
              <p:cNvSpPr/>
              <p:nvPr/>
            </p:nvSpPr>
            <p:spPr>
              <a:xfrm>
                <a:off x="2355480" y="29563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8"/>
              <p:cNvSpPr/>
              <p:nvPr/>
            </p:nvSpPr>
            <p:spPr>
              <a:xfrm>
                <a:off x="2390040" y="29916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9"/>
              <p:cNvSpPr/>
              <p:nvPr/>
            </p:nvSpPr>
            <p:spPr>
              <a:xfrm>
                <a:off x="2424960" y="30261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60"/>
          <p:cNvSpPr/>
          <p:nvPr/>
        </p:nvSpPr>
        <p:spPr>
          <a:xfrm>
            <a:off x="2878200" y="26240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35320" y="3271320"/>
            <a:ext cx="4792680" cy="789480"/>
            <a:chOff x="2335320" y="3271320"/>
            <a:chExt cx="4792680" cy="789480"/>
          </a:xfrm>
        </p:grpSpPr>
        <p:sp>
          <p:nvSpPr>
            <p:cNvPr id="122" name="Line 62"/>
            <p:cNvSpPr/>
            <p:nvPr/>
          </p:nvSpPr>
          <p:spPr>
            <a:xfrm>
              <a:off x="2579760" y="39337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63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541920" y="33429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2335320" y="3733920"/>
              <a:ext cx="316080" cy="326880"/>
              <a:chOff x="2335320" y="3733920"/>
              <a:chExt cx="316080" cy="326880"/>
            </a:xfrm>
          </p:grpSpPr>
          <p:sp>
            <p:nvSpPr>
              <p:cNvPr id="125" name="Oval 65"/>
              <p:cNvSpPr/>
              <p:nvPr/>
            </p:nvSpPr>
            <p:spPr>
              <a:xfrm>
                <a:off x="2335320" y="37339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66"/>
              <p:cNvSpPr/>
              <p:nvPr/>
            </p:nvSpPr>
            <p:spPr>
              <a:xfrm>
                <a:off x="2368440" y="37692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67"/>
              <p:cNvSpPr/>
              <p:nvPr/>
            </p:nvSpPr>
            <p:spPr>
              <a:xfrm>
                <a:off x="2403000" y="38044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8"/>
              <p:cNvSpPr/>
              <p:nvPr/>
            </p:nvSpPr>
            <p:spPr>
              <a:xfrm>
                <a:off x="2437920" y="38390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69"/>
          <p:cNvSpPr/>
          <p:nvPr/>
        </p:nvSpPr>
        <p:spPr>
          <a:xfrm>
            <a:off x="2890800" y="343692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35320" y="4058640"/>
            <a:ext cx="4792680" cy="789480"/>
            <a:chOff x="2335320" y="4058640"/>
            <a:chExt cx="4792680" cy="789480"/>
          </a:xfrm>
        </p:grpSpPr>
        <p:sp>
          <p:nvSpPr>
            <p:cNvPr id="131" name="Line 71"/>
            <p:cNvSpPr/>
            <p:nvPr/>
          </p:nvSpPr>
          <p:spPr>
            <a:xfrm>
              <a:off x="2579760" y="47210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72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541920" y="41302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2335320" y="4521240"/>
              <a:ext cx="316080" cy="326880"/>
              <a:chOff x="2335320" y="4521240"/>
              <a:chExt cx="316080" cy="326880"/>
            </a:xfrm>
          </p:grpSpPr>
          <p:sp>
            <p:nvSpPr>
              <p:cNvPr id="134" name="Oval 74"/>
              <p:cNvSpPr/>
              <p:nvPr/>
            </p:nvSpPr>
            <p:spPr>
              <a:xfrm>
                <a:off x="2335320" y="45212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75"/>
              <p:cNvSpPr/>
              <p:nvPr/>
            </p:nvSpPr>
            <p:spPr>
              <a:xfrm>
                <a:off x="2368440" y="45565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76"/>
              <p:cNvSpPr/>
              <p:nvPr/>
            </p:nvSpPr>
            <p:spPr>
              <a:xfrm>
                <a:off x="2403000" y="45918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77"/>
              <p:cNvSpPr/>
              <p:nvPr/>
            </p:nvSpPr>
            <p:spPr>
              <a:xfrm>
                <a:off x="2437920" y="46263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Text Box 78"/>
          <p:cNvSpPr/>
          <p:nvPr/>
        </p:nvSpPr>
        <p:spPr>
          <a:xfrm>
            <a:off x="2890800" y="422424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5"/>
          <p:cNvSpPr/>
          <p:nvPr/>
        </p:nvSpPr>
        <p:spPr>
          <a:xfrm>
            <a:off x="766800" y="1504800"/>
            <a:ext cx="75564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4" descr="花纹"/>
          <p:cNvPicPr/>
          <p:nvPr/>
        </p:nvPicPr>
        <p:blipFill>
          <a:blip r:embed="rId1"/>
          <a:stretch/>
        </p:blipFill>
        <p:spPr>
          <a:xfrm>
            <a:off x="595440" y="3762360"/>
            <a:ext cx="1404720" cy="18734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46"/>
          <p:cNvSpPr/>
          <p:nvPr/>
        </p:nvSpPr>
        <p:spPr>
          <a:xfrm>
            <a:off x="1182600" y="126216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1281240" y="129708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rc 2"/>
          <p:cNvSpPr/>
          <p:nvPr/>
        </p:nvSpPr>
        <p:spPr>
          <a:xfrm>
            <a:off x="-7920" y="1555920"/>
            <a:ext cx="2208240" cy="3822480"/>
          </a:xfrm>
          <a:prstGeom prst="pie">
            <a:avLst/>
          </a:prstGeom>
          <a:solidFill>
            <a:srgbClr val="ffffff">
              <a:alpha val="17000"/>
            </a:srgbClr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1833480"/>
            <a:ext cx="2497320" cy="3341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558800" y="1398600"/>
            <a:ext cx="692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163600" y="2367000"/>
            <a:ext cx="645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2235240" y="3422520"/>
            <a:ext cx="6454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698480" y="4565520"/>
            <a:ext cx="6924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4"/>
          <p:cNvSpPr/>
          <p:nvPr/>
        </p:nvSpPr>
        <p:spPr>
          <a:xfrm>
            <a:off x="2260440" y="3265560"/>
            <a:ext cx="4505400" cy="614160"/>
          </a:xfrm>
          <a:prstGeom prst="rect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5000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94"/>
          <p:cNvSpPr/>
          <p:nvPr/>
        </p:nvSpPr>
        <p:spPr>
          <a:xfrm>
            <a:off x="0" y="1193760"/>
            <a:ext cx="2394000" cy="4788000"/>
          </a:xfrm>
          <a:prstGeom prst="pie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3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38040" y="1771560"/>
            <a:ext cx="2496960" cy="3341880"/>
          </a:xfrm>
          <a:prstGeom prst="rect">
            <a:avLst/>
          </a:prstGeom>
          <a:ln w="0">
            <a:noFill/>
          </a:ln>
        </p:spPr>
      </p:pic>
      <p:sp>
        <p:nvSpPr>
          <p:cNvPr id="155" name="Arc 98"/>
          <p:cNvSpPr/>
          <p:nvPr/>
        </p:nvSpPr>
        <p:spPr>
          <a:xfrm flipH="1" rot="21465600">
            <a:off x="6660360" y="1119240"/>
            <a:ext cx="2494080" cy="4788000"/>
          </a:xfrm>
          <a:prstGeom prst="pie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106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9" descr="花纹"/>
          <p:cNvPicPr/>
          <p:nvPr/>
        </p:nvPicPr>
        <p:blipFill>
          <a:blip r:embed="rId2">
            <a:lum bright="70000" contrast="-70000"/>
          </a:blip>
          <a:stretch/>
        </p:blipFill>
        <p:spPr>
          <a:xfrm flipH="1" rot="21463200">
            <a:off x="6869160" y="1865160"/>
            <a:ext cx="2679480" cy="3341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5"/>
          <p:cNvSpPr/>
          <p:nvPr/>
        </p:nvSpPr>
        <p:spPr>
          <a:xfrm>
            <a:off x="3184560" y="336060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6"/>
          <p:cNvSpPr/>
          <p:nvPr/>
        </p:nvSpPr>
        <p:spPr>
          <a:xfrm>
            <a:off x="2200320" y="189540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7"/>
          <p:cNvSpPr/>
          <p:nvPr/>
        </p:nvSpPr>
        <p:spPr>
          <a:xfrm>
            <a:off x="2273400" y="424008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8" descr="花纹1"/>
          <p:cNvPicPr/>
          <p:nvPr/>
        </p:nvPicPr>
        <p:blipFill>
          <a:blip r:embed="rId3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0560" y="36385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0640" y="1362240"/>
            <a:ext cx="8125560" cy="2071080"/>
            <a:chOff x="440640" y="1362240"/>
            <a:chExt cx="8125560" cy="2071080"/>
          </a:xfrm>
        </p:grpSpPr>
        <p:sp>
          <p:nvSpPr>
            <p:cNvPr id="164" name="Rectangle 11"/>
            <p:cNvSpPr/>
            <p:nvPr/>
          </p:nvSpPr>
          <p:spPr>
            <a:xfrm>
              <a:off x="444600" y="2036520"/>
              <a:ext cx="8121600" cy="72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ff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40640" y="1362240"/>
              <a:ext cx="1091160" cy="2071080"/>
              <a:chOff x="440640" y="1362240"/>
              <a:chExt cx="1091160" cy="2071080"/>
            </a:xfrm>
          </p:grpSpPr>
          <p:pic>
            <p:nvPicPr>
              <p:cNvPr id="166" name="Picture 13" descr="未标题-12"/>
              <p:cNvPicPr/>
              <p:nvPr/>
            </p:nvPicPr>
            <p:blipFill>
              <a:blip r:embed="rId1"/>
              <a:stretch/>
            </p:blipFill>
            <p:spPr>
              <a:xfrm rot="98400">
                <a:off x="456120" y="231480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5" descr="未标题-12"/>
              <p:cNvPicPr/>
              <p:nvPr/>
            </p:nvPicPr>
            <p:blipFill>
              <a:blip r:embed="rId2"/>
              <a:stretch/>
            </p:blipFill>
            <p:spPr>
              <a:xfrm flipH="1" rot="10899000">
                <a:off x="460440" y="137700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8" name="Rectangle 18"/>
          <p:cNvSpPr/>
          <p:nvPr/>
        </p:nvSpPr>
        <p:spPr>
          <a:xfrm>
            <a:off x="1487520" y="193356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1606680" y="3951360"/>
            <a:ext cx="7537320" cy="72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3080" y="3276720"/>
            <a:ext cx="1090800" cy="2071080"/>
            <a:chOff x="1603080" y="3276720"/>
            <a:chExt cx="1090800" cy="2071080"/>
          </a:xfrm>
        </p:grpSpPr>
        <p:pic>
          <p:nvPicPr>
            <p:cNvPr id="171" name="Picture 22" descr="未标题-12"/>
            <p:cNvPicPr/>
            <p:nvPr/>
          </p:nvPicPr>
          <p:blipFill>
            <a:blip r:embed="rId3"/>
            <a:stretch/>
          </p:blipFill>
          <p:spPr>
            <a:xfrm rot="98400">
              <a:off x="1618560" y="4229280"/>
              <a:ext cx="10555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3" descr="未标题-12"/>
            <p:cNvPicPr/>
            <p:nvPr/>
          </p:nvPicPr>
          <p:blipFill>
            <a:blip r:embed="rId4"/>
            <a:stretch/>
          </p:blipFill>
          <p:spPr>
            <a:xfrm flipH="1" rot="10899000">
              <a:off x="1622520" y="3291480"/>
              <a:ext cx="105552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Rectangle 24"/>
          <p:cNvSpPr/>
          <p:nvPr/>
        </p:nvSpPr>
        <p:spPr>
          <a:xfrm>
            <a:off x="2649600" y="3848040"/>
            <a:ext cx="6256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257640" y="1276200"/>
            <a:ext cx="1490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D47-64CB-483E-9FE1-F0122DFB1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2:57:25Z</dcterms:created>
  <dc:creator/>
  <dc:description/>
  <dc:language>en-US</dc:language>
  <cp:lastModifiedBy>微软用户</cp:lastModifiedBy>
  <dcterms:modified xsi:type="dcterms:W3CDTF">2015-07-04T06:17:26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