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4F2-7AC9-478A-AD12-D172C593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05F-F873-4D50-B017-C59F1D29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792-264A-4FBF-B126-E9D74C77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881-C7B9-4F4A-89BF-DEA42C59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BAC6-897D-41CC-BE1E-48CF64B8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33E6-6911-4F83-8896-3EFCC301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CE0D-8021-4DCD-9AA6-74E6D384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356D-0ACA-494E-81EE-8119721A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0F71-001D-4357-BB96-F499D94B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9E56-DB74-41D1-8261-66D60359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280B-DE71-4201-9374-A99248F9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352-72AC-4FD7-A4C2-68A4BDA0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18E8-969C-454B-8F2B-18A4763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01FD-C60F-402F-B7A3-DAD9A0F9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034C-8B2C-4DD2-BFE4-FB5DBBD7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3071-F5C7-47DB-BBAD-3C4CAB04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69D8-B2F6-4D80-8227-7F768426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B24-B9C3-43FD-B77B-97B5982F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268-32FB-4E3B-97D2-ED8B0284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778-1314-49FB-8E52-1DA18BC2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771-4ED7-444A-B7A1-3275B85E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068-0505-4FA7-A6E5-C8221F50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E5E-4AD1-412A-B8F7-44FCA47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3DF-A83A-4619-B765-27E9CD8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BF5D-303A-4865-8FFF-4B6C09862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B8B9-116B-4026-9BDC-AE72E1516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55600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中国风水墨菊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20600" y="3440160"/>
            <a:ext cx="396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行楷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华文行楷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/>
          <p:nvPr/>
        </p:nvSpPr>
        <p:spPr>
          <a:xfrm>
            <a:off x="7507440" y="478152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迷你简柏青"/>
                <a:ea typeface="迷你简柏青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351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971800" y="280044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4E2-0E33-4EFC-883A-6320B0BEAB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29:51Z</dcterms:created>
  <dc:creator/>
  <dc:description/>
  <dc:language>en-US</dc:language>
  <cp:lastModifiedBy>Administrator</cp:lastModifiedBy>
  <dcterms:modified xsi:type="dcterms:W3CDTF">2015-07-04T06:15:48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