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3F76-FDB7-40A2-ACC2-64BB7F3E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836C-706A-4E5F-BDA5-585071DA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FEB-DF32-40B0-BA87-7871711F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58C8-F7DC-42C8-8EA6-953BCD118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DE3C-3482-47F3-8021-C80F96D7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9636-253C-45D6-8C38-64C45B2C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97FF-E788-49BC-958F-42CC6759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A69C-3C90-4FF8-B838-483E864F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D0D7-F898-4B19-AD78-4F75711D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DDE4-5871-49BB-A11C-4BC7751D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7B34-7C3D-42E7-9B10-C6033BD1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D68E-B1DD-4176-B58E-371EDA6C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44A3-E50C-49AF-96F5-64D70D40C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国风水墨兰花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69760" y="3886200"/>
            <a:ext cx="51433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768E-30D4-4921-8175-A6B61B1F91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3:00:25Z</dcterms:created>
  <dc:creator>Administrator</dc:creator>
  <dc:description/>
  <dc:language>en-US</dc:language>
  <cp:lastModifiedBy/>
  <dcterms:modified xsi:type="dcterms:W3CDTF">2015-07-04T06:15:2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