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3EA86-2E0D-4FCC-971D-39BDC76D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8E87C-6497-4640-814C-E9171C4B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54795-7094-48E6-938E-444B4321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01E62-8196-4BCE-B4FD-2FC79FC0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61627-BE55-4AA6-95CB-097EF155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2AB82-34E6-49E5-A8F5-82802E80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4B48C-A562-4280-BA88-03D6EFCB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4134-542B-4F92-BA90-9567D599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3AA8B-85C2-44C5-9D9B-613C701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B6AF1-68F9-4033-AB53-E1ACEA92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4C122-1983-4A72-AEB7-C5ABA911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3873A-7D2E-4169-BEA0-C19DACD6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FA7B1-54FD-454A-9267-E3B88581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80A0E-74CD-40B5-B6F4-C484610F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C06EB-F26E-47C8-BB2D-CDA92F3A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C51AC-A8A2-49DE-8B35-091DBBB7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203BD-5719-4D08-B143-0765ACBD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E28F8-10EB-4357-A1B3-C764CD3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CF71F-410D-4A99-9ECD-33EC9400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86D78-B4B5-41B6-BBF3-3C7ED6EF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D7AB3-3713-40E2-9B8A-C12F365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601E1-31E1-4F86-8691-AE5844DE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F5CBF-0C6E-4134-ABEA-98CAD69A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A6A23-391F-40AE-912B-C88E4204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EEA7D-8C5F-4588-A8C0-08D7749E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F669F-66D1-43A2-A295-FE251B48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45A46-2CDA-43F9-AAC6-98E40BF3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165D0-167C-44DE-B228-35B679B5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405A1-37A4-4C61-8866-2585B2E0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A307E-A97D-4041-8B5E-F207A653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31DF9-7E35-461E-8566-2DD8371C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ADDB8-2053-4DF0-9452-CB073D7E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A837AA-CA7B-4A6A-A05E-BAF36A76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F5639-8676-49B4-9FAB-66461D2F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C1577-40AE-43B1-B321-64C6A4AE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61CA9-2D29-465E-B7CF-CA4FCE9E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75760"/>
            <a:ext cx="7788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4440"/>
            <a:ext cx="8229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97800" y="4419720"/>
            <a:ext cx="1484280" cy="2438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55520" y="-142560"/>
            <a:ext cx="6066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楷体"/>
              </a:rPr>
              <a:t>未与群芳同温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楷体"/>
              </a:rPr>
              <a:t>却在枝头独欢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FD73-37A8-4F13-9C57-08C939170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7960" cy="24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BBF8-F074-4F8C-B5AD-381CA3A11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MLMTO_bangbangtang_20100208012210991642abe99c8182" descr=""/>
          <p:cNvPicPr/>
          <p:nvPr/>
        </p:nvPicPr>
        <p:blipFill>
          <a:blip r:embed="rId2"/>
          <a:stretch/>
        </p:blipFill>
        <p:spPr>
          <a:xfrm>
            <a:off x="34920" y="4581360"/>
            <a:ext cx="1409760" cy="224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9C7B-BA34-4E87-8799-73BAF2925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MLMTO_bangbangtang_20100208013157ba92b7aef298a76d" descr=""/>
          <p:cNvPicPr/>
          <p:nvPr/>
        </p:nvPicPr>
        <p:blipFill>
          <a:blip r:embed="rId2"/>
          <a:stretch/>
        </p:blipFill>
        <p:spPr>
          <a:xfrm>
            <a:off x="34920" y="4686480"/>
            <a:ext cx="1409760" cy="203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风水墨梅兰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75760"/>
            <a:ext cx="7788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6381720"/>
            <a:ext cx="682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799D8-1EF3-4073-9665-C30D955F3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3:55:20Z</dcterms:created>
  <dc:creator>Administrator</dc:creator>
  <dc:description/>
  <dc:language>en-US</dc:language>
  <cp:lastModifiedBy/>
  <dcterms:modified xsi:type="dcterms:W3CDTF">2015-07-04T06:14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