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6F0-410A-4BE5-B79F-8DEE04F6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96D-2FDD-4A2F-A35F-7E409708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9EAA-551B-4E05-B949-74C159F9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0140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8384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1896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0140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8384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D08-6AD1-4D1A-86F0-582964FA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2576-FC57-4AE9-93DE-AB30352C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6CEF-7646-45A7-9677-BD7320F6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A4B2-CF65-437F-8C2F-7C5C31C5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1DB4-1433-46AD-B01F-3035282D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9289-1B09-4739-AB69-83E37B10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9975-6313-499B-8868-21D35438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D6D8-D43F-4208-8C70-F9DCBDAD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5A9-429D-4BB7-B327-11BBAE51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982D-03B8-426D-ADAF-4241292F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F2C8-658D-495E-883E-359E4096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FC89-04C9-4111-B7FB-6E0BAE8C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5551-1E7C-4216-95B1-58BB088D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0140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8384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1896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0140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8384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A221-0E66-4AA6-AA6E-8E0D7049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4279B-2FE6-464C-A5D4-00FEC090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69AC2-7445-49EB-8B5F-8CA34A7D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34BF5-74C4-4DFD-901B-7EE9FC4B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FFCE7-8269-4C07-90DC-E42E7B71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CC40D-827B-4B42-9E46-37E6C3E6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D4B-DACF-48BC-B835-25DDA78E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11B29-3330-45F0-86BF-8AE5510E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F94E3-1E11-4FB0-B448-44439D1B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BCCF9-756F-4412-BC47-24BFE8BE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ADBC0-A423-4AF2-B1A8-D370EB75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96EF8-3789-41F8-8E2C-F0E5769D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DC1AB-C01F-4C2A-AD3E-FE49E881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0140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88384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1896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0140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88384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3FDCC-51B1-413C-85A6-8AD8ED14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2CB04-F6B6-41DE-92AF-40ED60DC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46683-F6D5-40CF-850C-0C17A92F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8BB5F-538E-4EF5-A55F-EE62C4BE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280-C004-4E59-ADA9-DE629165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9F943-EE81-43EA-B84D-6EE6FC38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A275F-8777-43CE-9B70-7CBBCA67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B5F4B-ECEA-41C7-BF64-9FFA97D3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D8A53-BD11-4C7F-A7FD-DA4D793B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13330-B263-4E87-B82F-73CFCEFA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FDAD8-92F1-47FB-8967-D9BD1EF2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F27BC-277B-4A78-9715-E44ADE2B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777B4-41F2-45EB-A5BD-E607CA09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10140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88384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1896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10140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88384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B0BB7-5689-429E-908D-F2108613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5938-8D9E-42AE-B271-4F85A5FF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6A1-A17C-42B0-A9AE-A904E55B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36E-31BD-4A22-A4D4-4E5881C8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D9B0-4463-42C1-806D-8B37F6B2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E815-4DAD-47AF-BB78-84933932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5791320"/>
            <a:ext cx="289584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F1F1-3171-4463-A02A-C7E237E48F1B}" type="slidenum"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797960" y="763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rcRect l="26151" t="28126" r="42945" b="55469"/>
          <a:stretch/>
        </p:blipFill>
        <p:spPr>
          <a:xfrm>
            <a:off x="-69840" y="-31680"/>
            <a:ext cx="1974960" cy="15937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115040" y="3352680"/>
            <a:ext cx="2028960" cy="27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1905120"/>
            <a:ext cx="6934320" cy="2743200"/>
            <a:chOff x="0" y="1905120"/>
            <a:chExt cx="6934320" cy="2743200"/>
          </a:xfrm>
        </p:grpSpPr>
        <p:sp>
          <p:nvSpPr>
            <p:cNvPr id="46" name=""/>
            <p:cNvSpPr/>
            <p:nvPr/>
          </p:nvSpPr>
          <p:spPr>
            <a:xfrm>
              <a:off x="0" y="1905120"/>
              <a:ext cx="4191120" cy="27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2280" y="1905120"/>
              <a:ext cx="6782040" cy="2743200"/>
            </a:xfrm>
            <a:prstGeom prst="flowChartAlternateProcess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640080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5715000"/>
            <a:ext cx="21337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5715000"/>
            <a:ext cx="28958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5715000"/>
            <a:ext cx="21337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4227-846C-4CC3-94E0-C80DB2D9F321}" type="slidenum"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28255" t="39380" r="47658" b="23779"/>
          <a:stretch/>
        </p:blipFill>
        <p:spPr>
          <a:xfrm rot="2737200">
            <a:off x="2673360" y="755280"/>
            <a:ext cx="2349360" cy="2362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28255" t="39380" r="60809" b="30911"/>
          <a:stretch/>
        </p:blipFill>
        <p:spPr>
          <a:xfrm rot="2395200">
            <a:off x="926640" y="4038480"/>
            <a:ext cx="106704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rcRect l="28255" t="59587" r="47658" b="23779"/>
          <a:stretch/>
        </p:blipFill>
        <p:spPr>
          <a:xfrm rot="10489800">
            <a:off x="3504960" y="152280"/>
            <a:ext cx="2349360" cy="1067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 rot="1034400">
            <a:off x="5522760" y="284796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3505320" y="1905120"/>
            <a:ext cx="20286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543800" y="228600"/>
            <a:ext cx="533520" cy="533520"/>
          </a:xfrm>
          <a:custGeom>
            <a:avLst/>
            <a:gdLst>
              <a:gd name="textAreaLeft" fmla="*/ 219960 w 533520"/>
              <a:gd name="textAreaRight" fmla="*/ 313560 w 53352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69080" y="673200"/>
            <a:ext cx="380880" cy="380880"/>
          </a:xfrm>
          <a:custGeom>
            <a:avLst/>
            <a:gdLst>
              <a:gd name="textAreaLeft" fmla="*/ 156960 w 380880"/>
              <a:gd name="textAreaRight" fmla="*/ 223920 w 38088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762120"/>
            <a:ext cx="380880" cy="380880"/>
          </a:xfrm>
          <a:custGeom>
            <a:avLst/>
            <a:gdLst>
              <a:gd name="textAreaLeft" fmla="*/ 156960 w 380880"/>
              <a:gd name="textAreaRight" fmla="*/ 223920 w 38088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425960"/>
            <a:ext cx="822924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5791320"/>
            <a:ext cx="289584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1F98-5E90-4720-81E5-A72E0505F783}" type="slidenum"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899480" y="21600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26151" t="28126" r="42945" b="55469"/>
          <a:stretch/>
        </p:blipFill>
        <p:spPr>
          <a:xfrm>
            <a:off x="-69840" y="-69840"/>
            <a:ext cx="1974960" cy="1593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115040" y="3352680"/>
            <a:ext cx="2028960" cy="27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5791320"/>
            <a:ext cx="289584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272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C8BA-AEBB-4277-B3D9-00C4C44720D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rcRect l="26151" t="28126" r="42945" b="55469"/>
          <a:stretch/>
        </p:blipFill>
        <p:spPr>
          <a:xfrm>
            <a:off x="-69840" y="-69840"/>
            <a:ext cx="1974960" cy="1593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 rot="850200">
            <a:off x="7608960" y="289080"/>
            <a:ext cx="1305000" cy="1304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7115040" y="3352680"/>
            <a:ext cx="2028960" cy="27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640080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中国风扇艺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28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68120"/>
            <a:ext cx="82072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000" y="1128600"/>
            <a:ext cx="892800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297000"/>
            <a:ext cx="1388880" cy="309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6BA8C-7C17-4601-8653-05E8C327D4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09:16:12Z</dcterms:created>
  <dc:creator/>
  <dc:description/>
  <dc:language>en-US</dc:language>
  <cp:lastModifiedBy>QC0506001</cp:lastModifiedBy>
  <dcterms:modified xsi:type="dcterms:W3CDTF">2015-07-04T06:16:20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