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71E-D4CC-4D74-9659-7C4D949E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A3D-4F11-4BF6-9067-1C1C32C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E30-C3ED-488E-B530-9EBD0EC7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023-B857-4169-94E9-3CD6C9C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08D-DC14-47BB-9BD1-B90886B5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5912-FC58-482E-A2C3-105FA837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903-6943-4FF6-A7F1-F1D0FF1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9BE4-D7F7-464F-991B-DF43B224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846B-8A10-4805-95C3-D7B66AF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BE88-7FC8-4B0B-812A-63ADB20A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9B4D-0256-4108-93AD-BCCBC2F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8F7-88BE-45B8-9319-C741050C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5DD-DD03-40B8-A259-7933D2BE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AFAE-3431-4674-87F4-F7F2067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FCF-BF6A-4C07-AEA3-147E9FB3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123B-008F-49C2-B659-E857B1BB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B332-3BB7-4B18-8F67-4799DE38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F8D-F3BF-457A-BEC7-0939327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587-366C-45C8-B148-9F5ED52C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684-3245-48C3-AED2-45CEA06B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393-8FB4-4DC7-9AE6-A3B5ABC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C54-7142-4698-A2E0-6977AA86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0F3-AA5F-4D1B-8092-C362CE71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B75-E62A-4D3D-8ECB-4224827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651D-9579-4F8D-93B4-B6C2E8C4BAE0}" type="slidenum"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080" y="371520"/>
            <a:ext cx="518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1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720E-5560-4F70-9A82-E54EFD38A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2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189000"/>
            <a:ext cx="12970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A45-13E1-4A2B-936A-ACF0AACCC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10:44Z</dcterms:created>
  <dc:creator>Administrator</dc:creator>
  <dc:description/>
  <dc:language>en-US</dc:language>
  <cp:lastModifiedBy/>
  <dcterms:modified xsi:type="dcterms:W3CDTF">2015-07-04T06:13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