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34900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34900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国水墨山水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57400" y="3792240"/>
            <a:ext cx="59356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4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638172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古典中国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09:34:54Z</dcterms:created>
  <dc:creator>Administrator</dc:creator>
  <dc:description/>
  <dc:language>en-US</dc:language>
  <cp:lastModifiedBy/>
  <dcterms:modified xsi:type="dcterms:W3CDTF">2015-07-04T06:12:1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