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BFDA-8170-4CB5-801C-246C18E3E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B3BA-5D21-4DFF-BF8B-A9D607DFD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ED53-F1D6-47E7-9785-2EDD4089E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966C-D833-46FB-932A-7294BFD28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60CE-88D0-45BB-A472-851F3838A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4D73-E391-4EAC-AE46-6606C763C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F6B7-D02E-43EE-BA7B-711DA13BF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F832-E6ED-4E84-A73C-C4A2D52E0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36DD-475F-4C1E-AEAA-B4171F7EF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52EE-93D9-4FAB-9D80-AA8B6808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33DB-AA5F-4533-AC81-722BBB0B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F61F-A890-43FE-A51C-85335A91B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3F682-6382-4716-89C3-945C33A52416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中国园林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模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3080" y="1630440"/>
            <a:ext cx="583236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Calibri"/>
              </a:rPr>
              <a:t>幻灯片之家 </a:t>
            </a:r>
            <a:r>
              <a:rPr b="1" lang="zh-CN" sz="1800" spc="-1" strike="noStrike">
                <a:solidFill>
                  <a:srgbClr val="1c1c1c"/>
                </a:solidFill>
                <a:latin typeface="Calibri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4272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401427"/>
                </a:solidFill>
                <a:latin typeface="Calibri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14272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请输入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请输入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401427"/>
                </a:solidFill>
                <a:latin typeface="Calibri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请输入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1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请输入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</a:t>
            </a:r>
            <a:r>
              <a:rPr b="1" lang="fr-FR" sz="15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为您提供幻灯片之家，有好看的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助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您轻松制作出精美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</a:t>
            </a:r>
            <a:r>
              <a:rPr b="1" lang="fr-FR" sz="15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505F-B7BB-4C85-A372-E355F80559E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2T19:59:36Z</dcterms:created>
  <dc:creator>Admin</dc:creator>
  <dc:description/>
  <dc:language>en-US</dc:language>
  <cp:lastModifiedBy>a</cp:lastModifiedBy>
  <dcterms:modified xsi:type="dcterms:W3CDTF">2015-07-04T06:09:30Z</dcterms:modified>
  <cp:revision>4</cp:revision>
  <dc:subject/>
  <dc:title>PRESENTATION  NA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