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47EF-3629-4DFF-81C8-F0844C5C1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82296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44200"/>
            <a:ext cx="82296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120B-A6DA-4349-B3FE-2F40D389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40158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857160"/>
            <a:ext cx="40158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44200"/>
            <a:ext cx="40158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44200"/>
            <a:ext cx="40158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B7D8-27C1-4DC1-A220-78C80492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26496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857160"/>
            <a:ext cx="26496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857160"/>
            <a:ext cx="26496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44200"/>
            <a:ext cx="26496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44200"/>
            <a:ext cx="26496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44200"/>
            <a:ext cx="26496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2C9C-438B-400C-B54D-11AA0B2E6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85716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40158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857160"/>
            <a:ext cx="40158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13840"/>
            <a:ext cx="822960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40158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857160"/>
            <a:ext cx="40158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544200"/>
            <a:ext cx="40158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85716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3339-1BBE-488B-86AF-F45EC488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40158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857160"/>
            <a:ext cx="40158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544200"/>
            <a:ext cx="40158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40158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857160"/>
            <a:ext cx="40158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44200"/>
            <a:ext cx="82296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82296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544200"/>
            <a:ext cx="82296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40158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857160"/>
            <a:ext cx="40158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44200"/>
            <a:ext cx="40158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544200"/>
            <a:ext cx="40158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26496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857160"/>
            <a:ext cx="26496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857160"/>
            <a:ext cx="26496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544200"/>
            <a:ext cx="26496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544200"/>
            <a:ext cx="26496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544200"/>
            <a:ext cx="26496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0741-F6ED-4AD8-BE2E-E6F11707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40158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857160"/>
            <a:ext cx="40158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797C-D51E-4922-BF11-1B076FA9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8195-488E-4346-B7C2-CC937F82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13840"/>
            <a:ext cx="822960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B375-EAB9-4C96-8AFB-0D8CA517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40158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857160"/>
            <a:ext cx="40158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44200"/>
            <a:ext cx="40158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6FB9-C118-4537-A437-05A7F981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40158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857160"/>
            <a:ext cx="40158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44200"/>
            <a:ext cx="40158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FF7C-83ED-4BD5-A06D-568E1DC4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40158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857160"/>
            <a:ext cx="40158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44200"/>
            <a:ext cx="82296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F614-B36F-42DF-85F4-ABA0B896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85716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07212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7212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2EF0-B9B0-4A8B-9FD2-E32B51773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85716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hyperlink" Target="http://www.eeppt.com/moban/jingpin/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14240" y="4911840"/>
            <a:ext cx="7786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f2f2"/>
                </a:solidFill>
                <a:latin typeface="华文细黑"/>
              </a:rPr>
              <a:t>紫红色高档大气质感</a:t>
            </a:r>
            <a:r>
              <a:rPr b="0" lang="zh-CN" sz="4000" spc="-1" strike="noStrike">
                <a:solidFill>
                  <a:srgbClr val="f2f2f2"/>
                </a:solidFill>
                <a:latin typeface="华文细黑"/>
              </a:rPr>
              <a:t>PPT</a:t>
            </a:r>
            <a:r>
              <a:rPr b="0" lang="zh-CN" sz="4000" spc="-1" strike="noStrike">
                <a:solidFill>
                  <a:srgbClr val="f2f2f2"/>
                </a:solidFill>
                <a:latin typeface="华文细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"/>
          <p:cNvSpPr/>
          <p:nvPr/>
        </p:nvSpPr>
        <p:spPr>
          <a:xfrm>
            <a:off x="871560" y="5622840"/>
            <a:ext cx="557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</a:rPr>
              <a:t>目   录</a:t>
            </a: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2" name="AutoShape 144"/>
          <p:cNvSpPr/>
          <p:nvPr/>
        </p:nvSpPr>
        <p:spPr>
          <a:xfrm>
            <a:off x="1785960" y="1714680"/>
            <a:ext cx="6357960" cy="539640"/>
          </a:xfrm>
          <a:prstGeom prst="roundRect">
            <a:avLst>
              <a:gd name="adj" fmla="val 10685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44"/>
          <p:cNvSpPr/>
          <p:nvPr/>
        </p:nvSpPr>
        <p:spPr>
          <a:xfrm>
            <a:off x="1785960" y="2452680"/>
            <a:ext cx="6357960" cy="539640"/>
          </a:xfrm>
          <a:prstGeom prst="roundRect">
            <a:avLst>
              <a:gd name="adj" fmla="val 10685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44"/>
          <p:cNvSpPr/>
          <p:nvPr/>
        </p:nvSpPr>
        <p:spPr>
          <a:xfrm>
            <a:off x="1785960" y="3192480"/>
            <a:ext cx="6357960" cy="539640"/>
          </a:xfrm>
          <a:prstGeom prst="roundRect">
            <a:avLst>
              <a:gd name="adj" fmla="val 10685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44"/>
          <p:cNvSpPr/>
          <p:nvPr/>
        </p:nvSpPr>
        <p:spPr>
          <a:xfrm>
            <a:off x="1785960" y="3930480"/>
            <a:ext cx="6357960" cy="540000"/>
          </a:xfrm>
          <a:prstGeom prst="roundRect">
            <a:avLst>
              <a:gd name="adj" fmla="val 10685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44"/>
          <p:cNvSpPr/>
          <p:nvPr/>
        </p:nvSpPr>
        <p:spPr>
          <a:xfrm>
            <a:off x="1785960" y="4668840"/>
            <a:ext cx="6357960" cy="539640"/>
          </a:xfrm>
          <a:prstGeom prst="roundRect">
            <a:avLst>
              <a:gd name="adj" fmla="val 10685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189080" y="1714680"/>
            <a:ext cx="655200" cy="547560"/>
            <a:chOff x="1189080" y="1714680"/>
            <a:chExt cx="655200" cy="547560"/>
          </a:xfrm>
        </p:grpSpPr>
        <p:grpSp>
          <p:nvGrpSpPr>
            <p:cNvPr id="88" name=""/>
            <p:cNvGrpSpPr/>
            <p:nvPr/>
          </p:nvGrpSpPr>
          <p:grpSpPr>
            <a:xfrm>
              <a:off x="1189080" y="1714680"/>
              <a:ext cx="653400" cy="547560"/>
              <a:chOff x="1189080" y="1714680"/>
              <a:chExt cx="653400" cy="547560"/>
            </a:xfrm>
          </p:grpSpPr>
          <p:sp>
            <p:nvSpPr>
              <p:cNvPr id="89" name="Rectangle 7"/>
              <p:cNvSpPr/>
              <p:nvPr/>
            </p:nvSpPr>
            <p:spPr>
              <a:xfrm>
                <a:off x="1189080" y="1714680"/>
                <a:ext cx="653400" cy="547560"/>
              </a:xfrm>
              <a:prstGeom prst="rect">
                <a:avLst/>
              </a:prstGeom>
              <a:gradFill rotWithShape="0">
                <a:gsLst>
                  <a:gs pos="0">
                    <a:srgbClr val="7f0038"/>
                  </a:gs>
                  <a:gs pos="100000">
                    <a:srgbClr val="db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Black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12"/>
              <p:cNvSpPr/>
              <p:nvPr/>
            </p:nvSpPr>
            <p:spPr>
              <a:xfrm>
                <a:off x="1189080" y="1718280"/>
                <a:ext cx="63000" cy="541440"/>
              </a:xfrm>
              <a:prstGeom prst="pie">
                <a:avLst/>
              </a:pr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13"/>
              <p:cNvSpPr/>
              <p:nvPr/>
            </p:nvSpPr>
            <p:spPr>
              <a:xfrm>
                <a:off x="1194840" y="1718280"/>
                <a:ext cx="647640" cy="130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Freeform 12"/>
            <p:cNvSpPr/>
            <p:nvPr/>
          </p:nvSpPr>
          <p:spPr>
            <a:xfrm flipH="1">
              <a:off x="1780920" y="1720800"/>
              <a:ext cx="63000" cy="541440"/>
            </a:xfrm>
            <a:prstGeom prst="pi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1189080" y="2452680"/>
            <a:ext cx="655200" cy="547560"/>
            <a:chOff x="1189080" y="2452680"/>
            <a:chExt cx="655200" cy="547560"/>
          </a:xfrm>
        </p:grpSpPr>
        <p:grpSp>
          <p:nvGrpSpPr>
            <p:cNvPr id="94" name=""/>
            <p:cNvGrpSpPr/>
            <p:nvPr/>
          </p:nvGrpSpPr>
          <p:grpSpPr>
            <a:xfrm>
              <a:off x="1189080" y="2452680"/>
              <a:ext cx="653400" cy="547560"/>
              <a:chOff x="1189080" y="2452680"/>
              <a:chExt cx="653400" cy="547560"/>
            </a:xfrm>
          </p:grpSpPr>
          <p:sp>
            <p:nvSpPr>
              <p:cNvPr id="95" name="Rectangle 7"/>
              <p:cNvSpPr/>
              <p:nvPr/>
            </p:nvSpPr>
            <p:spPr>
              <a:xfrm>
                <a:off x="1189080" y="2452680"/>
                <a:ext cx="653400" cy="547560"/>
              </a:xfrm>
              <a:prstGeom prst="rect">
                <a:avLst/>
              </a:prstGeom>
              <a:gradFill rotWithShape="0">
                <a:gsLst>
                  <a:gs pos="0">
                    <a:srgbClr val="7f0038"/>
                  </a:gs>
                  <a:gs pos="100000">
                    <a:srgbClr val="db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Black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2"/>
              <p:cNvSpPr/>
              <p:nvPr/>
            </p:nvSpPr>
            <p:spPr>
              <a:xfrm>
                <a:off x="1189080" y="2456280"/>
                <a:ext cx="63000" cy="541440"/>
              </a:xfrm>
              <a:prstGeom prst="pie">
                <a:avLst/>
              </a:pr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3"/>
              <p:cNvSpPr/>
              <p:nvPr/>
            </p:nvSpPr>
            <p:spPr>
              <a:xfrm>
                <a:off x="1194840" y="2456280"/>
                <a:ext cx="647640" cy="130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Freeform 12"/>
            <p:cNvSpPr/>
            <p:nvPr/>
          </p:nvSpPr>
          <p:spPr>
            <a:xfrm flipH="1">
              <a:off x="1780920" y="2458800"/>
              <a:ext cx="63000" cy="541440"/>
            </a:xfrm>
            <a:prstGeom prst="pi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177920" y="3193920"/>
            <a:ext cx="653760" cy="549360"/>
            <a:chOff x="1177920" y="3193920"/>
            <a:chExt cx="653760" cy="549360"/>
          </a:xfrm>
        </p:grpSpPr>
        <p:grpSp>
          <p:nvGrpSpPr>
            <p:cNvPr id="100" name=""/>
            <p:cNvGrpSpPr/>
            <p:nvPr/>
          </p:nvGrpSpPr>
          <p:grpSpPr>
            <a:xfrm>
              <a:off x="1177920" y="3193920"/>
              <a:ext cx="651960" cy="549360"/>
              <a:chOff x="1177920" y="3193920"/>
              <a:chExt cx="651960" cy="549360"/>
            </a:xfrm>
          </p:grpSpPr>
          <p:sp>
            <p:nvSpPr>
              <p:cNvPr id="101" name="Rectangle 7"/>
              <p:cNvSpPr/>
              <p:nvPr/>
            </p:nvSpPr>
            <p:spPr>
              <a:xfrm>
                <a:off x="1177920" y="3193920"/>
                <a:ext cx="651960" cy="549360"/>
              </a:xfrm>
              <a:prstGeom prst="rect">
                <a:avLst/>
              </a:prstGeom>
              <a:gradFill rotWithShape="0">
                <a:gsLst>
                  <a:gs pos="0">
                    <a:srgbClr val="7f0038"/>
                  </a:gs>
                  <a:gs pos="100000">
                    <a:srgbClr val="db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Black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12"/>
              <p:cNvSpPr/>
              <p:nvPr/>
            </p:nvSpPr>
            <p:spPr>
              <a:xfrm>
                <a:off x="1177920" y="3197520"/>
                <a:ext cx="63000" cy="543240"/>
              </a:xfrm>
              <a:prstGeom prst="pie">
                <a:avLst/>
              </a:pr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13"/>
              <p:cNvSpPr/>
              <p:nvPr/>
            </p:nvSpPr>
            <p:spPr>
              <a:xfrm>
                <a:off x="1183680" y="3197520"/>
                <a:ext cx="646200" cy="131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Freeform 12"/>
            <p:cNvSpPr/>
            <p:nvPr/>
          </p:nvSpPr>
          <p:spPr>
            <a:xfrm flipH="1">
              <a:off x="1768320" y="3200040"/>
              <a:ext cx="63000" cy="543240"/>
            </a:xfrm>
            <a:prstGeom prst="pi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162080" y="3922560"/>
            <a:ext cx="655200" cy="547920"/>
            <a:chOff x="1162080" y="3922560"/>
            <a:chExt cx="655200" cy="547920"/>
          </a:xfrm>
        </p:grpSpPr>
        <p:grpSp>
          <p:nvGrpSpPr>
            <p:cNvPr id="106" name=""/>
            <p:cNvGrpSpPr/>
            <p:nvPr/>
          </p:nvGrpSpPr>
          <p:grpSpPr>
            <a:xfrm>
              <a:off x="1162080" y="3922560"/>
              <a:ext cx="653400" cy="547920"/>
              <a:chOff x="1162080" y="3922560"/>
              <a:chExt cx="653400" cy="547920"/>
            </a:xfrm>
          </p:grpSpPr>
          <p:sp>
            <p:nvSpPr>
              <p:cNvPr id="107" name="Rectangle 7"/>
              <p:cNvSpPr/>
              <p:nvPr/>
            </p:nvSpPr>
            <p:spPr>
              <a:xfrm>
                <a:off x="1162080" y="3922560"/>
                <a:ext cx="653400" cy="547920"/>
              </a:xfrm>
              <a:prstGeom prst="rect">
                <a:avLst/>
              </a:prstGeom>
              <a:gradFill rotWithShape="0">
                <a:gsLst>
                  <a:gs pos="0">
                    <a:srgbClr val="7f0038"/>
                  </a:gs>
                  <a:gs pos="100000">
                    <a:srgbClr val="db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Black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12"/>
              <p:cNvSpPr/>
              <p:nvPr/>
            </p:nvSpPr>
            <p:spPr>
              <a:xfrm>
                <a:off x="1162080" y="3926160"/>
                <a:ext cx="63000" cy="541800"/>
              </a:xfrm>
              <a:prstGeom prst="pie">
                <a:avLst/>
              </a:pr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3"/>
              <p:cNvSpPr/>
              <p:nvPr/>
            </p:nvSpPr>
            <p:spPr>
              <a:xfrm>
                <a:off x="1167840" y="3926160"/>
                <a:ext cx="647640" cy="130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Freeform 12"/>
            <p:cNvSpPr/>
            <p:nvPr/>
          </p:nvSpPr>
          <p:spPr>
            <a:xfrm flipH="1">
              <a:off x="1753920" y="3928680"/>
              <a:ext cx="63000" cy="541800"/>
            </a:xfrm>
            <a:prstGeom prst="pi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179360" y="4667400"/>
            <a:ext cx="653760" cy="547560"/>
            <a:chOff x="1179360" y="4667400"/>
            <a:chExt cx="653760" cy="547560"/>
          </a:xfrm>
        </p:grpSpPr>
        <p:grpSp>
          <p:nvGrpSpPr>
            <p:cNvPr id="112" name=""/>
            <p:cNvGrpSpPr/>
            <p:nvPr/>
          </p:nvGrpSpPr>
          <p:grpSpPr>
            <a:xfrm>
              <a:off x="1179360" y="4667400"/>
              <a:ext cx="651960" cy="547560"/>
              <a:chOff x="1179360" y="4667400"/>
              <a:chExt cx="651960" cy="547560"/>
            </a:xfrm>
          </p:grpSpPr>
          <p:sp>
            <p:nvSpPr>
              <p:cNvPr id="113" name="Rectangle 7"/>
              <p:cNvSpPr/>
              <p:nvPr/>
            </p:nvSpPr>
            <p:spPr>
              <a:xfrm>
                <a:off x="1179360" y="4667400"/>
                <a:ext cx="651960" cy="547560"/>
              </a:xfrm>
              <a:prstGeom prst="rect">
                <a:avLst/>
              </a:prstGeom>
              <a:gradFill rotWithShape="0">
                <a:gsLst>
                  <a:gs pos="0">
                    <a:srgbClr val="7f0038"/>
                  </a:gs>
                  <a:gs pos="100000">
                    <a:srgbClr val="db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Black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2"/>
              <p:cNvSpPr/>
              <p:nvPr/>
            </p:nvSpPr>
            <p:spPr>
              <a:xfrm>
                <a:off x="1179360" y="4671000"/>
                <a:ext cx="63000" cy="541440"/>
              </a:xfrm>
              <a:prstGeom prst="pie">
                <a:avLst/>
              </a:pr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3"/>
              <p:cNvSpPr/>
              <p:nvPr/>
            </p:nvSpPr>
            <p:spPr>
              <a:xfrm>
                <a:off x="1185120" y="4671000"/>
                <a:ext cx="646200" cy="130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Freeform 12"/>
            <p:cNvSpPr/>
            <p:nvPr/>
          </p:nvSpPr>
          <p:spPr>
            <a:xfrm flipH="1">
              <a:off x="1769760" y="4673520"/>
              <a:ext cx="63000" cy="541440"/>
            </a:xfrm>
            <a:prstGeom prst="pi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</a:rPr>
              <a:t>过度页</a:t>
            </a: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220280" y="1535040"/>
            <a:ext cx="4239360" cy="4209480"/>
            <a:chOff x="4220280" y="1535040"/>
            <a:chExt cx="4239360" cy="4209480"/>
          </a:xfrm>
        </p:grpSpPr>
        <p:sp>
          <p:nvSpPr>
            <p:cNvPr id="119" name="空心弧 3"/>
            <p:cNvSpPr/>
            <p:nvPr/>
          </p:nvSpPr>
          <p:spPr>
            <a:xfrm>
              <a:off x="4745520" y="2014560"/>
              <a:ext cx="3213360" cy="3214800"/>
            </a:xfrm>
            <a:prstGeom prst="pie">
              <a:avLst/>
            </a:prstGeom>
            <a:gradFill rotWithShape="0">
              <a:gsLst>
                <a:gs pos="0">
                  <a:srgbClr val="6e6e6e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空心弧 4"/>
            <p:cNvSpPr/>
            <p:nvPr/>
          </p:nvSpPr>
          <p:spPr>
            <a:xfrm>
              <a:off x="4745520" y="2014560"/>
              <a:ext cx="3213360" cy="3214800"/>
            </a:xfrm>
            <a:prstGeom prst="pie">
              <a:avLst/>
            </a:prstGeom>
            <a:gradFill rotWithShape="0">
              <a:gsLst>
                <a:gs pos="0">
                  <a:srgbClr val="6e6e6e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空心弧 5"/>
            <p:cNvSpPr/>
            <p:nvPr/>
          </p:nvSpPr>
          <p:spPr>
            <a:xfrm>
              <a:off x="4745520" y="2014560"/>
              <a:ext cx="3213360" cy="3214800"/>
            </a:xfrm>
            <a:prstGeom prst="pi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6e6e6e"/>
                </a:gs>
              </a:gsLst>
              <a:lin ang="81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空心弧 6"/>
            <p:cNvSpPr/>
            <p:nvPr/>
          </p:nvSpPr>
          <p:spPr>
            <a:xfrm>
              <a:off x="4745520" y="2014560"/>
              <a:ext cx="3213360" cy="3214800"/>
            </a:xfrm>
            <a:prstGeom prst="pi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6e6e6e"/>
                </a:gs>
              </a:gsLst>
              <a:lin ang="108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5792400" y="4647600"/>
              <a:ext cx="1096920" cy="1096920"/>
              <a:chOff x="5792400" y="4647600"/>
              <a:chExt cx="1096920" cy="109692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792400" y="4647600"/>
                <a:ext cx="1096920" cy="1096920"/>
                <a:chOff x="5792400" y="4647600"/>
                <a:chExt cx="1096920" cy="1096920"/>
              </a:xfrm>
            </p:grpSpPr>
            <p:sp>
              <p:nvSpPr>
                <p:cNvPr id="125" name="椭圆 37"/>
                <p:cNvSpPr/>
                <p:nvPr/>
              </p:nvSpPr>
              <p:spPr>
                <a:xfrm rot="21397200">
                  <a:off x="5821920" y="4677120"/>
                  <a:ext cx="1037520" cy="103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2f2f2"/>
                    </a:gs>
                    <a:gs pos="100000">
                      <a:srgbClr val="5a5a5a"/>
                    </a:gs>
                  </a:gsLst>
                  <a:lin ang="5400000"/>
                </a:gra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椭圆 38"/>
                <p:cNvSpPr/>
                <p:nvPr/>
              </p:nvSpPr>
              <p:spPr>
                <a:xfrm rot="21397200">
                  <a:off x="5941440" y="4673160"/>
                  <a:ext cx="771120" cy="66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60000"/>
                      </a:srgbClr>
                    </a:gs>
                    <a:gs pos="100000">
                      <a:srgbClr val="00ff00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" name="TextBox 36"/>
              <p:cNvSpPr/>
              <p:nvPr/>
            </p:nvSpPr>
            <p:spPr>
              <a:xfrm>
                <a:off x="5977080" y="503352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6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项目文字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4220280" y="3071160"/>
              <a:ext cx="1096920" cy="1096920"/>
              <a:chOff x="4220280" y="3071160"/>
              <a:chExt cx="1096920" cy="109692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4220280" y="3071160"/>
                <a:ext cx="1096920" cy="1096920"/>
                <a:chOff x="4220280" y="3071160"/>
                <a:chExt cx="1096920" cy="1096920"/>
              </a:xfrm>
            </p:grpSpPr>
            <p:sp>
              <p:nvSpPr>
                <p:cNvPr id="130" name="椭圆 33"/>
                <p:cNvSpPr/>
                <p:nvPr/>
              </p:nvSpPr>
              <p:spPr>
                <a:xfrm rot="21397200">
                  <a:off x="4249800" y="3100680"/>
                  <a:ext cx="1037520" cy="103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2f2f2"/>
                    </a:gs>
                    <a:gs pos="100000">
                      <a:srgbClr val="5a5a5a"/>
                    </a:gs>
                  </a:gsLst>
                  <a:lin ang="5400000"/>
                </a:gra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椭圆 34"/>
                <p:cNvSpPr/>
                <p:nvPr/>
              </p:nvSpPr>
              <p:spPr>
                <a:xfrm rot="21397200">
                  <a:off x="4369320" y="3096720"/>
                  <a:ext cx="771120" cy="66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60000"/>
                      </a:srgbClr>
                    </a:gs>
                    <a:gs pos="100000">
                      <a:srgbClr val="00ff00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TextBox 32"/>
              <p:cNvSpPr/>
              <p:nvPr/>
            </p:nvSpPr>
            <p:spPr>
              <a:xfrm>
                <a:off x="4404960" y="345708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6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项目文字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5906880" y="1535040"/>
              <a:ext cx="1049040" cy="856440"/>
              <a:chOff x="5906880" y="1535040"/>
              <a:chExt cx="1049040" cy="856440"/>
            </a:xfrm>
          </p:grpSpPr>
          <p:sp>
            <p:nvSpPr>
              <p:cNvPr id="134" name="椭圆 6"/>
              <p:cNvSpPr/>
              <p:nvPr/>
            </p:nvSpPr>
            <p:spPr>
              <a:xfrm>
                <a:off x="5970240" y="1535040"/>
                <a:ext cx="768240" cy="6627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00ff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Box 3"/>
              <p:cNvSpPr/>
              <p:nvPr/>
            </p:nvSpPr>
            <p:spPr>
              <a:xfrm>
                <a:off x="5906880" y="1916640"/>
                <a:ext cx="10490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7362720" y="3072600"/>
              <a:ext cx="1096920" cy="1098360"/>
              <a:chOff x="7362720" y="3072600"/>
              <a:chExt cx="1096920" cy="109836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7362720" y="3072600"/>
                <a:ext cx="1096920" cy="1098360"/>
                <a:chOff x="7362720" y="3072600"/>
                <a:chExt cx="1096920" cy="1098360"/>
              </a:xfrm>
            </p:grpSpPr>
            <p:sp>
              <p:nvSpPr>
                <p:cNvPr id="138" name="椭圆 27"/>
                <p:cNvSpPr/>
                <p:nvPr/>
              </p:nvSpPr>
              <p:spPr>
                <a:xfrm rot="21397200">
                  <a:off x="7392240" y="3102120"/>
                  <a:ext cx="1037520" cy="103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2f2f2"/>
                    </a:gs>
                    <a:gs pos="100000">
                      <a:srgbClr val="5a5a5a"/>
                    </a:gs>
                  </a:gsLst>
                  <a:lin ang="5400000"/>
                </a:gra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椭圆 24"/>
                <p:cNvSpPr/>
                <p:nvPr/>
              </p:nvSpPr>
              <p:spPr>
                <a:xfrm rot="21397200">
                  <a:off x="7511400" y="3096720"/>
                  <a:ext cx="771120" cy="66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60000"/>
                      </a:srgbClr>
                    </a:gs>
                    <a:gs pos="100000">
                      <a:srgbClr val="00ff00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TextBox 26"/>
              <p:cNvSpPr/>
              <p:nvPr/>
            </p:nvSpPr>
            <p:spPr>
              <a:xfrm>
                <a:off x="7547400" y="34599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6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项目文字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637600" y="2921040"/>
              <a:ext cx="1537200" cy="1496160"/>
              <a:chOff x="5637600" y="2921040"/>
              <a:chExt cx="1537200" cy="1496160"/>
            </a:xfrm>
          </p:grpSpPr>
          <p:pic>
            <p:nvPicPr>
              <p:cNvPr id="142" name="Picture 15" descr="light_shadow"/>
              <p:cNvPicPr/>
              <p:nvPr/>
            </p:nvPicPr>
            <p:blipFill>
              <a:blip r:embed="rId2"/>
              <a:stretch/>
            </p:blipFill>
            <p:spPr>
              <a:xfrm>
                <a:off x="5803560" y="4208400"/>
                <a:ext cx="1102320" cy="208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3" name=""/>
              <p:cNvGrpSpPr/>
              <p:nvPr/>
            </p:nvGrpSpPr>
            <p:grpSpPr>
              <a:xfrm>
                <a:off x="5637600" y="2921040"/>
                <a:ext cx="1537200" cy="1416600"/>
                <a:chOff x="5637600" y="2921040"/>
                <a:chExt cx="1537200" cy="1416600"/>
              </a:xfrm>
            </p:grpSpPr>
            <p:sp>
              <p:nvSpPr>
                <p:cNvPr id="144" name="椭圆 9"/>
                <p:cNvSpPr/>
                <p:nvPr/>
              </p:nvSpPr>
              <p:spPr>
                <a:xfrm>
                  <a:off x="5637600" y="2925360"/>
                  <a:ext cx="1410480" cy="141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f0038"/>
                    </a:gs>
                    <a:gs pos="100000">
                      <a:srgbClr val="db00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椭圆 10"/>
                <p:cNvSpPr/>
                <p:nvPr/>
              </p:nvSpPr>
              <p:spPr>
                <a:xfrm>
                  <a:off x="5827680" y="2921040"/>
                  <a:ext cx="1050480" cy="906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60000"/>
                      </a:srgbClr>
                    </a:gs>
                    <a:gs pos="100000">
                      <a:srgbClr val="00ff00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TextBox 8"/>
                <p:cNvSpPr/>
                <p:nvPr/>
              </p:nvSpPr>
              <p:spPr>
                <a:xfrm>
                  <a:off x="5739840" y="3442680"/>
                  <a:ext cx="1434960" cy="47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TextBox 6"/>
                <p:cNvSpPr/>
                <p:nvPr/>
              </p:nvSpPr>
              <p:spPr>
                <a:xfrm>
                  <a:off x="5855760" y="3344760"/>
                  <a:ext cx="912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2400" spc="-1" strike="noStrike">
                      <a:solidFill>
                        <a:srgbClr val="ffffff"/>
                      </a:solidFill>
                      <a:latin typeface="华文细黑"/>
                      <a:ea typeface="华文细黑"/>
                    </a:rPr>
                    <a:t>项目文字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5838480" y="1542240"/>
              <a:ext cx="1096920" cy="1096920"/>
              <a:chOff x="5838480" y="1542240"/>
              <a:chExt cx="1096920" cy="109692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5838480" y="1542240"/>
                <a:ext cx="1096920" cy="1096920"/>
                <a:chOff x="5838480" y="1542240"/>
                <a:chExt cx="1096920" cy="1096920"/>
              </a:xfrm>
            </p:grpSpPr>
            <p:sp>
              <p:nvSpPr>
                <p:cNvPr id="150" name="椭圆 15"/>
                <p:cNvSpPr/>
                <p:nvPr/>
              </p:nvSpPr>
              <p:spPr>
                <a:xfrm rot="21397200">
                  <a:off x="5868000" y="1571760"/>
                  <a:ext cx="1037520" cy="103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2f2f2"/>
                    </a:gs>
                    <a:gs pos="100000">
                      <a:srgbClr val="5a5a5a"/>
                    </a:gs>
                  </a:gsLst>
                  <a:lin ang="5400000"/>
                </a:gra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椭圆 16"/>
                <p:cNvSpPr/>
                <p:nvPr/>
              </p:nvSpPr>
              <p:spPr>
                <a:xfrm rot="21397200">
                  <a:off x="5987520" y="1567800"/>
                  <a:ext cx="771120" cy="66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60000"/>
                      </a:srgbClr>
                    </a:gs>
                    <a:gs pos="100000">
                      <a:srgbClr val="00ff00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" name="TextBox 14"/>
              <p:cNvSpPr/>
              <p:nvPr/>
            </p:nvSpPr>
            <p:spPr>
              <a:xfrm>
                <a:off x="6023160" y="19281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6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项目文字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" name=""/>
          <p:cNvGrpSpPr/>
          <p:nvPr/>
        </p:nvGrpSpPr>
        <p:grpSpPr>
          <a:xfrm>
            <a:off x="928800" y="1571760"/>
            <a:ext cx="3000240" cy="3813120"/>
            <a:chOff x="928800" y="1571760"/>
            <a:chExt cx="3000240" cy="3813120"/>
          </a:xfrm>
        </p:grpSpPr>
        <p:sp>
          <p:nvSpPr>
            <p:cNvPr id="154" name="圆角矩形 39"/>
            <p:cNvSpPr/>
            <p:nvPr/>
          </p:nvSpPr>
          <p:spPr>
            <a:xfrm>
              <a:off x="928800" y="2098800"/>
              <a:ext cx="3000240" cy="3286080"/>
            </a:xfrm>
            <a:custGeom>
              <a:avLst/>
              <a:gdLst>
                <a:gd name="textAreaLeft" fmla="*/ 6120 w 3000240"/>
                <a:gd name="textAreaRight" fmla="*/ 2994120 w 3000240"/>
                <a:gd name="textAreaTop" fmla="*/ 6120 h 3286080"/>
                <a:gd name="textAreaBottom" fmla="*/ 3279960 h 3286080"/>
              </a:gdLst>
              <a:ahLst/>
              <a:rect l="textAreaLeft" t="textAreaTop" r="textAreaRight" b="textAreaBottom"/>
              <a:pathLst>
                <a:path w="21600" h="23658">
                  <a:moveTo>
                    <a:pt x="151" y="0"/>
                  </a:moveTo>
                  <a:arcTo wR="151" hR="151" stAng="16200000" swAng="-5400000"/>
                  <a:lnTo>
                    <a:pt x="0" y="23507"/>
                  </a:lnTo>
                  <a:arcTo wR="151" hR="151" stAng="10800000" swAng="-5400000"/>
                  <a:lnTo>
                    <a:pt x="21449" y="23658"/>
                  </a:lnTo>
                  <a:arcTo wR="151" hR="151" stAng="5400000" swAng="-5400000"/>
                  <a:lnTo>
                    <a:pt x="21600" y="151"/>
                  </a:lnTo>
                  <a:arcTo wR="151" hR="151" stAng="0" swAng="-5400000"/>
                  <a:close/>
                </a:path>
              </a:pathLst>
            </a:custGeom>
            <a:gradFill rotWithShape="0">
              <a:gsLst>
                <a:gs pos="0">
                  <a:srgbClr val="959595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indent="270000" algn="ctr">
                <a:lnSpc>
                  <a:spcPct val="150000"/>
                </a:lnSpc>
                <a:buClr>
                  <a:srgbClr val="cc0066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华文细黑"/>
                  <a:ea typeface="华文细黑"/>
                </a:rPr>
                <a:t>单击此处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indent="270000" algn="ctr">
                <a:lnSpc>
                  <a:spcPct val="150000"/>
                </a:lnSpc>
                <a:buClr>
                  <a:srgbClr val="cc0066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华文细黑"/>
                  <a:ea typeface="华文细黑"/>
                </a:rPr>
                <a:t>单击此处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indent="270000" algn="ctr">
                <a:lnSpc>
                  <a:spcPct val="150000"/>
                </a:lnSpc>
                <a:buClr>
                  <a:srgbClr val="cc0066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华文细黑"/>
                  <a:ea typeface="华文细黑"/>
                </a:rPr>
                <a:t>单击此处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indent="270000" algn="ctr">
                <a:lnSpc>
                  <a:spcPct val="150000"/>
                </a:lnSpc>
                <a:buClr>
                  <a:srgbClr val="cc0066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华文细黑"/>
                  <a:ea typeface="华文细黑"/>
                </a:rPr>
                <a:t>单击此处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indent="270000" algn="ctr">
                <a:lnSpc>
                  <a:spcPct val="150000"/>
                </a:lnSpc>
                <a:buClr>
                  <a:srgbClr val="cc0066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华文细黑"/>
                  <a:ea typeface="华文细黑"/>
                </a:rPr>
                <a:t>单击此处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indent="270000" algn="ctr">
                <a:lnSpc>
                  <a:spcPct val="150000"/>
                </a:lnSpc>
                <a:buClr>
                  <a:srgbClr val="cc0066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华文细黑"/>
                  <a:ea typeface="华文细黑"/>
                </a:rPr>
                <a:t>单击此处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indent="270000" algn="ctr">
                <a:lnSpc>
                  <a:spcPct val="100000"/>
                </a:lnSpc>
                <a:buClr>
                  <a:srgbClr val="0662b4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圆角矩形 40"/>
            <p:cNvSpPr/>
            <p:nvPr/>
          </p:nvSpPr>
          <p:spPr>
            <a:xfrm>
              <a:off x="928800" y="1571760"/>
              <a:ext cx="3000240" cy="490320"/>
            </a:xfrm>
            <a:prstGeom prst="roundRect">
              <a:avLst>
                <a:gd name="adj" fmla="val 699"/>
              </a:avLst>
            </a:prstGeom>
            <a:gradFill rotWithShape="0">
              <a:gsLst>
                <a:gs pos="0">
                  <a:srgbClr val="7f0038"/>
                </a:gs>
                <a:gs pos="100000">
                  <a:srgbClr val="db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单击此处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圆角矩形 8"/>
          <p:cNvSpPr/>
          <p:nvPr/>
        </p:nvSpPr>
        <p:spPr>
          <a:xfrm>
            <a:off x="3492360" y="2214720"/>
            <a:ext cx="2111400" cy="3286080"/>
          </a:xfrm>
          <a:custGeom>
            <a:avLst/>
            <a:gdLst>
              <a:gd name="textAreaLeft" fmla="*/ 4320 w 2111400"/>
              <a:gd name="textAreaRight" fmla="*/ 2107080 w 2111400"/>
              <a:gd name="textAreaTop" fmla="*/ 4320 h 3286080"/>
              <a:gd name="textAreaBottom" fmla="*/ 3281760 h 3286080"/>
            </a:gdLst>
            <a:ahLst/>
            <a:rect l="textAreaLeft" t="textAreaTop" r="textAreaRight" b="textAreaBottom"/>
            <a:pathLst>
              <a:path w="21600" h="33615">
                <a:moveTo>
                  <a:pt x="151" y="0"/>
                </a:moveTo>
                <a:arcTo wR="151" hR="151" stAng="16200000" swAng="-5400000"/>
                <a:lnTo>
                  <a:pt x="0" y="33464"/>
                </a:lnTo>
                <a:arcTo wR="151" hR="151" stAng="10800000" swAng="-5400000"/>
                <a:lnTo>
                  <a:pt x="21449" y="33615"/>
                </a:lnTo>
                <a:arcTo wR="151" hR="151" stAng="5400000" swAng="-5400000"/>
                <a:lnTo>
                  <a:pt x="21600" y="151"/>
                </a:lnTo>
                <a:arcTo wR="151" hR="151" stAng="0" swAng="-5400000"/>
                <a:close/>
              </a:path>
            </a:pathLst>
          </a:cu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270000" algn="ctr">
              <a:lnSpc>
                <a:spcPct val="150000"/>
              </a:lnSpc>
              <a:buClr>
                <a:srgbClr val="cc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cc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cc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cc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cc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cc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00000"/>
              </a:lnSpc>
              <a:buClr>
                <a:srgbClr val="0662b4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圆角矩形 9"/>
          <p:cNvSpPr/>
          <p:nvPr/>
        </p:nvSpPr>
        <p:spPr>
          <a:xfrm>
            <a:off x="6032520" y="2214720"/>
            <a:ext cx="2111400" cy="3286080"/>
          </a:xfrm>
          <a:custGeom>
            <a:avLst/>
            <a:gdLst>
              <a:gd name="textAreaLeft" fmla="*/ 4320 w 2111400"/>
              <a:gd name="textAreaRight" fmla="*/ 2107080 w 2111400"/>
              <a:gd name="textAreaTop" fmla="*/ 4320 h 3286080"/>
              <a:gd name="textAreaBottom" fmla="*/ 3281760 h 3286080"/>
            </a:gdLst>
            <a:ahLst/>
            <a:rect l="textAreaLeft" t="textAreaTop" r="textAreaRight" b="textAreaBottom"/>
            <a:pathLst>
              <a:path w="21600" h="33615">
                <a:moveTo>
                  <a:pt x="151" y="0"/>
                </a:moveTo>
                <a:arcTo wR="151" hR="151" stAng="16200000" swAng="-5400000"/>
                <a:lnTo>
                  <a:pt x="0" y="33464"/>
                </a:lnTo>
                <a:arcTo wR="151" hR="151" stAng="10800000" swAng="-5400000"/>
                <a:lnTo>
                  <a:pt x="21449" y="33615"/>
                </a:lnTo>
                <a:arcTo wR="151" hR="151" stAng="5400000" swAng="-5400000"/>
                <a:lnTo>
                  <a:pt x="21600" y="151"/>
                </a:lnTo>
                <a:arcTo wR="151" hR="151" stAng="0" swAng="-5400000"/>
                <a:close/>
              </a:path>
            </a:pathLst>
          </a:cu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270000" algn="ctr">
              <a:lnSpc>
                <a:spcPct val="150000"/>
              </a:lnSpc>
              <a:buClr>
                <a:srgbClr val="cc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cc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cc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cc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cc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cc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00000"/>
              </a:lnSpc>
              <a:buClr>
                <a:srgbClr val="0662b4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圆角矩形 7"/>
          <p:cNvSpPr/>
          <p:nvPr/>
        </p:nvSpPr>
        <p:spPr>
          <a:xfrm>
            <a:off x="947880" y="2214720"/>
            <a:ext cx="2111400" cy="3286080"/>
          </a:xfrm>
          <a:custGeom>
            <a:avLst/>
            <a:gdLst>
              <a:gd name="textAreaLeft" fmla="*/ 4320 w 2111400"/>
              <a:gd name="textAreaRight" fmla="*/ 2107080 w 2111400"/>
              <a:gd name="textAreaTop" fmla="*/ 4320 h 3286080"/>
              <a:gd name="textAreaBottom" fmla="*/ 3281760 h 3286080"/>
            </a:gdLst>
            <a:ahLst/>
            <a:rect l="textAreaLeft" t="textAreaTop" r="textAreaRight" b="textAreaBottom"/>
            <a:pathLst>
              <a:path w="21600" h="33615">
                <a:moveTo>
                  <a:pt x="151" y="0"/>
                </a:moveTo>
                <a:arcTo wR="151" hR="151" stAng="16200000" swAng="-5400000"/>
                <a:lnTo>
                  <a:pt x="0" y="33464"/>
                </a:lnTo>
                <a:arcTo wR="151" hR="151" stAng="10800000" swAng="-5400000"/>
                <a:lnTo>
                  <a:pt x="21449" y="33615"/>
                </a:lnTo>
                <a:arcTo wR="151" hR="151" stAng="5400000" swAng="-5400000"/>
                <a:lnTo>
                  <a:pt x="21600" y="151"/>
                </a:lnTo>
                <a:arcTo wR="151" hR="151" stAng="0" swAng="-5400000"/>
                <a:close/>
              </a:path>
            </a:pathLst>
          </a:cu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270000" algn="ctr">
              <a:lnSpc>
                <a:spcPct val="150000"/>
              </a:lnSpc>
              <a:buClr>
                <a:srgbClr val="cc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cc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cc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cc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cc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cc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00000"/>
              </a:lnSpc>
              <a:buClr>
                <a:srgbClr val="0662b4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</a:rPr>
              <a:t>过度页</a:t>
            </a: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870120" y="1428840"/>
            <a:ext cx="2286000" cy="1190520"/>
            <a:chOff x="870120" y="1428840"/>
            <a:chExt cx="2286000" cy="1190520"/>
          </a:xfrm>
        </p:grpSpPr>
        <p:sp>
          <p:nvSpPr>
            <p:cNvPr id="161" name="圆角矩形 4"/>
            <p:cNvSpPr/>
            <p:nvPr/>
          </p:nvSpPr>
          <p:spPr>
            <a:xfrm>
              <a:off x="870120" y="1428840"/>
              <a:ext cx="2278080" cy="993600"/>
            </a:xfrm>
            <a:prstGeom prst="roundRect">
              <a:avLst>
                <a:gd name="adj" fmla="val 0"/>
              </a:avLst>
            </a:prstGeom>
            <a:solidFill>
              <a:srgbClr val="640032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2f2f2"/>
                  </a:solidFill>
                  <a:latin typeface="华文细黑"/>
                  <a:ea typeface="华文细黑"/>
                </a:rPr>
                <a:t>项目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884160" y="2413440"/>
              <a:ext cx="2271960" cy="205920"/>
              <a:chOff x="884160" y="2413440"/>
              <a:chExt cx="2271960" cy="205920"/>
            </a:xfrm>
          </p:grpSpPr>
          <p:pic>
            <p:nvPicPr>
              <p:cNvPr id="163" name="任意多边形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84160" y="2413440"/>
                <a:ext cx="2271960" cy="20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" name=""/>
              <p:cNvSpPr/>
              <p:nvPr/>
            </p:nvSpPr>
            <p:spPr>
              <a:xfrm>
                <a:off x="887400" y="2416320"/>
                <a:ext cx="22604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" name=""/>
          <p:cNvGrpSpPr/>
          <p:nvPr/>
        </p:nvGrpSpPr>
        <p:grpSpPr>
          <a:xfrm>
            <a:off x="3392640" y="1428840"/>
            <a:ext cx="2287440" cy="1189080"/>
            <a:chOff x="3392640" y="1428840"/>
            <a:chExt cx="2287440" cy="1189080"/>
          </a:xfrm>
        </p:grpSpPr>
        <p:sp>
          <p:nvSpPr>
            <p:cNvPr id="166" name="圆角矩形 5"/>
            <p:cNvSpPr/>
            <p:nvPr/>
          </p:nvSpPr>
          <p:spPr>
            <a:xfrm>
              <a:off x="3392640" y="1428840"/>
              <a:ext cx="2285280" cy="997200"/>
            </a:xfrm>
            <a:prstGeom prst="roundRect">
              <a:avLst>
                <a:gd name="adj" fmla="val 0"/>
              </a:avLst>
            </a:prstGeom>
            <a:solidFill>
              <a:srgbClr val="a20051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2f2f2"/>
                  </a:solidFill>
                  <a:latin typeface="华文细黑"/>
                  <a:ea typeface="华文细黑"/>
                </a:rPr>
                <a:t>项目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3400920" y="2411280"/>
              <a:ext cx="2279160" cy="206640"/>
              <a:chOff x="3400920" y="2411280"/>
              <a:chExt cx="2279160" cy="206640"/>
            </a:xfrm>
          </p:grpSpPr>
          <p:pic>
            <p:nvPicPr>
              <p:cNvPr id="168" name="任意多边形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3400920" y="2411280"/>
                <a:ext cx="2279160" cy="2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"/>
              <p:cNvSpPr/>
              <p:nvPr/>
            </p:nvSpPr>
            <p:spPr>
              <a:xfrm>
                <a:off x="3408120" y="2417760"/>
                <a:ext cx="2267280" cy="19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"/>
          <p:cNvGrpSpPr/>
          <p:nvPr/>
        </p:nvGrpSpPr>
        <p:grpSpPr>
          <a:xfrm>
            <a:off x="5929200" y="1428840"/>
            <a:ext cx="2286000" cy="1189080"/>
            <a:chOff x="5929200" y="1428840"/>
            <a:chExt cx="2286000" cy="1189080"/>
          </a:xfrm>
        </p:grpSpPr>
        <p:sp>
          <p:nvSpPr>
            <p:cNvPr id="171" name="圆角矩形 6"/>
            <p:cNvSpPr/>
            <p:nvPr/>
          </p:nvSpPr>
          <p:spPr>
            <a:xfrm>
              <a:off x="5929200" y="1428840"/>
              <a:ext cx="2284200" cy="997200"/>
            </a:xfrm>
            <a:prstGeom prst="roundRect">
              <a:avLst>
                <a:gd name="adj" fmla="val 0"/>
              </a:avLst>
            </a:prstGeom>
            <a:solidFill>
              <a:srgbClr val="cc0066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2f2f2"/>
                  </a:solidFill>
                  <a:latin typeface="华文细黑"/>
                  <a:ea typeface="华文细黑"/>
                </a:rPr>
                <a:t>项目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937120" y="2411280"/>
              <a:ext cx="2278080" cy="206640"/>
              <a:chOff x="5937120" y="2411280"/>
              <a:chExt cx="2278080" cy="206640"/>
            </a:xfrm>
          </p:grpSpPr>
          <p:pic>
            <p:nvPicPr>
              <p:cNvPr id="173" name="任意多边形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5937120" y="2411280"/>
                <a:ext cx="2278080" cy="2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"/>
              <p:cNvSpPr/>
              <p:nvPr/>
            </p:nvSpPr>
            <p:spPr>
              <a:xfrm>
                <a:off x="5945040" y="2417760"/>
                <a:ext cx="2266200" cy="19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圆角矩形 5"/>
          <p:cNvSpPr/>
          <p:nvPr/>
        </p:nvSpPr>
        <p:spPr>
          <a:xfrm>
            <a:off x="2684520" y="2482920"/>
            <a:ext cx="5643360" cy="826920"/>
          </a:xfrm>
          <a:prstGeom prst="roundRect">
            <a:avLst>
              <a:gd name="adj" fmla="val 3157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70000" indent="360360"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360360"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圆角矩形 7"/>
          <p:cNvSpPr/>
          <p:nvPr/>
        </p:nvSpPr>
        <p:spPr>
          <a:xfrm>
            <a:off x="2684520" y="3538440"/>
            <a:ext cx="5643360" cy="827280"/>
          </a:xfrm>
          <a:prstGeom prst="roundRect">
            <a:avLst>
              <a:gd name="adj" fmla="val 3157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70000" indent="360360"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360360"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文字内容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9"/>
          <p:cNvSpPr/>
          <p:nvPr/>
        </p:nvSpPr>
        <p:spPr>
          <a:xfrm>
            <a:off x="2684520" y="4595760"/>
            <a:ext cx="5643360" cy="827280"/>
          </a:xfrm>
          <a:prstGeom prst="roundRect">
            <a:avLst>
              <a:gd name="adj" fmla="val 3157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70000" indent="360360"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360360"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圆角矩形 13"/>
          <p:cNvSpPr/>
          <p:nvPr/>
        </p:nvSpPr>
        <p:spPr>
          <a:xfrm>
            <a:off x="2684520" y="1428840"/>
            <a:ext cx="5643360" cy="828720"/>
          </a:xfrm>
          <a:prstGeom prst="roundRect">
            <a:avLst>
              <a:gd name="adj" fmla="val 3157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70000" indent="360360"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360360"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</a:rPr>
              <a:t>过度页</a:t>
            </a: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785880" y="4600440"/>
            <a:ext cx="1928880" cy="900360"/>
            <a:chOff x="785880" y="4600440"/>
            <a:chExt cx="1928880" cy="900360"/>
          </a:xfrm>
        </p:grpSpPr>
        <p:sp>
          <p:nvSpPr>
            <p:cNvPr id="181" name="圆角矩形 8"/>
            <p:cNvSpPr/>
            <p:nvPr/>
          </p:nvSpPr>
          <p:spPr>
            <a:xfrm>
              <a:off x="791280" y="4600440"/>
              <a:ext cx="1923480" cy="825480"/>
            </a:xfrm>
            <a:prstGeom prst="roundRect">
              <a:avLst>
                <a:gd name="adj" fmla="val 0"/>
              </a:avLst>
            </a:prstGeom>
            <a:solidFill>
              <a:srgbClr val="ff2994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2f2f2"/>
                  </a:solidFill>
                  <a:latin typeface="华文细黑"/>
                  <a:ea typeface="华文细黑"/>
                </a:rPr>
                <a:t>项目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785880" y="5421960"/>
              <a:ext cx="1914840" cy="78840"/>
              <a:chOff x="785880" y="5421960"/>
              <a:chExt cx="1914840" cy="78840"/>
            </a:xfrm>
          </p:grpSpPr>
          <p:pic>
            <p:nvPicPr>
              <p:cNvPr id="183" name="任意多边形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785880" y="5421960"/>
                <a:ext cx="1914840" cy="7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"/>
              <p:cNvSpPr/>
              <p:nvPr/>
            </p:nvSpPr>
            <p:spPr>
              <a:xfrm>
                <a:off x="791280" y="5425560"/>
                <a:ext cx="1902960" cy="7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785880" y="3541680"/>
            <a:ext cx="1928880" cy="897120"/>
            <a:chOff x="785880" y="3541680"/>
            <a:chExt cx="1928880" cy="897120"/>
          </a:xfrm>
        </p:grpSpPr>
        <p:sp>
          <p:nvSpPr>
            <p:cNvPr id="186" name="圆角矩形 6"/>
            <p:cNvSpPr/>
            <p:nvPr/>
          </p:nvSpPr>
          <p:spPr>
            <a:xfrm>
              <a:off x="791280" y="3541680"/>
              <a:ext cx="1923480" cy="823680"/>
            </a:xfrm>
            <a:prstGeom prst="roundRect">
              <a:avLst>
                <a:gd name="adj" fmla="val 0"/>
              </a:avLst>
            </a:prstGeom>
            <a:solidFill>
              <a:srgbClr val="cc0066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2f2f2"/>
                  </a:solidFill>
                  <a:latin typeface="华文细黑"/>
                  <a:ea typeface="华文细黑"/>
                </a:rPr>
                <a:t>项目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785880" y="4354200"/>
              <a:ext cx="1914840" cy="84600"/>
              <a:chOff x="785880" y="4354200"/>
              <a:chExt cx="1914840" cy="84600"/>
            </a:xfrm>
          </p:grpSpPr>
          <p:pic>
            <p:nvPicPr>
              <p:cNvPr id="188" name="任意多边形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785880" y="4354200"/>
                <a:ext cx="1914840" cy="8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791280" y="4362480"/>
                <a:ext cx="1902960" cy="7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785880" y="2484360"/>
            <a:ext cx="1928880" cy="901800"/>
            <a:chOff x="785880" y="2484360"/>
            <a:chExt cx="1928880" cy="901800"/>
          </a:xfrm>
        </p:grpSpPr>
        <p:sp>
          <p:nvSpPr>
            <p:cNvPr id="191" name="圆角矩形 4"/>
            <p:cNvSpPr/>
            <p:nvPr/>
          </p:nvSpPr>
          <p:spPr>
            <a:xfrm>
              <a:off x="791280" y="2484360"/>
              <a:ext cx="1923480" cy="825120"/>
            </a:xfrm>
            <a:prstGeom prst="roundRect">
              <a:avLst>
                <a:gd name="adj" fmla="val 0"/>
              </a:avLst>
            </a:prstGeom>
            <a:solidFill>
              <a:srgbClr val="a20051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2f2f2"/>
                  </a:solidFill>
                  <a:latin typeface="华文细黑"/>
                  <a:ea typeface="华文细黑"/>
                </a:rPr>
                <a:t>项目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785880" y="3307320"/>
              <a:ext cx="1914840" cy="78840"/>
              <a:chOff x="785880" y="3307320"/>
              <a:chExt cx="1914840" cy="78840"/>
            </a:xfrm>
          </p:grpSpPr>
          <p:pic>
            <p:nvPicPr>
              <p:cNvPr id="193" name="任意多边形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3307320"/>
                <a:ext cx="1914840" cy="7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>
                <a:off x="791280" y="3311640"/>
                <a:ext cx="1902960" cy="7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5" name=""/>
          <p:cNvGrpSpPr/>
          <p:nvPr/>
        </p:nvGrpSpPr>
        <p:grpSpPr>
          <a:xfrm>
            <a:off x="785880" y="1428840"/>
            <a:ext cx="1928880" cy="895320"/>
            <a:chOff x="785880" y="1428840"/>
            <a:chExt cx="1928880" cy="895320"/>
          </a:xfrm>
        </p:grpSpPr>
        <p:sp>
          <p:nvSpPr>
            <p:cNvPr id="196" name="圆角矩形 3"/>
            <p:cNvSpPr/>
            <p:nvPr/>
          </p:nvSpPr>
          <p:spPr>
            <a:xfrm>
              <a:off x="791280" y="1428840"/>
              <a:ext cx="1923480" cy="824040"/>
            </a:xfrm>
            <a:prstGeom prst="roundRect">
              <a:avLst>
                <a:gd name="adj" fmla="val 0"/>
              </a:avLst>
            </a:prstGeom>
            <a:solidFill>
              <a:srgbClr val="640032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2f2f2"/>
                  </a:solidFill>
                  <a:latin typeface="华文细黑"/>
                  <a:ea typeface="华文细黑"/>
                </a:rPr>
                <a:t>项目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785880" y="2245320"/>
              <a:ext cx="1914840" cy="78840"/>
              <a:chOff x="785880" y="2245320"/>
              <a:chExt cx="1914840" cy="78840"/>
            </a:xfrm>
          </p:grpSpPr>
          <p:pic>
            <p:nvPicPr>
              <p:cNvPr id="198" name="任意多边形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785880" y="2245320"/>
                <a:ext cx="1914840" cy="7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791280" y="2248200"/>
                <a:ext cx="1902960" cy="7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下箭头 10"/>
          <p:cNvSpPr/>
          <p:nvPr/>
        </p:nvSpPr>
        <p:spPr>
          <a:xfrm>
            <a:off x="1519200" y="2214720"/>
            <a:ext cx="500040" cy="3571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下箭头 11"/>
          <p:cNvSpPr/>
          <p:nvPr/>
        </p:nvSpPr>
        <p:spPr>
          <a:xfrm>
            <a:off x="1519200" y="3265560"/>
            <a:ext cx="500040" cy="3571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下箭头 12"/>
          <p:cNvSpPr/>
          <p:nvPr/>
        </p:nvSpPr>
        <p:spPr>
          <a:xfrm>
            <a:off x="1519200" y="4316400"/>
            <a:ext cx="500040" cy="3571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40" y="6094440"/>
            <a:ext cx="61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精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eeppt.com/moban/jingpi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reeform 70"/>
          <p:cNvSpPr/>
          <p:nvPr/>
        </p:nvSpPr>
        <p:spPr>
          <a:xfrm rot="252600">
            <a:off x="488520" y="1459080"/>
            <a:ext cx="2281320" cy="1742760"/>
          </a:xfrm>
          <a:prstGeom prst="pi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44"/>
          <p:cNvSpPr/>
          <p:nvPr/>
        </p:nvSpPr>
        <p:spPr>
          <a:xfrm rot="252600">
            <a:off x="3819240" y="5606640"/>
            <a:ext cx="309600" cy="257400"/>
          </a:xfrm>
          <a:prstGeom prst="pi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45"/>
          <p:cNvSpPr/>
          <p:nvPr/>
        </p:nvSpPr>
        <p:spPr>
          <a:xfrm rot="252600">
            <a:off x="3824280" y="5619240"/>
            <a:ext cx="291960" cy="231840"/>
          </a:xfrm>
          <a:prstGeom prst="pi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47"/>
          <p:cNvSpPr/>
          <p:nvPr/>
        </p:nvSpPr>
        <p:spPr>
          <a:xfrm rot="252600">
            <a:off x="3981600" y="4919760"/>
            <a:ext cx="901440" cy="690480"/>
          </a:xfrm>
          <a:prstGeom prst="pi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48"/>
          <p:cNvSpPr/>
          <p:nvPr/>
        </p:nvSpPr>
        <p:spPr>
          <a:xfrm rot="252600">
            <a:off x="2568240" y="4329000"/>
            <a:ext cx="1011240" cy="1084320"/>
          </a:xfrm>
          <a:prstGeom prst="pi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49"/>
          <p:cNvSpPr/>
          <p:nvPr/>
        </p:nvSpPr>
        <p:spPr>
          <a:xfrm rot="252600">
            <a:off x="3405240" y="4782960"/>
            <a:ext cx="860400" cy="642960"/>
          </a:xfrm>
          <a:prstGeom prst="pi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50"/>
          <p:cNvSpPr/>
          <p:nvPr/>
        </p:nvSpPr>
        <p:spPr>
          <a:xfrm rot="252600">
            <a:off x="5241600" y="4896000"/>
            <a:ext cx="206280" cy="474480"/>
          </a:xfrm>
          <a:prstGeom prst="pi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51"/>
          <p:cNvSpPr/>
          <p:nvPr/>
        </p:nvSpPr>
        <p:spPr>
          <a:xfrm rot="252600">
            <a:off x="5249520" y="4908240"/>
            <a:ext cx="189000" cy="446040"/>
          </a:xfrm>
          <a:prstGeom prst="pi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52"/>
          <p:cNvSpPr/>
          <p:nvPr/>
        </p:nvSpPr>
        <p:spPr>
          <a:xfrm rot="252600">
            <a:off x="4772160" y="4521240"/>
            <a:ext cx="477720" cy="625320"/>
          </a:xfrm>
          <a:prstGeom prst="pi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53"/>
          <p:cNvSpPr/>
          <p:nvPr/>
        </p:nvSpPr>
        <p:spPr>
          <a:xfrm rot="252600">
            <a:off x="3321000" y="4367160"/>
            <a:ext cx="693720" cy="611280"/>
          </a:xfrm>
          <a:prstGeom prst="pi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54"/>
          <p:cNvSpPr/>
          <p:nvPr/>
        </p:nvSpPr>
        <p:spPr>
          <a:xfrm rot="252600">
            <a:off x="3914640" y="4273200"/>
            <a:ext cx="621000" cy="74124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55"/>
          <p:cNvSpPr/>
          <p:nvPr/>
        </p:nvSpPr>
        <p:spPr>
          <a:xfrm rot="252600">
            <a:off x="4471560" y="4274640"/>
            <a:ext cx="544680" cy="768600"/>
          </a:xfrm>
          <a:prstGeom prst="pi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56"/>
          <p:cNvSpPr/>
          <p:nvPr/>
        </p:nvSpPr>
        <p:spPr>
          <a:xfrm rot="252600">
            <a:off x="2665080" y="3668760"/>
            <a:ext cx="1122480" cy="1109520"/>
          </a:xfrm>
          <a:prstGeom prst="pi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57"/>
          <p:cNvSpPr/>
          <p:nvPr/>
        </p:nvSpPr>
        <p:spPr>
          <a:xfrm rot="252600">
            <a:off x="601560" y="3088800"/>
            <a:ext cx="2256120" cy="1378080"/>
          </a:xfrm>
          <a:prstGeom prst="pie">
            <a:avLst/>
          </a:prstGeom>
          <a:solidFill>
            <a:srgbClr val="d5d5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58"/>
          <p:cNvSpPr/>
          <p:nvPr/>
        </p:nvSpPr>
        <p:spPr>
          <a:xfrm rot="252600">
            <a:off x="4987440" y="4218120"/>
            <a:ext cx="422280" cy="426960"/>
          </a:xfrm>
          <a:prstGeom prst="pi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59"/>
          <p:cNvSpPr/>
          <p:nvPr/>
        </p:nvSpPr>
        <p:spPr>
          <a:xfrm rot="252600">
            <a:off x="3556080" y="3963960"/>
            <a:ext cx="531720" cy="565200"/>
          </a:xfrm>
          <a:prstGeom prst="pi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60"/>
          <p:cNvSpPr/>
          <p:nvPr/>
        </p:nvSpPr>
        <p:spPr>
          <a:xfrm rot="252600">
            <a:off x="3901680" y="3887280"/>
            <a:ext cx="868320" cy="538200"/>
          </a:xfrm>
          <a:prstGeom prst="pie">
            <a:avLst/>
          </a:prstGeom>
          <a:solidFill>
            <a:srgbClr val="d5d5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61"/>
          <p:cNvSpPr/>
          <p:nvPr/>
        </p:nvSpPr>
        <p:spPr>
          <a:xfrm rot="252600">
            <a:off x="4627080" y="3679920"/>
            <a:ext cx="536760" cy="662040"/>
          </a:xfrm>
          <a:prstGeom prst="pie">
            <a:avLst/>
          </a:prstGeom>
          <a:solidFill>
            <a:srgbClr val="d5d5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62"/>
          <p:cNvSpPr/>
          <p:nvPr/>
        </p:nvSpPr>
        <p:spPr>
          <a:xfrm rot="252600">
            <a:off x="4768920" y="3604680"/>
            <a:ext cx="636480" cy="619200"/>
          </a:xfrm>
          <a:prstGeom prst="pi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63"/>
          <p:cNvSpPr/>
          <p:nvPr/>
        </p:nvSpPr>
        <p:spPr>
          <a:xfrm rot="252600">
            <a:off x="4143240" y="3452760"/>
            <a:ext cx="641520" cy="622440"/>
          </a:xfrm>
          <a:prstGeom prst="pi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64"/>
          <p:cNvSpPr/>
          <p:nvPr/>
        </p:nvSpPr>
        <p:spPr>
          <a:xfrm rot="252600">
            <a:off x="3646080" y="3007800"/>
            <a:ext cx="566640" cy="1022400"/>
          </a:xfrm>
          <a:prstGeom prst="pi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65"/>
          <p:cNvSpPr/>
          <p:nvPr/>
        </p:nvSpPr>
        <p:spPr>
          <a:xfrm rot="252600">
            <a:off x="1909440" y="2895480"/>
            <a:ext cx="1433520" cy="1036800"/>
          </a:xfrm>
          <a:prstGeom prst="pie">
            <a:avLst/>
          </a:prstGeom>
          <a:solidFill>
            <a:srgbClr val="d5d5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66"/>
          <p:cNvSpPr/>
          <p:nvPr/>
        </p:nvSpPr>
        <p:spPr>
          <a:xfrm rot="252600">
            <a:off x="4138560" y="2881440"/>
            <a:ext cx="392040" cy="785520"/>
          </a:xfrm>
          <a:prstGeom prst="pi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67"/>
          <p:cNvSpPr/>
          <p:nvPr/>
        </p:nvSpPr>
        <p:spPr>
          <a:xfrm rot="252600">
            <a:off x="4640400" y="3211560"/>
            <a:ext cx="736560" cy="492120"/>
          </a:xfrm>
          <a:prstGeom prst="pi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68"/>
          <p:cNvSpPr/>
          <p:nvPr/>
        </p:nvSpPr>
        <p:spPr>
          <a:xfrm rot="252600">
            <a:off x="3504960" y="3024000"/>
            <a:ext cx="318960" cy="522000"/>
          </a:xfrm>
          <a:prstGeom prst="pi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69"/>
          <p:cNvSpPr/>
          <p:nvPr/>
        </p:nvSpPr>
        <p:spPr>
          <a:xfrm rot="252600">
            <a:off x="4471560" y="2589120"/>
            <a:ext cx="615960" cy="900360"/>
          </a:xfrm>
          <a:prstGeom prst="pi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71"/>
          <p:cNvSpPr/>
          <p:nvPr/>
        </p:nvSpPr>
        <p:spPr>
          <a:xfrm rot="252600">
            <a:off x="2914200" y="1160640"/>
            <a:ext cx="2511360" cy="214776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72"/>
          <p:cNvSpPr/>
          <p:nvPr/>
        </p:nvSpPr>
        <p:spPr>
          <a:xfrm rot="252600">
            <a:off x="4643280" y="2827080"/>
            <a:ext cx="271800" cy="303120"/>
          </a:xfrm>
          <a:prstGeom prst="pi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73"/>
          <p:cNvSpPr/>
          <p:nvPr/>
        </p:nvSpPr>
        <p:spPr>
          <a:xfrm rot="252600">
            <a:off x="4995360" y="2463480"/>
            <a:ext cx="679680" cy="635040"/>
          </a:xfrm>
          <a:prstGeom prst="pi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74"/>
          <p:cNvSpPr/>
          <p:nvPr/>
        </p:nvSpPr>
        <p:spPr>
          <a:xfrm rot="252600">
            <a:off x="5157720" y="2112480"/>
            <a:ext cx="981000" cy="63036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75"/>
          <p:cNvSpPr/>
          <p:nvPr/>
        </p:nvSpPr>
        <p:spPr>
          <a:xfrm rot="252600">
            <a:off x="5011200" y="1206000"/>
            <a:ext cx="1285920" cy="1149480"/>
          </a:xfrm>
          <a:prstGeom prst="pi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76"/>
          <p:cNvSpPr/>
          <p:nvPr/>
        </p:nvSpPr>
        <p:spPr>
          <a:xfrm rot="252600">
            <a:off x="2324160" y="2476440"/>
            <a:ext cx="1633320" cy="1397160"/>
          </a:xfrm>
          <a:prstGeom prst="pi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49"/>
          <p:cNvSpPr/>
          <p:nvPr/>
        </p:nvSpPr>
        <p:spPr>
          <a:xfrm>
            <a:off x="5846760" y="4305240"/>
            <a:ext cx="27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华文细黑"/>
                <a:ea typeface="华文细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74"/>
          <p:cNvSpPr/>
          <p:nvPr/>
        </p:nvSpPr>
        <p:spPr>
          <a:xfrm>
            <a:off x="5891040" y="4695840"/>
            <a:ext cx="2592720" cy="144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75"/>
          <p:cNvSpPr/>
          <p:nvPr/>
        </p:nvSpPr>
        <p:spPr>
          <a:xfrm>
            <a:off x="5786280" y="4695840"/>
            <a:ext cx="292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这里是您添加文字内容的地方，字体为华文细黑体，您可以根据实际情况调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52"/>
          <p:cNvSpPr/>
          <p:nvPr/>
        </p:nvSpPr>
        <p:spPr>
          <a:xfrm>
            <a:off x="5835600" y="3006720"/>
            <a:ext cx="27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华文细黑"/>
                <a:ea typeface="华文细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直接连接符 77"/>
          <p:cNvSpPr/>
          <p:nvPr/>
        </p:nvSpPr>
        <p:spPr>
          <a:xfrm>
            <a:off x="5880240" y="3397320"/>
            <a:ext cx="2592360" cy="144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78"/>
          <p:cNvSpPr/>
          <p:nvPr/>
        </p:nvSpPr>
        <p:spPr>
          <a:xfrm>
            <a:off x="5775480" y="3397320"/>
            <a:ext cx="292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这里是您添加文字内容的地方，字体为华文细黑体，您可以根据实际情况调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</a:rPr>
              <a:t>模板使用说明</a:t>
            </a: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14240" y="4517640"/>
            <a:ext cx="7786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华文细黑"/>
              </a:rPr>
              <a:t>感谢您的关注</a:t>
            </a: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</a:rPr>
              <a:t>使用规范说明</a:t>
            </a: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华文细黑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华文细黑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华文细黑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12:59:00Z</dcterms:created>
  <dc:creator>IdeaPPT</dc:creator>
  <dc:description/>
  <dc:language>en-US</dc:language>
  <cp:lastModifiedBy>User</cp:lastModifiedBy>
  <dcterms:modified xsi:type="dcterms:W3CDTF">2015-07-04T06:04:01Z</dcterms:modified>
  <cp:revision>15</cp:revision>
  <dc:subject/>
  <dc:title>魔力紫晕-window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