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45E-8464-4A07-9CD0-11C8A749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C36-C707-4A56-BFE6-1FA5A6BC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4DC-4E5F-43E7-A6EB-51A13E96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1ED-00C1-4E23-99A5-FDE19921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960A-B5A5-496C-AC20-796DE88C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C5EB-624A-46BA-A395-A4C6EC73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2053-86B6-4942-A672-B411FB1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F2AD-81B0-4A14-BFF1-9EC2395B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1416-9B80-4293-B066-23E1B5F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D61B-D4B1-475F-BBF0-C5B9A945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A4AC-4A6F-4AB7-9C1C-0282DFD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5EB-6419-4E6A-AA69-941339B1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A4B0-C0CE-484C-9C52-9B9482C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ED9A-0CA9-45DD-B6E2-63ED1254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67F9-1F19-4474-824D-86B935D4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16E0-63CA-4787-9CC4-EC377769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53AA-D231-4354-BB1F-FC88FAFD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801-F543-47EC-8C23-54081482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D36-EA89-4324-B8B5-329AA80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F62-CD37-459E-AEBE-C3590A34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FAB-3DBF-4C67-86BB-4EA982A6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BE4-FAB7-467D-965B-BCF1243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9E1-20C5-4605-9E3F-95A80A67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2D0-C838-4464-898B-8FA7913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457-3932-452D-8349-83C1B7EEBD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3B1-7708-4B1C-A403-890238E25E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4B2B-6A11-4CC2-8E53-3E32F69B90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8871120" y="-120600"/>
            <a:ext cx="93600" cy="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59425" t="69636" r="33792" b="18586"/>
          <a:stretch/>
        </p:blipFill>
        <p:spPr>
          <a:xfrm>
            <a:off x="-460440" y="-1538280"/>
            <a:ext cx="9807480" cy="1006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rcRect l="68245" t="8610" r="12234" b="60938"/>
          <a:stretch/>
        </p:blipFill>
        <p:spPr>
          <a:xfrm>
            <a:off x="5508720" y="1755720"/>
            <a:ext cx="1039680" cy="96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rcRect l="68140" t="39079" r="11152" b="47095"/>
          <a:stretch/>
        </p:blipFill>
        <p:spPr>
          <a:xfrm>
            <a:off x="5504040" y="2716200"/>
            <a:ext cx="1103040" cy="4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rcRect l="68245" t="52835" r="11761" b="11341"/>
          <a:stretch/>
        </p:blipFill>
        <p:spPr>
          <a:xfrm>
            <a:off x="5510160" y="3152880"/>
            <a:ext cx="1065240" cy="113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5"/>
          <a:srcRect l="47979" t="52835" r="31870" b="10536"/>
          <a:stretch/>
        </p:blipFill>
        <p:spPr>
          <a:xfrm>
            <a:off x="4440240" y="3152880"/>
            <a:ext cx="1074600" cy="1155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6"/>
          <a:srcRect l="47979" t="39079" r="31870" b="47095"/>
          <a:stretch/>
        </p:blipFill>
        <p:spPr>
          <a:xfrm>
            <a:off x="4440240" y="2716200"/>
            <a:ext cx="1074600" cy="43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7"/>
          <a:srcRect l="47979" t="6195" r="31870" b="60938"/>
          <a:stretch/>
        </p:blipFill>
        <p:spPr>
          <a:xfrm>
            <a:off x="4440240" y="16794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8"/>
          <a:srcRect l="34464" t="10238" r="52032" b="10851"/>
          <a:stretch/>
        </p:blipFill>
        <p:spPr>
          <a:xfrm>
            <a:off x="3720960" y="1816200"/>
            <a:ext cx="719280" cy="248904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2614680" y="1766880"/>
            <a:ext cx="1179360" cy="2562120"/>
            <a:chOff x="2614680" y="1766880"/>
            <a:chExt cx="1179360" cy="2562120"/>
          </a:xfrm>
        </p:grpSpPr>
        <p:pic>
          <p:nvPicPr>
            <p:cNvPr id="92" name="Picture 4" descr=""/>
            <p:cNvPicPr/>
            <p:nvPr/>
          </p:nvPicPr>
          <p:blipFill>
            <a:blip r:embed="rId9"/>
            <a:srcRect l="12349" t="50105" r="65547" b="11253"/>
            <a:stretch/>
          </p:blipFill>
          <p:spPr>
            <a:xfrm>
              <a:off x="2614680" y="3110040"/>
              <a:ext cx="1179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"/>
            <p:cNvPicPr/>
            <p:nvPr/>
          </p:nvPicPr>
          <p:blipFill>
            <a:blip r:embed="rId10"/>
            <a:srcRect l="12822" t="7315" r="65547" b="50105"/>
            <a:stretch/>
          </p:blipFill>
          <p:spPr>
            <a:xfrm>
              <a:off x="2639880" y="1766880"/>
              <a:ext cx="1154160" cy="134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4" descr=""/>
          <p:cNvPicPr/>
          <p:nvPr/>
        </p:nvPicPr>
        <p:blipFill>
          <a:blip r:embed="rId11"/>
          <a:srcRect l="22955" t="9205" r="66912" b="62233"/>
          <a:stretch/>
        </p:blipFill>
        <p:spPr>
          <a:xfrm>
            <a:off x="3186000" y="1825560"/>
            <a:ext cx="541440" cy="90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12"/>
          <a:srcRect l="14313" t="62846" r="76961" b="11831"/>
          <a:stretch/>
        </p:blipFill>
        <p:spPr>
          <a:xfrm>
            <a:off x="2714760" y="3505320"/>
            <a:ext cx="46512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13"/>
          <a:stretch/>
        </p:blipFill>
        <p:spPr>
          <a:xfrm>
            <a:off x="4710240" y="1071720"/>
            <a:ext cx="3375000" cy="397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4"/>
          <a:stretch/>
        </p:blipFill>
        <p:spPr>
          <a:xfrm>
            <a:off x="4710240" y="2195640"/>
            <a:ext cx="3375000" cy="397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15"/>
          <a:stretch/>
        </p:blipFill>
        <p:spPr>
          <a:xfrm>
            <a:off x="3086280" y="2271600"/>
            <a:ext cx="3375000" cy="397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16"/>
          <a:stretch/>
        </p:blipFill>
        <p:spPr>
          <a:xfrm>
            <a:off x="3635280" y="1071720"/>
            <a:ext cx="3375000" cy="397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17"/>
          <a:stretch/>
        </p:blipFill>
        <p:spPr>
          <a:xfrm>
            <a:off x="3635280" y="206280"/>
            <a:ext cx="3375000" cy="397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18"/>
          <a:stretch/>
        </p:blipFill>
        <p:spPr>
          <a:xfrm>
            <a:off x="2392200" y="31680"/>
            <a:ext cx="3375360" cy="397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19"/>
          <a:stretch/>
        </p:blipFill>
        <p:spPr>
          <a:xfrm>
            <a:off x="2392200" y="2235240"/>
            <a:ext cx="3375360" cy="397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0"/>
          <a:stretch/>
        </p:blipFill>
        <p:spPr>
          <a:xfrm>
            <a:off x="1768320" y="727200"/>
            <a:ext cx="3375360" cy="397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1"/>
          <a:stretch/>
        </p:blipFill>
        <p:spPr>
          <a:xfrm>
            <a:off x="1260360" y="1755720"/>
            <a:ext cx="3375000" cy="397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2"/>
          <a:stretch/>
        </p:blipFill>
        <p:spPr>
          <a:xfrm>
            <a:off x="4773600" y="157320"/>
            <a:ext cx="3375000" cy="397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3"/>
          <a:stretch/>
        </p:blipFill>
        <p:spPr>
          <a:xfrm>
            <a:off x="1911240" y="1449360"/>
            <a:ext cx="5327640" cy="315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4"/>
          <a:stretch/>
        </p:blipFill>
        <p:spPr>
          <a:xfrm>
            <a:off x="5143680" y="-154080"/>
            <a:ext cx="3375000" cy="3970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5"/>
          <a:stretch/>
        </p:blipFill>
        <p:spPr>
          <a:xfrm>
            <a:off x="888840" y="2438280"/>
            <a:ext cx="3375360" cy="3978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81760" y="358920"/>
            <a:ext cx="430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炫丽片头动画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1782 C 0.00312 -0.03264 0.0033 -0.04167 3.05556E-006 -0.05764 C -0.00052 -0.06574 0.00034 -0.07407 -0.00139 -0.08171 C -0.00191 -0.08403 -0.00434 -0.0831 -0.00573 -0.08426 C -0.01268 -0.09005 -0.01545 -0.09676 -0.02292 -0.09954 C -0.02761 -0.10694 -0.02848 -0.10255 -0.03438 -0.09954 C -0.03681 -0.09583 -0.04045 -0.09329 -0.0415 -0.08843 C -0.04202 -0.08634 -0.04202 -0.08356 -0.04288 -0.08171 C -0.04393 -0.07917 -0.04601 -0.07778 -0.04723 -0.07523 C -0.04931 -0.07106 -0.05295 -0.06181 -0.05295 -0.06157 C -0.05643 -0.0456 -0.05729 -0.02616 -0.05851 -0.00903 C -0.05747 0.01111 -0.06042 0.0206 -0.04861 0.02662 C -0.04584 0.03264 -0.04358 0.03958 -0.0415 0.04653 C -0.03941 0.05347 -0.03907 0.05995 -0.03577 0.0662 C -0.03403 0.06944 -0.03229 0.07292 -0.03004 0.07523 C -0.02882 0.07662 -0.0257 0.07986 -0.0257 0.07731 C -0.0257 0.07407 -0.03004 0.07384 -0.03004 0.0706 E">
                                      <p:cBhvr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1134 C -0.00382 0.00162 -0.00018 0.04236 0.01284 0.05232 C 0.01996 0.05162 0.02725 0.05186 0.03437 0.0507 C 0.03732 0.05024 0.04288 0.04746 0.04288 0.04769 C 0.04566 0.04514 0.05017 0.04468 0.05138 0.04098 C 0.0552 0.02871 0.05729 0.01598 0.05868 0.00324 C 0.06111 -0.01782 0.05833 -0.00694 0.06145 -0.01805 C 0.06093 -0.02615 0.06128 -0.03449 0.06007 -0.04259 C 0.0592 -0.04861 0.04531 -0.05902 0.04149 -0.06389 C 0.03784 -0.07615 0.04288 -0.06041 0.03715 -0.07361 C 0.03489 -0.0787 0.03576 -0.08009 0.03003 -0.08009 E">
                                      <p:cBhvr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0518E-006 L -5.55556E-007 -0.18941 E">
                                      <p:cBhvr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025E-006 L -5.55556E-007 0.13159 E">
                                      <p:cBhvr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2497 L -0.02934 -0.02497 C -0.04254 -0.02497 -0.05851 0.01041 -0.05851 0.03978 L -0.05851 0.10615 E">
                                      <p:cBhvr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1619 L -0.05851 -0.01619 E">
                                      <p:cBhvr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55412E-006 L 1.38889E-006 -0.19473 E">
                                      <p:cBhvr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1179 L -0.02916 -0.01179 C -0.04218 -0.01179 -0.05798 -0.06175 -0.05798 -0.10268 L -0.05798 -0.19195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178 L -0.03247 -0.0178 C -0.04705 -0.0178 -0.06493 0.01827 -0.06493 0.04764 L -0.06493 0.11332 E">
                                      <p:cBhvr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1457 L -0.05798 -0.01457 E">
                                      <p:cBhvr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73988E-006 L -0.00157 0.35723 L -0.02223 0.39098 L -0.47778 0.38474 E">
                                      <p:cBhvr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9.24855E-006 L 1.38889E-006 -0.35307 L 1.38889E-006 -0.36995 L 0.01736 -0.39307 L 0.47778 -0.39099 E">
                                      <p:cBhvr>
                                        <p:cTn id="13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3" descr=""/>
          <p:cNvPicPr/>
          <p:nvPr/>
        </p:nvPicPr>
        <p:blipFill>
          <a:blip r:embed="rId2"/>
          <a:stretch/>
        </p:blipFill>
        <p:spPr>
          <a:xfrm>
            <a:off x="-6480" y="878040"/>
            <a:ext cx="9136080" cy="5143320"/>
          </a:xfrm>
          <a:prstGeom prst="rect">
            <a:avLst/>
          </a:prstGeom>
          <a:ln w="0">
            <a:noFill/>
          </a:ln>
        </p:spPr>
      </p:pic>
      <p:sp>
        <p:nvSpPr>
          <p:cNvPr id="112" name="直接连接符 4"/>
          <p:cNvSpPr/>
          <p:nvPr/>
        </p:nvSpPr>
        <p:spPr>
          <a:xfrm flipV="1">
            <a:off x="6632640" y="1886040"/>
            <a:ext cx="617400" cy="46512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5"/>
          <p:cNvSpPr/>
          <p:nvPr/>
        </p:nvSpPr>
        <p:spPr>
          <a:xfrm flipV="1">
            <a:off x="2176560" y="4638240"/>
            <a:ext cx="671400" cy="45108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6"/>
          <p:cNvSpPr/>
          <p:nvPr/>
        </p:nvSpPr>
        <p:spPr>
          <a:xfrm>
            <a:off x="6462720" y="4902120"/>
            <a:ext cx="334800" cy="2984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7"/>
          <p:cNvSpPr/>
          <p:nvPr/>
        </p:nvSpPr>
        <p:spPr>
          <a:xfrm>
            <a:off x="2243160" y="2144880"/>
            <a:ext cx="617400" cy="5000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8"/>
          <p:cNvSpPr/>
          <p:nvPr/>
        </p:nvSpPr>
        <p:spPr>
          <a:xfrm>
            <a:off x="2305080" y="3436920"/>
            <a:ext cx="252360" cy="14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9"/>
          <p:cNvSpPr/>
          <p:nvPr/>
        </p:nvSpPr>
        <p:spPr>
          <a:xfrm>
            <a:off x="6986520" y="3589200"/>
            <a:ext cx="252360" cy="180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0"/>
          <p:cNvSpPr/>
          <p:nvPr/>
        </p:nvSpPr>
        <p:spPr>
          <a:xfrm flipV="1">
            <a:off x="4437000" y="1635120"/>
            <a:ext cx="1800" cy="23184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1"/>
          <p:cNvSpPr/>
          <p:nvPr/>
        </p:nvSpPr>
        <p:spPr>
          <a:xfrm flipH="1">
            <a:off x="4581360" y="1643040"/>
            <a:ext cx="525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2"/>
          <p:cNvSpPr/>
          <p:nvPr/>
        </p:nvSpPr>
        <p:spPr>
          <a:xfrm>
            <a:off x="6831000" y="2438280"/>
            <a:ext cx="69840" cy="77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3"/>
          <p:cNvSpPr/>
          <p:nvPr/>
        </p:nvSpPr>
        <p:spPr>
          <a:xfrm>
            <a:off x="6710400" y="4591080"/>
            <a:ext cx="6840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4"/>
          <p:cNvSpPr/>
          <p:nvPr/>
        </p:nvSpPr>
        <p:spPr>
          <a:xfrm flipH="1">
            <a:off x="4870440" y="5303880"/>
            <a:ext cx="44640" cy="50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2" presetSubtype="12" repeatCount="indefinite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2" presetSubtype="6" repeatCount="indefinite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2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3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FB0C-55E8-432A-B21B-2D424A33A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6:01:00Z</dcterms:created>
  <dc:creator>千里马LZZ</dc:creator>
  <dc:description/>
  <dc:language>en-US</dc:language>
  <cp:lastModifiedBy>微软中国</cp:lastModifiedBy>
  <dcterms:modified xsi:type="dcterms:W3CDTF">2015-07-04T07:11:2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