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97C8-03E6-4EB4-B00D-8A4D0219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746-CFCC-4FD2-B647-23CA40D1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564-89F3-4040-B51D-095EE260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93F-A4DA-4FAA-8FD0-02A9E2BB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8EC6-A71F-44F7-BEC6-7CE998A0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24FA-AE6B-4CB4-946A-DDA113DD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5876-8815-4439-9958-F6F48E7F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5B09-2FA7-4C5B-910B-CD17D2DD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30EF-B6F2-4ED8-9E63-4B01C6A2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5CC4-D3D2-4221-B528-1B0E912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96E3-AA8E-419C-996D-D27F54E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016-CA36-4E0A-91C4-70461B07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B965-76FA-4EB2-8B9D-FF30128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99A7-4F19-489A-A86A-AE8E27A2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AC41-3130-4CE0-8352-1B353446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93C8-35F4-4EDB-A290-7237AE69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40A8-7321-48D1-8A61-1821558A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C63-1453-4C17-97F2-8D61C473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CB3-24DC-481E-BBEA-514000F1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130-D0ED-4483-83C2-374C56D0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E1E-2440-4C8B-9CF0-8987A716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07C-6F30-4AE0-9A0C-486488CD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FE2-4574-4395-A1FD-5393997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BBE-528A-432A-85F8-AE39722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1440"/>
            <a:ext cx="9144000" cy="514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7256-3A2E-45C6-9386-25F806CFF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D69-CE0F-4A1D-9FF1-A1A87A054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8"/>
          <p:cNvSpPr/>
          <p:nvPr/>
        </p:nvSpPr>
        <p:spPr>
          <a:xfrm>
            <a:off x="838080" y="2801880"/>
            <a:ext cx="5334120" cy="70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金梅浪漫空心體"/>
                <a:ea typeface="方正兰亭粗黑简体"/>
              </a:rPr>
              <a:t>炫蓝艺术</a:t>
            </a:r>
            <a:r>
              <a:rPr b="0" lang="zh-CN" sz="4000" spc="-1" strike="noStrike">
                <a:solidFill>
                  <a:srgbClr val="000000"/>
                </a:solidFill>
                <a:latin typeface="金梅浪漫空心體"/>
                <a:ea typeface="方正兰亭粗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金梅浪漫空心體"/>
                <a:ea typeface="方正兰亭粗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50820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F90-1FF3-4734-88B8-9B0D3FC310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/>
  <dc:description/>
  <dc:language>en-US</dc:language>
  <cp:lastModifiedBy>yk</cp:lastModifiedBy>
  <dcterms:modified xsi:type="dcterms:W3CDTF">2015-07-04T07:12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