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86407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2000" y="258480"/>
            <a:ext cx="7775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2000" y="1516320"/>
            <a:ext cx="7775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" y="3479400"/>
            <a:ext cx="7775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32000" y="258480"/>
            <a:ext cx="7775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32000" y="1516320"/>
            <a:ext cx="379440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16480" y="1516320"/>
            <a:ext cx="379440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32000" y="3479400"/>
            <a:ext cx="379440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16480" y="3479400"/>
            <a:ext cx="379440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32000" y="258480"/>
            <a:ext cx="7775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32000" y="1516320"/>
            <a:ext cx="25034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61080" y="1516320"/>
            <a:ext cx="25034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0160" y="1516320"/>
            <a:ext cx="25034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32000" y="3479400"/>
            <a:ext cx="25034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61080" y="3479400"/>
            <a:ext cx="25034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0160" y="3479400"/>
            <a:ext cx="25034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2000" y="258480"/>
            <a:ext cx="7775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32000" y="1516320"/>
            <a:ext cx="7775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63"/>
              </a:spcBef>
              <a:buNone/>
              <a:tabLst>
                <a:tab algn="l" pos="0"/>
                <a:tab algn="l" pos="3240"/>
                <a:tab algn="l" pos="6480"/>
                <a:tab algn="l" pos="9360"/>
                <a:tab algn="l" pos="12600"/>
                <a:tab algn="l" pos="15840"/>
                <a:tab algn="l" pos="19080"/>
                <a:tab algn="l" pos="22320"/>
                <a:tab algn="l" pos="25560"/>
                <a:tab algn="l" pos="28440"/>
                <a:tab algn="l" pos="31680"/>
                <a:tab algn="l" pos="34920"/>
                <a:tab algn="l" pos="38160"/>
                <a:tab algn="l" pos="41400"/>
                <a:tab algn="l" pos="44280"/>
                <a:tab algn="l" pos="47520"/>
                <a:tab algn="l" pos="50760"/>
                <a:tab algn="l" pos="54000"/>
                <a:tab algn="l" pos="57240"/>
                <a:tab algn="l" pos="60480"/>
                <a:tab algn="l" pos="63360"/>
              </a:tabLst>
            </a:pPr>
            <a:endParaRPr b="0" lang="en-US" sz="3200" spc="-1" strike="noStrike" u="sng">
              <a:solidFill>
                <a:srgbClr val="589cda"/>
              </a:solidFill>
              <a:uFillTx/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2000" y="258480"/>
            <a:ext cx="7775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32000" y="1516320"/>
            <a:ext cx="7775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2000" y="258480"/>
            <a:ext cx="7775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32000" y="1516320"/>
            <a:ext cx="379440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16480" y="1516320"/>
            <a:ext cx="379440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2000" y="258480"/>
            <a:ext cx="7775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9ecf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32000" y="258480"/>
            <a:ext cx="77756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63"/>
              </a:spcBef>
              <a:tabLst>
                <a:tab algn="l" pos="0"/>
                <a:tab algn="l" pos="3240"/>
                <a:tab algn="l" pos="6480"/>
                <a:tab algn="l" pos="9360"/>
                <a:tab algn="l" pos="12600"/>
                <a:tab algn="l" pos="15840"/>
                <a:tab algn="l" pos="19080"/>
                <a:tab algn="l" pos="22320"/>
                <a:tab algn="l" pos="25560"/>
                <a:tab algn="l" pos="28440"/>
                <a:tab algn="l" pos="31680"/>
                <a:tab algn="l" pos="34920"/>
                <a:tab algn="l" pos="38160"/>
                <a:tab algn="l" pos="41400"/>
                <a:tab algn="l" pos="44280"/>
                <a:tab algn="l" pos="47520"/>
                <a:tab algn="l" pos="50760"/>
                <a:tab algn="l" pos="54000"/>
                <a:tab algn="l" pos="57240"/>
                <a:tab algn="l" pos="60480"/>
                <a:tab algn="l" pos="63360"/>
              </a:tabLst>
            </a:pPr>
            <a:endParaRPr b="0" lang="en-US" sz="3200" spc="-1" strike="noStrike" u="sng">
              <a:solidFill>
                <a:srgbClr val="589cda"/>
              </a:solidFill>
              <a:uFillTx/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2000" y="258480"/>
            <a:ext cx="7775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2000" y="1516320"/>
            <a:ext cx="379440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16480" y="1516320"/>
            <a:ext cx="379440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2000" y="3479400"/>
            <a:ext cx="379440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2000" y="258480"/>
            <a:ext cx="7775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32000" y="1516320"/>
            <a:ext cx="7775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63"/>
              </a:spcBef>
              <a:buNone/>
              <a:tabLst>
                <a:tab algn="l" pos="0"/>
                <a:tab algn="l" pos="3240"/>
                <a:tab algn="l" pos="6480"/>
                <a:tab algn="l" pos="9360"/>
                <a:tab algn="l" pos="12600"/>
                <a:tab algn="l" pos="15840"/>
                <a:tab algn="l" pos="19080"/>
                <a:tab algn="l" pos="22320"/>
                <a:tab algn="l" pos="25560"/>
                <a:tab algn="l" pos="28440"/>
                <a:tab algn="l" pos="31680"/>
                <a:tab algn="l" pos="34920"/>
                <a:tab algn="l" pos="38160"/>
                <a:tab algn="l" pos="41400"/>
                <a:tab algn="l" pos="44280"/>
                <a:tab algn="l" pos="47520"/>
                <a:tab algn="l" pos="50760"/>
                <a:tab algn="l" pos="54000"/>
                <a:tab algn="l" pos="57240"/>
                <a:tab algn="l" pos="60480"/>
                <a:tab algn="l" pos="63360"/>
              </a:tabLst>
            </a:pPr>
            <a:endParaRPr b="0" lang="en-US" sz="3200" spc="-1" strike="noStrike" u="sng">
              <a:solidFill>
                <a:srgbClr val="589cda"/>
              </a:solidFill>
              <a:uFillTx/>
              <a:latin typeface="宋体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2000" y="258480"/>
            <a:ext cx="7775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2000" y="1516320"/>
            <a:ext cx="379440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16480" y="1516320"/>
            <a:ext cx="379440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416480" y="3479400"/>
            <a:ext cx="379440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2000" y="258480"/>
            <a:ext cx="7775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2000" y="1516320"/>
            <a:ext cx="379440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16480" y="1516320"/>
            <a:ext cx="379440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32000" y="3479400"/>
            <a:ext cx="7775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32000" y="258480"/>
            <a:ext cx="7775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32000" y="1516320"/>
            <a:ext cx="7775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2000" y="3479400"/>
            <a:ext cx="7775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2000" y="258480"/>
            <a:ext cx="7775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32000" y="1516320"/>
            <a:ext cx="379440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16480" y="1516320"/>
            <a:ext cx="379440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32000" y="3479400"/>
            <a:ext cx="379440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416480" y="3479400"/>
            <a:ext cx="379440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32000" y="258480"/>
            <a:ext cx="7775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32000" y="1516320"/>
            <a:ext cx="25034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061080" y="1516320"/>
            <a:ext cx="25034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0160" y="1516320"/>
            <a:ext cx="25034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32000" y="3479400"/>
            <a:ext cx="25034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061080" y="3479400"/>
            <a:ext cx="25034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0160" y="3479400"/>
            <a:ext cx="25034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2000" y="258480"/>
            <a:ext cx="7775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2000" y="1516320"/>
            <a:ext cx="7775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2000" y="258480"/>
            <a:ext cx="7775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32000" y="1516320"/>
            <a:ext cx="379440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16480" y="1516320"/>
            <a:ext cx="379440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2000" y="258480"/>
            <a:ext cx="7775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9ecf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32000" y="258480"/>
            <a:ext cx="77756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63"/>
              </a:spcBef>
              <a:tabLst>
                <a:tab algn="l" pos="0"/>
                <a:tab algn="l" pos="3240"/>
                <a:tab algn="l" pos="6480"/>
                <a:tab algn="l" pos="9360"/>
                <a:tab algn="l" pos="12600"/>
                <a:tab algn="l" pos="15840"/>
                <a:tab algn="l" pos="19080"/>
                <a:tab algn="l" pos="22320"/>
                <a:tab algn="l" pos="25560"/>
                <a:tab algn="l" pos="28440"/>
                <a:tab algn="l" pos="31680"/>
                <a:tab algn="l" pos="34920"/>
                <a:tab algn="l" pos="38160"/>
                <a:tab algn="l" pos="41400"/>
                <a:tab algn="l" pos="44280"/>
                <a:tab algn="l" pos="47520"/>
                <a:tab algn="l" pos="50760"/>
                <a:tab algn="l" pos="54000"/>
                <a:tab algn="l" pos="57240"/>
                <a:tab algn="l" pos="60480"/>
                <a:tab algn="l" pos="63360"/>
              </a:tabLst>
            </a:pPr>
            <a:endParaRPr b="0" lang="en-US" sz="3200" spc="-1" strike="noStrike" u="sng">
              <a:solidFill>
                <a:srgbClr val="589cda"/>
              </a:solidFill>
              <a:uFillTx/>
              <a:latin typeface="宋体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32000" y="258480"/>
            <a:ext cx="7775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32000" y="1516320"/>
            <a:ext cx="379440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16480" y="1516320"/>
            <a:ext cx="379440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32000" y="3479400"/>
            <a:ext cx="379440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2000" y="258480"/>
            <a:ext cx="7775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32000" y="1516320"/>
            <a:ext cx="379440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16480" y="1516320"/>
            <a:ext cx="379440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16480" y="3479400"/>
            <a:ext cx="379440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2000" y="258480"/>
            <a:ext cx="7775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32000" y="1516320"/>
            <a:ext cx="379440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16480" y="1516320"/>
            <a:ext cx="379440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32000" y="3479400"/>
            <a:ext cx="7775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44480" y="0"/>
            <a:ext cx="6985080" cy="647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666800" y="1192320"/>
            <a:ext cx="6991560" cy="5111280"/>
            <a:chOff x="1666800" y="1192320"/>
            <a:chExt cx="6991560" cy="5111280"/>
          </a:xfrm>
        </p:grpSpPr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4078080" y="5214960"/>
              <a:ext cx="4562640" cy="10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66800" y="1192320"/>
              <a:ext cx="6360840" cy="75960"/>
            </a:xfrm>
            <a:prstGeom prst="rect">
              <a:avLst/>
            </a:prstGeom>
            <a:gradFill rotWithShape="0">
              <a:gsLst>
                <a:gs pos="0">
                  <a:srgbClr val="294b87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60400" y="5225760"/>
              <a:ext cx="5097960" cy="64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94b8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6850080" y="903240"/>
            <a:ext cx="17064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2850"/>
                </a:solidFill>
                <a:latin typeface="Times New Roman"/>
                <a:ea typeface="宋体"/>
              </a:rPr>
              <a:t>公司</a:t>
            </a:r>
            <a:r>
              <a:rPr b="0" lang="en-US" sz="1200" spc="-1" strike="noStrike">
                <a:solidFill>
                  <a:srgbClr val="002850"/>
                </a:solidFill>
                <a:latin typeface="Times New Roman"/>
                <a:ea typeface="宋体"/>
              </a:rPr>
              <a:t>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2000" y="258480"/>
            <a:ext cx="7775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9ecf3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32000" y="1516320"/>
            <a:ext cx="7775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ffffff"/>
              </a:buClr>
              <a:buFont typeface="Windings"/>
              <a:buChar char="•"/>
              <a:tabLst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lick to edit the outline text format</a:t>
            </a: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lvl="1" marL="539640" indent="0" algn="just">
              <a:lnSpc>
                <a:spcPct val="110000"/>
              </a:lnSpc>
              <a:spcBef>
                <a:spcPts val="763"/>
              </a:spcBef>
              <a:tabLst>
                <a:tab algn="l" pos="0"/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cond Outline Level</a:t>
            </a: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lvl="2"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ffffff"/>
              </a:buClr>
              <a:buFont typeface="Windings"/>
              <a:buChar char="•"/>
              <a:tabLst>
                <a:tab algn="l" pos="0"/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ffffff"/>
              </a:buClr>
              <a:buFont typeface="Windings"/>
              <a:buChar char="•"/>
              <a:tabLst>
                <a:tab algn="l" pos="0"/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539640" indent="-269640" algn="just">
              <a:lnSpc>
                <a:spcPct val="110000"/>
              </a:lnSpc>
              <a:spcBef>
                <a:spcPts val="51"/>
              </a:spcBef>
              <a:buClr>
                <a:srgbClr val="ffffff"/>
              </a:buClr>
              <a:buFont typeface="Windings"/>
              <a:buChar char="•"/>
              <a:tabLst>
                <a:tab algn="l" pos="0"/>
                <a:tab algn="l" pos="542880"/>
                <a:tab algn="l" pos="546120"/>
                <a:tab algn="l" pos="549360"/>
                <a:tab algn="l" pos="552600"/>
                <a:tab algn="l" pos="555480"/>
                <a:tab algn="l" pos="558720"/>
                <a:tab algn="l" pos="561960"/>
                <a:tab algn="l" pos="565200"/>
                <a:tab algn="l" pos="568440"/>
                <a:tab algn="l" pos="571680"/>
                <a:tab algn="l" pos="574560"/>
                <a:tab algn="l" pos="577800"/>
                <a:tab algn="l" pos="581040"/>
                <a:tab algn="l" pos="584280"/>
                <a:tab algn="l" pos="587520"/>
                <a:tab algn="l" pos="590400"/>
                <a:tab algn="l" pos="593640"/>
                <a:tab algn="l" pos="596880"/>
                <a:tab algn="l" pos="600120"/>
                <a:tab algn="l" pos="6033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539640" indent="-269640">
              <a:spcBef>
                <a:spcPts val="601"/>
              </a:spcBef>
              <a:buClr>
                <a:srgbClr val="ffffff"/>
              </a:buClr>
              <a:buFont typeface="Winding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539640" indent="-269640">
              <a:spcBef>
                <a:spcPts val="601"/>
              </a:spcBef>
              <a:buClr>
                <a:srgbClr val="ffffff"/>
              </a:buClr>
              <a:buFont typeface="Winding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593640" y="0"/>
            <a:ext cx="8056440" cy="6462720"/>
            <a:chOff x="593640" y="0"/>
            <a:chExt cx="8056440" cy="6462720"/>
          </a:xfrm>
        </p:grpSpPr>
        <p:sp>
          <p:nvSpPr>
            <p:cNvPr id="45" name=""/>
            <p:cNvSpPr/>
            <p:nvPr/>
          </p:nvSpPr>
          <p:spPr>
            <a:xfrm>
              <a:off x="2565000" y="0"/>
              <a:ext cx="6085080" cy="646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5841720" y="3294720"/>
              <a:ext cx="2407680" cy="2801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92" y="1081"/>
                  </a:moveTo>
                  <a:lnTo>
                    <a:pt x="21600" y="0"/>
                  </a:lnTo>
                  <a:lnTo>
                    <a:pt x="21309" y="138"/>
                  </a:lnTo>
                  <a:lnTo>
                    <a:pt x="21018" y="304"/>
                  </a:lnTo>
                  <a:lnTo>
                    <a:pt x="20469" y="582"/>
                  </a:lnTo>
                  <a:lnTo>
                    <a:pt x="19888" y="887"/>
                  </a:lnTo>
                  <a:lnTo>
                    <a:pt x="19727" y="942"/>
                  </a:lnTo>
                  <a:lnTo>
                    <a:pt x="19630" y="1025"/>
                  </a:lnTo>
                  <a:lnTo>
                    <a:pt x="19339" y="1164"/>
                  </a:lnTo>
                  <a:lnTo>
                    <a:pt x="19049" y="1303"/>
                  </a:lnTo>
                  <a:lnTo>
                    <a:pt x="18758" y="1413"/>
                  </a:lnTo>
                  <a:lnTo>
                    <a:pt x="18177" y="1718"/>
                  </a:lnTo>
                  <a:lnTo>
                    <a:pt x="17919" y="1829"/>
                  </a:lnTo>
                  <a:lnTo>
                    <a:pt x="17628" y="1968"/>
                  </a:lnTo>
                  <a:lnTo>
                    <a:pt x="17047" y="2218"/>
                  </a:lnTo>
                  <a:lnTo>
                    <a:pt x="16466" y="2467"/>
                  </a:lnTo>
                  <a:lnTo>
                    <a:pt x="15884" y="2717"/>
                  </a:lnTo>
                  <a:lnTo>
                    <a:pt x="15756" y="2772"/>
                  </a:lnTo>
                  <a:lnTo>
                    <a:pt x="15626" y="2800"/>
                  </a:lnTo>
                  <a:lnTo>
                    <a:pt x="15303" y="2938"/>
                  </a:lnTo>
                  <a:lnTo>
                    <a:pt x="14755" y="3188"/>
                  </a:lnTo>
                  <a:lnTo>
                    <a:pt x="14173" y="3382"/>
                  </a:lnTo>
                  <a:lnTo>
                    <a:pt x="14012" y="3437"/>
                  </a:lnTo>
                  <a:lnTo>
                    <a:pt x="13883" y="3493"/>
                  </a:lnTo>
                  <a:lnTo>
                    <a:pt x="13592" y="3604"/>
                  </a:lnTo>
                  <a:lnTo>
                    <a:pt x="13011" y="3798"/>
                  </a:lnTo>
                  <a:lnTo>
                    <a:pt x="12430" y="4020"/>
                  </a:lnTo>
                  <a:lnTo>
                    <a:pt x="11849" y="4186"/>
                  </a:lnTo>
                  <a:lnTo>
                    <a:pt x="11526" y="4269"/>
                  </a:lnTo>
                  <a:lnTo>
                    <a:pt x="11397" y="4325"/>
                  </a:lnTo>
                  <a:lnTo>
                    <a:pt x="11235" y="4380"/>
                  </a:lnTo>
                  <a:lnTo>
                    <a:pt x="10654" y="4575"/>
                  </a:lnTo>
                  <a:lnTo>
                    <a:pt x="10073" y="4713"/>
                  </a:lnTo>
                  <a:lnTo>
                    <a:pt x="9782" y="4796"/>
                  </a:lnTo>
                  <a:lnTo>
                    <a:pt x="9459" y="4879"/>
                  </a:lnTo>
                  <a:lnTo>
                    <a:pt x="8878" y="5046"/>
                  </a:lnTo>
                  <a:lnTo>
                    <a:pt x="8265" y="5185"/>
                  </a:lnTo>
                  <a:lnTo>
                    <a:pt x="7974" y="5268"/>
                  </a:lnTo>
                  <a:lnTo>
                    <a:pt x="7684" y="5351"/>
                  </a:lnTo>
                  <a:lnTo>
                    <a:pt x="7393" y="5406"/>
                  </a:lnTo>
                  <a:lnTo>
                    <a:pt x="7232" y="5462"/>
                  </a:lnTo>
                  <a:lnTo>
                    <a:pt x="7102" y="5489"/>
                  </a:lnTo>
                  <a:lnTo>
                    <a:pt x="6489" y="5600"/>
                  </a:lnTo>
                  <a:lnTo>
                    <a:pt x="5875" y="5711"/>
                  </a:lnTo>
                  <a:lnTo>
                    <a:pt x="5585" y="5794"/>
                  </a:lnTo>
                  <a:lnTo>
                    <a:pt x="5456" y="5822"/>
                  </a:lnTo>
                  <a:lnTo>
                    <a:pt x="5294" y="5850"/>
                  </a:lnTo>
                  <a:lnTo>
                    <a:pt x="4972" y="5905"/>
                  </a:lnTo>
                  <a:lnTo>
                    <a:pt x="4681" y="5961"/>
                  </a:lnTo>
                  <a:lnTo>
                    <a:pt x="4068" y="6044"/>
                  </a:lnTo>
                  <a:lnTo>
                    <a:pt x="3777" y="6100"/>
                  </a:lnTo>
                  <a:lnTo>
                    <a:pt x="3454" y="6155"/>
                  </a:lnTo>
                  <a:lnTo>
                    <a:pt x="2841" y="6238"/>
                  </a:lnTo>
                  <a:lnTo>
                    <a:pt x="2937" y="6238"/>
                  </a:lnTo>
                  <a:lnTo>
                    <a:pt x="3002" y="6238"/>
                  </a:lnTo>
                  <a:lnTo>
                    <a:pt x="3196" y="6238"/>
                  </a:lnTo>
                  <a:lnTo>
                    <a:pt x="3519" y="6266"/>
                  </a:lnTo>
                  <a:lnTo>
                    <a:pt x="4196" y="6294"/>
                  </a:lnTo>
                  <a:lnTo>
                    <a:pt x="4842" y="6294"/>
                  </a:lnTo>
                  <a:lnTo>
                    <a:pt x="5488" y="6294"/>
                  </a:lnTo>
                  <a:lnTo>
                    <a:pt x="6166" y="6294"/>
                  </a:lnTo>
                  <a:lnTo>
                    <a:pt x="6521" y="6294"/>
                  </a:lnTo>
                  <a:lnTo>
                    <a:pt x="6812" y="6294"/>
                  </a:lnTo>
                  <a:lnTo>
                    <a:pt x="7490" y="6266"/>
                  </a:lnTo>
                  <a:lnTo>
                    <a:pt x="7651" y="6266"/>
                  </a:lnTo>
                  <a:lnTo>
                    <a:pt x="7813" y="6266"/>
                  </a:lnTo>
                  <a:lnTo>
                    <a:pt x="8168" y="6238"/>
                  </a:lnTo>
                  <a:lnTo>
                    <a:pt x="7684" y="6488"/>
                  </a:lnTo>
                  <a:lnTo>
                    <a:pt x="7619" y="6515"/>
                  </a:lnTo>
                  <a:lnTo>
                    <a:pt x="7554" y="6543"/>
                  </a:lnTo>
                  <a:lnTo>
                    <a:pt x="7490" y="6571"/>
                  </a:lnTo>
                  <a:lnTo>
                    <a:pt x="7264" y="6682"/>
                  </a:lnTo>
                  <a:lnTo>
                    <a:pt x="7038" y="6793"/>
                  </a:lnTo>
                  <a:lnTo>
                    <a:pt x="6812" y="6903"/>
                  </a:lnTo>
                  <a:lnTo>
                    <a:pt x="6360" y="7098"/>
                  </a:lnTo>
                  <a:lnTo>
                    <a:pt x="5875" y="7319"/>
                  </a:lnTo>
                  <a:lnTo>
                    <a:pt x="5617" y="7403"/>
                  </a:lnTo>
                  <a:lnTo>
                    <a:pt x="5488" y="7430"/>
                  </a:lnTo>
                  <a:lnTo>
                    <a:pt x="5391" y="7486"/>
                  </a:lnTo>
                  <a:lnTo>
                    <a:pt x="5262" y="7541"/>
                  </a:lnTo>
                  <a:lnTo>
                    <a:pt x="5133" y="7597"/>
                  </a:lnTo>
                  <a:lnTo>
                    <a:pt x="4907" y="7708"/>
                  </a:lnTo>
                  <a:lnTo>
                    <a:pt x="4390" y="7874"/>
                  </a:lnTo>
                  <a:lnTo>
                    <a:pt x="3874" y="8068"/>
                  </a:lnTo>
                  <a:lnTo>
                    <a:pt x="3648" y="8151"/>
                  </a:lnTo>
                  <a:lnTo>
                    <a:pt x="3357" y="8262"/>
                  </a:lnTo>
                  <a:lnTo>
                    <a:pt x="3099" y="8345"/>
                  </a:lnTo>
                  <a:lnTo>
                    <a:pt x="3034" y="8345"/>
                  </a:lnTo>
                  <a:lnTo>
                    <a:pt x="2970" y="8345"/>
                  </a:lnTo>
                  <a:lnTo>
                    <a:pt x="2841" y="8401"/>
                  </a:lnTo>
                  <a:lnTo>
                    <a:pt x="2292" y="8595"/>
                  </a:lnTo>
                  <a:lnTo>
                    <a:pt x="1743" y="8761"/>
                  </a:lnTo>
                  <a:lnTo>
                    <a:pt x="1485" y="8817"/>
                  </a:lnTo>
                  <a:lnTo>
                    <a:pt x="1194" y="8900"/>
                  </a:lnTo>
                  <a:lnTo>
                    <a:pt x="645" y="9066"/>
                  </a:lnTo>
                  <a:lnTo>
                    <a:pt x="516" y="9094"/>
                  </a:lnTo>
                  <a:lnTo>
                    <a:pt x="387" y="9150"/>
                  </a:lnTo>
                  <a:lnTo>
                    <a:pt x="64" y="9233"/>
                  </a:lnTo>
                  <a:lnTo>
                    <a:pt x="31" y="9288"/>
                  </a:lnTo>
                  <a:lnTo>
                    <a:pt x="31" y="9288"/>
                  </a:lnTo>
                  <a:lnTo>
                    <a:pt x="0" y="9344"/>
                  </a:lnTo>
                  <a:lnTo>
                    <a:pt x="0" y="9399"/>
                  </a:lnTo>
                  <a:lnTo>
                    <a:pt x="0" y="9454"/>
                  </a:lnTo>
                  <a:lnTo>
                    <a:pt x="0" y="9510"/>
                  </a:lnTo>
                  <a:lnTo>
                    <a:pt x="0" y="9593"/>
                  </a:lnTo>
                  <a:lnTo>
                    <a:pt x="0" y="9704"/>
                  </a:lnTo>
                  <a:lnTo>
                    <a:pt x="0" y="9760"/>
                  </a:lnTo>
                  <a:lnTo>
                    <a:pt x="31" y="9843"/>
                  </a:lnTo>
                  <a:lnTo>
                    <a:pt x="96" y="9926"/>
                  </a:lnTo>
                  <a:lnTo>
                    <a:pt x="128" y="9954"/>
                  </a:lnTo>
                  <a:lnTo>
                    <a:pt x="161" y="9981"/>
                  </a:lnTo>
                  <a:lnTo>
                    <a:pt x="258" y="10065"/>
                  </a:lnTo>
                  <a:lnTo>
                    <a:pt x="290" y="10092"/>
                  </a:lnTo>
                  <a:lnTo>
                    <a:pt x="354" y="10120"/>
                  </a:lnTo>
                  <a:lnTo>
                    <a:pt x="484" y="10176"/>
                  </a:lnTo>
                  <a:lnTo>
                    <a:pt x="581" y="10203"/>
                  </a:lnTo>
                  <a:lnTo>
                    <a:pt x="645" y="10231"/>
                  </a:lnTo>
                  <a:lnTo>
                    <a:pt x="710" y="10259"/>
                  </a:lnTo>
                  <a:lnTo>
                    <a:pt x="807" y="10286"/>
                  </a:lnTo>
                  <a:lnTo>
                    <a:pt x="903" y="10314"/>
                  </a:lnTo>
                  <a:lnTo>
                    <a:pt x="968" y="10342"/>
                  </a:lnTo>
                  <a:lnTo>
                    <a:pt x="1065" y="10342"/>
                  </a:lnTo>
                  <a:lnTo>
                    <a:pt x="1097" y="10342"/>
                  </a:lnTo>
                  <a:lnTo>
                    <a:pt x="1129" y="10370"/>
                  </a:lnTo>
                  <a:lnTo>
                    <a:pt x="1226" y="10370"/>
                  </a:lnTo>
                  <a:lnTo>
                    <a:pt x="1420" y="10370"/>
                  </a:lnTo>
                  <a:lnTo>
                    <a:pt x="1775" y="10397"/>
                  </a:lnTo>
                  <a:lnTo>
                    <a:pt x="1969" y="10425"/>
                  </a:lnTo>
                  <a:lnTo>
                    <a:pt x="2130" y="10425"/>
                  </a:lnTo>
                  <a:lnTo>
                    <a:pt x="2486" y="10453"/>
                  </a:lnTo>
                  <a:lnTo>
                    <a:pt x="2808" y="10480"/>
                  </a:lnTo>
                  <a:lnTo>
                    <a:pt x="3196" y="10508"/>
                  </a:lnTo>
                  <a:lnTo>
                    <a:pt x="3519" y="10536"/>
                  </a:lnTo>
                  <a:lnTo>
                    <a:pt x="3615" y="10536"/>
                  </a:lnTo>
                  <a:lnTo>
                    <a:pt x="3712" y="10536"/>
                  </a:lnTo>
                  <a:lnTo>
                    <a:pt x="3842" y="10536"/>
                  </a:lnTo>
                  <a:lnTo>
                    <a:pt x="2163" y="20934"/>
                  </a:lnTo>
                  <a:lnTo>
                    <a:pt x="2227" y="20962"/>
                  </a:lnTo>
                  <a:lnTo>
                    <a:pt x="2259" y="20989"/>
                  </a:lnTo>
                  <a:lnTo>
                    <a:pt x="2292" y="21017"/>
                  </a:lnTo>
                  <a:lnTo>
                    <a:pt x="2356" y="21045"/>
                  </a:lnTo>
                  <a:lnTo>
                    <a:pt x="2389" y="21072"/>
                  </a:lnTo>
                  <a:lnTo>
                    <a:pt x="2453" y="21072"/>
                  </a:lnTo>
                  <a:lnTo>
                    <a:pt x="2486" y="21072"/>
                  </a:lnTo>
                  <a:lnTo>
                    <a:pt x="2550" y="21072"/>
                  </a:lnTo>
                  <a:lnTo>
                    <a:pt x="2614" y="21045"/>
                  </a:lnTo>
                  <a:lnTo>
                    <a:pt x="2647" y="21017"/>
                  </a:lnTo>
                  <a:lnTo>
                    <a:pt x="2711" y="20989"/>
                  </a:lnTo>
                  <a:lnTo>
                    <a:pt x="2744" y="20934"/>
                  </a:lnTo>
                  <a:lnTo>
                    <a:pt x="2808" y="20934"/>
                  </a:lnTo>
                  <a:lnTo>
                    <a:pt x="5068" y="10619"/>
                  </a:lnTo>
                  <a:lnTo>
                    <a:pt x="5456" y="10619"/>
                  </a:lnTo>
                  <a:lnTo>
                    <a:pt x="5650" y="10619"/>
                  </a:lnTo>
                  <a:lnTo>
                    <a:pt x="5682" y="10619"/>
                  </a:lnTo>
                  <a:lnTo>
                    <a:pt x="5747" y="10647"/>
                  </a:lnTo>
                  <a:lnTo>
                    <a:pt x="5843" y="10647"/>
                  </a:lnTo>
                  <a:lnTo>
                    <a:pt x="6231" y="10647"/>
                  </a:lnTo>
                  <a:lnTo>
                    <a:pt x="6425" y="10675"/>
                  </a:lnTo>
                  <a:lnTo>
                    <a:pt x="6586" y="10675"/>
                  </a:lnTo>
                  <a:lnTo>
                    <a:pt x="6779" y="10675"/>
                  </a:lnTo>
                  <a:lnTo>
                    <a:pt x="6973" y="10675"/>
                  </a:lnTo>
                  <a:lnTo>
                    <a:pt x="7329" y="10675"/>
                  </a:lnTo>
                  <a:lnTo>
                    <a:pt x="7684" y="10675"/>
                  </a:lnTo>
                  <a:lnTo>
                    <a:pt x="8071" y="10675"/>
                  </a:lnTo>
                  <a:lnTo>
                    <a:pt x="8394" y="10702"/>
                  </a:lnTo>
                  <a:lnTo>
                    <a:pt x="8749" y="10702"/>
                  </a:lnTo>
                  <a:lnTo>
                    <a:pt x="9104" y="10702"/>
                  </a:lnTo>
                  <a:lnTo>
                    <a:pt x="9427" y="10702"/>
                  </a:lnTo>
                  <a:lnTo>
                    <a:pt x="9782" y="10702"/>
                  </a:lnTo>
                  <a:lnTo>
                    <a:pt x="9912" y="10702"/>
                  </a:lnTo>
                  <a:lnTo>
                    <a:pt x="10105" y="10702"/>
                  </a:lnTo>
                  <a:lnTo>
                    <a:pt x="10751" y="10702"/>
                  </a:lnTo>
                  <a:lnTo>
                    <a:pt x="11494" y="15527"/>
                  </a:lnTo>
                  <a:lnTo>
                    <a:pt x="11526" y="15555"/>
                  </a:lnTo>
                  <a:lnTo>
                    <a:pt x="11623" y="15610"/>
                  </a:lnTo>
                  <a:lnTo>
                    <a:pt x="11655" y="15638"/>
                  </a:lnTo>
                  <a:lnTo>
                    <a:pt x="11687" y="15638"/>
                  </a:lnTo>
                  <a:lnTo>
                    <a:pt x="11784" y="15638"/>
                  </a:lnTo>
                  <a:lnTo>
                    <a:pt x="11849" y="15638"/>
                  </a:lnTo>
                  <a:lnTo>
                    <a:pt x="11945" y="15638"/>
                  </a:lnTo>
                  <a:lnTo>
                    <a:pt x="12010" y="15583"/>
                  </a:lnTo>
                  <a:lnTo>
                    <a:pt x="12075" y="15555"/>
                  </a:lnTo>
                  <a:lnTo>
                    <a:pt x="11687" y="10702"/>
                  </a:lnTo>
                  <a:lnTo>
                    <a:pt x="12010" y="10675"/>
                  </a:lnTo>
                  <a:lnTo>
                    <a:pt x="12268" y="10675"/>
                  </a:lnTo>
                  <a:lnTo>
                    <a:pt x="12591" y="10675"/>
                  </a:lnTo>
                  <a:lnTo>
                    <a:pt x="12850" y="10675"/>
                  </a:lnTo>
                  <a:lnTo>
                    <a:pt x="13398" y="10647"/>
                  </a:lnTo>
                  <a:lnTo>
                    <a:pt x="13463" y="10647"/>
                  </a:lnTo>
                  <a:lnTo>
                    <a:pt x="13528" y="10647"/>
                  </a:lnTo>
                  <a:lnTo>
                    <a:pt x="13657" y="10619"/>
                  </a:lnTo>
                  <a:lnTo>
                    <a:pt x="13915" y="10619"/>
                  </a:lnTo>
                  <a:lnTo>
                    <a:pt x="17079" y="21516"/>
                  </a:lnTo>
                  <a:lnTo>
                    <a:pt x="17144" y="21571"/>
                  </a:lnTo>
                  <a:lnTo>
                    <a:pt x="17208" y="21571"/>
                  </a:lnTo>
                  <a:lnTo>
                    <a:pt x="17241" y="21600"/>
                  </a:lnTo>
                  <a:lnTo>
                    <a:pt x="17305" y="21600"/>
                  </a:lnTo>
                  <a:lnTo>
                    <a:pt x="17338" y="21600"/>
                  </a:lnTo>
                  <a:lnTo>
                    <a:pt x="17370" y="21600"/>
                  </a:lnTo>
                  <a:lnTo>
                    <a:pt x="17370" y="21600"/>
                  </a:lnTo>
                  <a:lnTo>
                    <a:pt x="17370" y="21600"/>
                  </a:lnTo>
                  <a:lnTo>
                    <a:pt x="17370" y="21600"/>
                  </a:lnTo>
                  <a:lnTo>
                    <a:pt x="17402" y="21600"/>
                  </a:lnTo>
                  <a:lnTo>
                    <a:pt x="17434" y="21600"/>
                  </a:lnTo>
                  <a:lnTo>
                    <a:pt x="17434" y="21600"/>
                  </a:lnTo>
                  <a:lnTo>
                    <a:pt x="17434" y="21600"/>
                  </a:lnTo>
                  <a:lnTo>
                    <a:pt x="17434" y="21600"/>
                  </a:lnTo>
                  <a:lnTo>
                    <a:pt x="17466" y="21600"/>
                  </a:lnTo>
                  <a:lnTo>
                    <a:pt x="17499" y="21600"/>
                  </a:lnTo>
                  <a:lnTo>
                    <a:pt x="17499" y="21600"/>
                  </a:lnTo>
                  <a:lnTo>
                    <a:pt x="17499" y="21600"/>
                  </a:lnTo>
                  <a:lnTo>
                    <a:pt x="17531" y="21571"/>
                  </a:lnTo>
                  <a:lnTo>
                    <a:pt x="17563" y="21571"/>
                  </a:lnTo>
                  <a:lnTo>
                    <a:pt x="17596" y="21544"/>
                  </a:lnTo>
                  <a:lnTo>
                    <a:pt x="17596" y="21544"/>
                  </a:lnTo>
                  <a:lnTo>
                    <a:pt x="17628" y="21516"/>
                  </a:lnTo>
                  <a:lnTo>
                    <a:pt x="17628" y="21488"/>
                  </a:lnTo>
                  <a:lnTo>
                    <a:pt x="17660" y="21461"/>
                  </a:lnTo>
                  <a:lnTo>
                    <a:pt x="17693" y="21433"/>
                  </a:lnTo>
                  <a:lnTo>
                    <a:pt x="17693" y="21405"/>
                  </a:lnTo>
                  <a:lnTo>
                    <a:pt x="17725" y="21405"/>
                  </a:lnTo>
                  <a:lnTo>
                    <a:pt x="17725" y="21350"/>
                  </a:lnTo>
                  <a:lnTo>
                    <a:pt x="15174" y="10508"/>
                  </a:lnTo>
                  <a:lnTo>
                    <a:pt x="15303" y="10425"/>
                  </a:lnTo>
                  <a:lnTo>
                    <a:pt x="15465" y="10370"/>
                  </a:lnTo>
                  <a:lnTo>
                    <a:pt x="15562" y="10342"/>
                  </a:lnTo>
                  <a:lnTo>
                    <a:pt x="15626" y="10286"/>
                  </a:lnTo>
                  <a:lnTo>
                    <a:pt x="15788" y="10231"/>
                  </a:lnTo>
                  <a:lnTo>
                    <a:pt x="15852" y="10203"/>
                  </a:lnTo>
                  <a:lnTo>
                    <a:pt x="15917" y="10176"/>
                  </a:lnTo>
                  <a:lnTo>
                    <a:pt x="16078" y="10092"/>
                  </a:lnTo>
                  <a:lnTo>
                    <a:pt x="16240" y="10009"/>
                  </a:lnTo>
                  <a:lnTo>
                    <a:pt x="16401" y="9926"/>
                  </a:lnTo>
                  <a:lnTo>
                    <a:pt x="16498" y="9843"/>
                  </a:lnTo>
                  <a:lnTo>
                    <a:pt x="16659" y="9760"/>
                  </a:lnTo>
                  <a:lnTo>
                    <a:pt x="16788" y="9704"/>
                  </a:lnTo>
                  <a:lnTo>
                    <a:pt x="16853" y="9649"/>
                  </a:lnTo>
                  <a:lnTo>
                    <a:pt x="16950" y="9593"/>
                  </a:lnTo>
                  <a:lnTo>
                    <a:pt x="17047" y="9482"/>
                  </a:lnTo>
                  <a:lnTo>
                    <a:pt x="17111" y="9454"/>
                  </a:lnTo>
                  <a:lnTo>
                    <a:pt x="17176" y="9399"/>
                  </a:lnTo>
                  <a:lnTo>
                    <a:pt x="17338" y="9288"/>
                  </a:lnTo>
                  <a:lnTo>
                    <a:pt x="17466" y="9205"/>
                  </a:lnTo>
                  <a:lnTo>
                    <a:pt x="17563" y="9094"/>
                  </a:lnTo>
                  <a:lnTo>
                    <a:pt x="17693" y="8983"/>
                  </a:lnTo>
                  <a:lnTo>
                    <a:pt x="17757" y="8928"/>
                  </a:lnTo>
                  <a:lnTo>
                    <a:pt x="17822" y="8872"/>
                  </a:lnTo>
                  <a:lnTo>
                    <a:pt x="17951" y="8761"/>
                  </a:lnTo>
                  <a:lnTo>
                    <a:pt x="18048" y="8651"/>
                  </a:lnTo>
                  <a:lnTo>
                    <a:pt x="18145" y="8540"/>
                  </a:lnTo>
                  <a:lnTo>
                    <a:pt x="18242" y="8401"/>
                  </a:lnTo>
                  <a:lnTo>
                    <a:pt x="18306" y="8345"/>
                  </a:lnTo>
                  <a:lnTo>
                    <a:pt x="18371" y="8290"/>
                  </a:lnTo>
                  <a:lnTo>
                    <a:pt x="18467" y="8151"/>
                  </a:lnTo>
                  <a:lnTo>
                    <a:pt x="18597" y="8013"/>
                  </a:lnTo>
                  <a:lnTo>
                    <a:pt x="18661" y="7874"/>
                  </a:lnTo>
                  <a:lnTo>
                    <a:pt x="18726" y="7846"/>
                  </a:lnTo>
                  <a:lnTo>
                    <a:pt x="18758" y="7763"/>
                  </a:lnTo>
                  <a:lnTo>
                    <a:pt x="18823" y="7708"/>
                  </a:lnTo>
                  <a:lnTo>
                    <a:pt x="18887" y="7625"/>
                  </a:lnTo>
                  <a:lnTo>
                    <a:pt x="18920" y="7541"/>
                  </a:lnTo>
                  <a:lnTo>
                    <a:pt x="18984" y="7486"/>
                  </a:lnTo>
                  <a:lnTo>
                    <a:pt x="19081" y="7347"/>
                  </a:lnTo>
                  <a:lnTo>
                    <a:pt x="19145" y="7209"/>
                  </a:lnTo>
                  <a:lnTo>
                    <a:pt x="19210" y="7042"/>
                  </a:lnTo>
                  <a:lnTo>
                    <a:pt x="19307" y="6903"/>
                  </a:lnTo>
                  <a:lnTo>
                    <a:pt x="19404" y="6737"/>
                  </a:lnTo>
                  <a:lnTo>
                    <a:pt x="19501" y="6571"/>
                  </a:lnTo>
                  <a:lnTo>
                    <a:pt x="19565" y="6432"/>
                  </a:lnTo>
                  <a:lnTo>
                    <a:pt x="19662" y="6266"/>
                  </a:lnTo>
                  <a:lnTo>
                    <a:pt x="19694" y="6183"/>
                  </a:lnTo>
                  <a:lnTo>
                    <a:pt x="19694" y="6072"/>
                  </a:lnTo>
                  <a:lnTo>
                    <a:pt x="19791" y="5933"/>
                  </a:lnTo>
                  <a:lnTo>
                    <a:pt x="19824" y="5850"/>
                  </a:lnTo>
                  <a:lnTo>
                    <a:pt x="19856" y="5767"/>
                  </a:lnTo>
                  <a:lnTo>
                    <a:pt x="19921" y="5573"/>
                  </a:lnTo>
                  <a:lnTo>
                    <a:pt x="19953" y="5517"/>
                  </a:lnTo>
                  <a:lnTo>
                    <a:pt x="19985" y="5406"/>
                  </a:lnTo>
                  <a:lnTo>
                    <a:pt x="20049" y="5212"/>
                  </a:lnTo>
                  <a:lnTo>
                    <a:pt x="20082" y="5129"/>
                  </a:lnTo>
                  <a:lnTo>
                    <a:pt x="20114" y="5046"/>
                  </a:lnTo>
                  <a:lnTo>
                    <a:pt x="20179" y="4852"/>
                  </a:lnTo>
                  <a:lnTo>
                    <a:pt x="20243" y="4658"/>
                  </a:lnTo>
                  <a:lnTo>
                    <a:pt x="20243" y="4602"/>
                  </a:lnTo>
                  <a:lnTo>
                    <a:pt x="20276" y="4491"/>
                  </a:lnTo>
                  <a:lnTo>
                    <a:pt x="20308" y="4297"/>
                  </a:lnTo>
                  <a:lnTo>
                    <a:pt x="20372" y="4103"/>
                  </a:lnTo>
                  <a:lnTo>
                    <a:pt x="20405" y="3909"/>
                  </a:lnTo>
                  <a:lnTo>
                    <a:pt x="20469" y="3687"/>
                  </a:lnTo>
                  <a:lnTo>
                    <a:pt x="20502" y="3493"/>
                  </a:lnTo>
                  <a:lnTo>
                    <a:pt x="20534" y="3382"/>
                  </a:lnTo>
                  <a:lnTo>
                    <a:pt x="20534" y="3271"/>
                  </a:lnTo>
                  <a:lnTo>
                    <a:pt x="20599" y="3077"/>
                  </a:lnTo>
                  <a:lnTo>
                    <a:pt x="20631" y="2855"/>
                  </a:lnTo>
                  <a:lnTo>
                    <a:pt x="20663" y="2661"/>
                  </a:lnTo>
                  <a:lnTo>
                    <a:pt x="20695" y="2439"/>
                  </a:lnTo>
                  <a:lnTo>
                    <a:pt x="20728" y="2218"/>
                  </a:lnTo>
                  <a:lnTo>
                    <a:pt x="20760" y="1996"/>
                  </a:lnTo>
                  <a:lnTo>
                    <a:pt x="20760" y="1774"/>
                  </a:lnTo>
                  <a:lnTo>
                    <a:pt x="20792" y="1525"/>
                  </a:lnTo>
                  <a:lnTo>
                    <a:pt x="20792" y="1303"/>
                  </a:lnTo>
                  <a:lnTo>
                    <a:pt x="20792" y="1081"/>
                  </a:lnTo>
                </a:path>
              </a:pathLst>
            </a:custGeom>
            <a:solidFill>
              <a:srgbClr val="3f7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5946480" y="3305520"/>
              <a:ext cx="2286000" cy="1384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824" y="10323"/>
                  </a:moveTo>
                  <a:lnTo>
                    <a:pt x="17892" y="10323"/>
                  </a:lnTo>
                  <a:lnTo>
                    <a:pt x="17994" y="10323"/>
                  </a:lnTo>
                  <a:lnTo>
                    <a:pt x="18028" y="10266"/>
                  </a:lnTo>
                  <a:lnTo>
                    <a:pt x="18130" y="10266"/>
                  </a:lnTo>
                  <a:lnTo>
                    <a:pt x="18300" y="10266"/>
                  </a:lnTo>
                  <a:lnTo>
                    <a:pt x="18368" y="10323"/>
                  </a:lnTo>
                  <a:lnTo>
                    <a:pt x="18436" y="10323"/>
                  </a:lnTo>
                  <a:lnTo>
                    <a:pt x="18504" y="10379"/>
                  </a:lnTo>
                  <a:lnTo>
                    <a:pt x="18572" y="10379"/>
                  </a:lnTo>
                  <a:lnTo>
                    <a:pt x="18640" y="10491"/>
                  </a:lnTo>
                  <a:lnTo>
                    <a:pt x="18708" y="10547"/>
                  </a:lnTo>
                  <a:lnTo>
                    <a:pt x="18742" y="10603"/>
                  </a:lnTo>
                  <a:lnTo>
                    <a:pt x="18810" y="10659"/>
                  </a:lnTo>
                  <a:lnTo>
                    <a:pt x="18844" y="10715"/>
                  </a:lnTo>
                  <a:lnTo>
                    <a:pt x="18878" y="10771"/>
                  </a:lnTo>
                  <a:lnTo>
                    <a:pt x="18912" y="10884"/>
                  </a:lnTo>
                  <a:lnTo>
                    <a:pt x="18980" y="11052"/>
                  </a:lnTo>
                  <a:lnTo>
                    <a:pt x="18980" y="11108"/>
                  </a:lnTo>
                  <a:lnTo>
                    <a:pt x="19014" y="11220"/>
                  </a:lnTo>
                  <a:lnTo>
                    <a:pt x="19014" y="11332"/>
                  </a:lnTo>
                  <a:lnTo>
                    <a:pt x="19048" y="11445"/>
                  </a:lnTo>
                  <a:lnTo>
                    <a:pt x="19048" y="11725"/>
                  </a:lnTo>
                  <a:lnTo>
                    <a:pt x="19048" y="11837"/>
                  </a:lnTo>
                  <a:lnTo>
                    <a:pt x="19048" y="12005"/>
                  </a:lnTo>
                  <a:lnTo>
                    <a:pt x="19048" y="12118"/>
                  </a:lnTo>
                  <a:lnTo>
                    <a:pt x="19048" y="12286"/>
                  </a:lnTo>
                  <a:lnTo>
                    <a:pt x="19014" y="12623"/>
                  </a:lnTo>
                  <a:lnTo>
                    <a:pt x="18844" y="13072"/>
                  </a:lnTo>
                  <a:lnTo>
                    <a:pt x="18708" y="13577"/>
                  </a:lnTo>
                  <a:lnTo>
                    <a:pt x="18640" y="13801"/>
                  </a:lnTo>
                  <a:lnTo>
                    <a:pt x="18606" y="13913"/>
                  </a:lnTo>
                  <a:lnTo>
                    <a:pt x="18606" y="13969"/>
                  </a:lnTo>
                  <a:lnTo>
                    <a:pt x="18470" y="14474"/>
                  </a:lnTo>
                  <a:lnTo>
                    <a:pt x="18368" y="14643"/>
                  </a:lnTo>
                  <a:lnTo>
                    <a:pt x="18300" y="14867"/>
                  </a:lnTo>
                  <a:lnTo>
                    <a:pt x="18164" y="15260"/>
                  </a:lnTo>
                  <a:lnTo>
                    <a:pt x="18062" y="15484"/>
                  </a:lnTo>
                  <a:lnTo>
                    <a:pt x="18028" y="15708"/>
                  </a:lnTo>
                  <a:lnTo>
                    <a:pt x="17892" y="16045"/>
                  </a:lnTo>
                  <a:lnTo>
                    <a:pt x="17789" y="16269"/>
                  </a:lnTo>
                  <a:lnTo>
                    <a:pt x="17722" y="16438"/>
                  </a:lnTo>
                  <a:lnTo>
                    <a:pt x="17551" y="16774"/>
                  </a:lnTo>
                  <a:lnTo>
                    <a:pt x="17415" y="17111"/>
                  </a:lnTo>
                  <a:lnTo>
                    <a:pt x="17347" y="17279"/>
                  </a:lnTo>
                  <a:lnTo>
                    <a:pt x="17279" y="17392"/>
                  </a:lnTo>
                  <a:lnTo>
                    <a:pt x="17245" y="17448"/>
                  </a:lnTo>
                  <a:lnTo>
                    <a:pt x="17211" y="17560"/>
                  </a:lnTo>
                  <a:lnTo>
                    <a:pt x="17177" y="17616"/>
                  </a:lnTo>
                  <a:lnTo>
                    <a:pt x="17075" y="17728"/>
                  </a:lnTo>
                  <a:lnTo>
                    <a:pt x="16905" y="18065"/>
                  </a:lnTo>
                  <a:lnTo>
                    <a:pt x="16769" y="18345"/>
                  </a:lnTo>
                  <a:lnTo>
                    <a:pt x="16667" y="18458"/>
                  </a:lnTo>
                  <a:lnTo>
                    <a:pt x="16599" y="18626"/>
                  </a:lnTo>
                  <a:lnTo>
                    <a:pt x="16395" y="18850"/>
                  </a:lnTo>
                  <a:lnTo>
                    <a:pt x="16327" y="18962"/>
                  </a:lnTo>
                  <a:lnTo>
                    <a:pt x="16259" y="19075"/>
                  </a:lnTo>
                  <a:lnTo>
                    <a:pt x="16089" y="19299"/>
                  </a:lnTo>
                  <a:lnTo>
                    <a:pt x="15885" y="19523"/>
                  </a:lnTo>
                  <a:lnTo>
                    <a:pt x="15715" y="19692"/>
                  </a:lnTo>
                  <a:lnTo>
                    <a:pt x="15681" y="19748"/>
                  </a:lnTo>
                  <a:lnTo>
                    <a:pt x="15646" y="19748"/>
                  </a:lnTo>
                  <a:lnTo>
                    <a:pt x="15545" y="19860"/>
                  </a:lnTo>
                  <a:lnTo>
                    <a:pt x="15341" y="20028"/>
                  </a:lnTo>
                  <a:lnTo>
                    <a:pt x="15136" y="20197"/>
                  </a:lnTo>
                  <a:lnTo>
                    <a:pt x="14966" y="20309"/>
                  </a:lnTo>
                  <a:lnTo>
                    <a:pt x="14762" y="20477"/>
                  </a:lnTo>
                  <a:lnTo>
                    <a:pt x="14728" y="20477"/>
                  </a:lnTo>
                  <a:lnTo>
                    <a:pt x="14660" y="20477"/>
                  </a:lnTo>
                  <a:lnTo>
                    <a:pt x="14558" y="20533"/>
                  </a:lnTo>
                  <a:lnTo>
                    <a:pt x="14388" y="20589"/>
                  </a:lnTo>
                  <a:lnTo>
                    <a:pt x="14286" y="20646"/>
                  </a:lnTo>
                  <a:lnTo>
                    <a:pt x="14184" y="20702"/>
                  </a:lnTo>
                  <a:lnTo>
                    <a:pt x="13980" y="20758"/>
                  </a:lnTo>
                  <a:lnTo>
                    <a:pt x="13912" y="20758"/>
                  </a:lnTo>
                  <a:lnTo>
                    <a:pt x="13776" y="20814"/>
                  </a:lnTo>
                  <a:lnTo>
                    <a:pt x="13572" y="20814"/>
                  </a:lnTo>
                  <a:lnTo>
                    <a:pt x="13333" y="20870"/>
                  </a:lnTo>
                  <a:lnTo>
                    <a:pt x="13198" y="20870"/>
                  </a:lnTo>
                  <a:lnTo>
                    <a:pt x="13129" y="20870"/>
                  </a:lnTo>
                  <a:lnTo>
                    <a:pt x="13061" y="20926"/>
                  </a:lnTo>
                  <a:lnTo>
                    <a:pt x="12517" y="20926"/>
                  </a:lnTo>
                  <a:lnTo>
                    <a:pt x="12245" y="20982"/>
                  </a:lnTo>
                  <a:lnTo>
                    <a:pt x="11939" y="20982"/>
                  </a:lnTo>
                  <a:lnTo>
                    <a:pt x="11395" y="21038"/>
                  </a:lnTo>
                  <a:lnTo>
                    <a:pt x="10782" y="21094"/>
                  </a:lnTo>
                  <a:lnTo>
                    <a:pt x="10476" y="21094"/>
                  </a:lnTo>
                  <a:lnTo>
                    <a:pt x="10170" y="21094"/>
                  </a:lnTo>
                  <a:lnTo>
                    <a:pt x="9524" y="21094"/>
                  </a:lnTo>
                  <a:lnTo>
                    <a:pt x="8877" y="21094"/>
                  </a:lnTo>
                  <a:lnTo>
                    <a:pt x="8742" y="21094"/>
                  </a:lnTo>
                  <a:lnTo>
                    <a:pt x="8571" y="21094"/>
                  </a:lnTo>
                  <a:lnTo>
                    <a:pt x="8231" y="21094"/>
                  </a:lnTo>
                  <a:lnTo>
                    <a:pt x="8163" y="21094"/>
                  </a:lnTo>
                  <a:lnTo>
                    <a:pt x="8061" y="21094"/>
                  </a:lnTo>
                  <a:lnTo>
                    <a:pt x="7891" y="21094"/>
                  </a:lnTo>
                  <a:lnTo>
                    <a:pt x="7585" y="21094"/>
                  </a:lnTo>
                  <a:lnTo>
                    <a:pt x="7211" y="21094"/>
                  </a:lnTo>
                  <a:lnTo>
                    <a:pt x="6870" y="21094"/>
                  </a:lnTo>
                  <a:lnTo>
                    <a:pt x="6496" y="21094"/>
                  </a:lnTo>
                  <a:lnTo>
                    <a:pt x="6428" y="21038"/>
                  </a:lnTo>
                  <a:lnTo>
                    <a:pt x="6326" y="21038"/>
                  </a:lnTo>
                  <a:lnTo>
                    <a:pt x="6156" y="21038"/>
                  </a:lnTo>
                  <a:lnTo>
                    <a:pt x="5782" y="21038"/>
                  </a:lnTo>
                  <a:lnTo>
                    <a:pt x="5408" y="21038"/>
                  </a:lnTo>
                  <a:lnTo>
                    <a:pt x="4694" y="20982"/>
                  </a:lnTo>
                  <a:lnTo>
                    <a:pt x="4285" y="20982"/>
                  </a:lnTo>
                  <a:lnTo>
                    <a:pt x="3911" y="20926"/>
                  </a:lnTo>
                  <a:lnTo>
                    <a:pt x="3129" y="20870"/>
                  </a:lnTo>
                  <a:lnTo>
                    <a:pt x="2687" y="20870"/>
                  </a:lnTo>
                  <a:lnTo>
                    <a:pt x="2278" y="20870"/>
                  </a:lnTo>
                  <a:lnTo>
                    <a:pt x="1870" y="20870"/>
                  </a:lnTo>
                  <a:lnTo>
                    <a:pt x="1462" y="20870"/>
                  </a:lnTo>
                  <a:lnTo>
                    <a:pt x="1088" y="20870"/>
                  </a:lnTo>
                  <a:lnTo>
                    <a:pt x="714" y="20870"/>
                  </a:lnTo>
                  <a:lnTo>
                    <a:pt x="340" y="20926"/>
                  </a:lnTo>
                  <a:lnTo>
                    <a:pt x="0" y="20926"/>
                  </a:lnTo>
                  <a:lnTo>
                    <a:pt x="33" y="20926"/>
                  </a:lnTo>
                  <a:lnTo>
                    <a:pt x="67" y="20926"/>
                  </a:lnTo>
                  <a:lnTo>
                    <a:pt x="135" y="20926"/>
                  </a:lnTo>
                  <a:lnTo>
                    <a:pt x="340" y="20982"/>
                  </a:lnTo>
                  <a:lnTo>
                    <a:pt x="714" y="21038"/>
                  </a:lnTo>
                  <a:lnTo>
                    <a:pt x="1122" y="21038"/>
                  </a:lnTo>
                  <a:lnTo>
                    <a:pt x="1462" y="21094"/>
                  </a:lnTo>
                  <a:lnTo>
                    <a:pt x="1870" y="21151"/>
                  </a:lnTo>
                  <a:lnTo>
                    <a:pt x="2210" y="21207"/>
                  </a:lnTo>
                  <a:lnTo>
                    <a:pt x="2551" y="21263"/>
                  </a:lnTo>
                  <a:lnTo>
                    <a:pt x="2653" y="21263"/>
                  </a:lnTo>
                  <a:lnTo>
                    <a:pt x="2755" y="21263"/>
                  </a:lnTo>
                  <a:lnTo>
                    <a:pt x="2959" y="21319"/>
                  </a:lnTo>
                  <a:lnTo>
                    <a:pt x="3027" y="21319"/>
                  </a:lnTo>
                  <a:lnTo>
                    <a:pt x="3061" y="21319"/>
                  </a:lnTo>
                  <a:lnTo>
                    <a:pt x="3197" y="21319"/>
                  </a:lnTo>
                  <a:lnTo>
                    <a:pt x="3469" y="21375"/>
                  </a:lnTo>
                  <a:lnTo>
                    <a:pt x="3809" y="21375"/>
                  </a:lnTo>
                  <a:lnTo>
                    <a:pt x="4183" y="21431"/>
                  </a:lnTo>
                  <a:lnTo>
                    <a:pt x="4626" y="21431"/>
                  </a:lnTo>
                  <a:lnTo>
                    <a:pt x="4796" y="21431"/>
                  </a:lnTo>
                  <a:lnTo>
                    <a:pt x="4864" y="21431"/>
                  </a:lnTo>
                  <a:lnTo>
                    <a:pt x="4898" y="21431"/>
                  </a:lnTo>
                  <a:lnTo>
                    <a:pt x="5034" y="21431"/>
                  </a:lnTo>
                  <a:lnTo>
                    <a:pt x="5408" y="21487"/>
                  </a:lnTo>
                  <a:lnTo>
                    <a:pt x="5850" y="21487"/>
                  </a:lnTo>
                  <a:lnTo>
                    <a:pt x="5986" y="21487"/>
                  </a:lnTo>
                  <a:lnTo>
                    <a:pt x="6224" y="21543"/>
                  </a:lnTo>
                  <a:lnTo>
                    <a:pt x="6599" y="21543"/>
                  </a:lnTo>
                  <a:lnTo>
                    <a:pt x="7007" y="21543"/>
                  </a:lnTo>
                  <a:lnTo>
                    <a:pt x="7347" y="21600"/>
                  </a:lnTo>
                  <a:lnTo>
                    <a:pt x="7721" y="21600"/>
                  </a:lnTo>
                  <a:lnTo>
                    <a:pt x="8095" y="21600"/>
                  </a:lnTo>
                  <a:lnTo>
                    <a:pt x="8435" y="21600"/>
                  </a:lnTo>
                  <a:lnTo>
                    <a:pt x="8809" y="21600"/>
                  </a:lnTo>
                  <a:lnTo>
                    <a:pt x="9184" y="21600"/>
                  </a:lnTo>
                  <a:lnTo>
                    <a:pt x="9354" y="21600"/>
                  </a:lnTo>
                  <a:lnTo>
                    <a:pt x="9490" y="21600"/>
                  </a:lnTo>
                  <a:lnTo>
                    <a:pt x="10204" y="21600"/>
                  </a:lnTo>
                  <a:lnTo>
                    <a:pt x="10476" y="21600"/>
                  </a:lnTo>
                  <a:lnTo>
                    <a:pt x="10680" y="21600"/>
                  </a:lnTo>
                  <a:lnTo>
                    <a:pt x="11190" y="21600"/>
                  </a:lnTo>
                  <a:lnTo>
                    <a:pt x="11531" y="21543"/>
                  </a:lnTo>
                  <a:lnTo>
                    <a:pt x="11803" y="21543"/>
                  </a:lnTo>
                  <a:lnTo>
                    <a:pt x="12109" y="21543"/>
                  </a:lnTo>
                  <a:lnTo>
                    <a:pt x="12415" y="21487"/>
                  </a:lnTo>
                  <a:lnTo>
                    <a:pt x="12959" y="21431"/>
                  </a:lnTo>
                  <a:lnTo>
                    <a:pt x="13061" y="21431"/>
                  </a:lnTo>
                  <a:lnTo>
                    <a:pt x="13129" y="21431"/>
                  </a:lnTo>
                  <a:lnTo>
                    <a:pt x="13265" y="21431"/>
                  </a:lnTo>
                  <a:lnTo>
                    <a:pt x="13538" y="21431"/>
                  </a:lnTo>
                  <a:lnTo>
                    <a:pt x="13946" y="21375"/>
                  </a:lnTo>
                  <a:lnTo>
                    <a:pt x="14320" y="21319"/>
                  </a:lnTo>
                  <a:lnTo>
                    <a:pt x="14558" y="21263"/>
                  </a:lnTo>
                  <a:lnTo>
                    <a:pt x="14864" y="21207"/>
                  </a:lnTo>
                  <a:lnTo>
                    <a:pt x="15034" y="21094"/>
                  </a:lnTo>
                  <a:lnTo>
                    <a:pt x="15171" y="20926"/>
                  </a:lnTo>
                  <a:lnTo>
                    <a:pt x="15238" y="20870"/>
                  </a:lnTo>
                  <a:lnTo>
                    <a:pt x="15341" y="20814"/>
                  </a:lnTo>
                  <a:lnTo>
                    <a:pt x="15511" y="20646"/>
                  </a:lnTo>
                  <a:lnTo>
                    <a:pt x="15579" y="20589"/>
                  </a:lnTo>
                  <a:lnTo>
                    <a:pt x="15681" y="20533"/>
                  </a:lnTo>
                  <a:lnTo>
                    <a:pt x="15817" y="20421"/>
                  </a:lnTo>
                  <a:lnTo>
                    <a:pt x="15987" y="20253"/>
                  </a:lnTo>
                  <a:lnTo>
                    <a:pt x="16123" y="20084"/>
                  </a:lnTo>
                  <a:lnTo>
                    <a:pt x="16293" y="19916"/>
                  </a:lnTo>
                  <a:lnTo>
                    <a:pt x="16395" y="19692"/>
                  </a:lnTo>
                  <a:lnTo>
                    <a:pt x="16565" y="19579"/>
                  </a:lnTo>
                  <a:lnTo>
                    <a:pt x="16633" y="19467"/>
                  </a:lnTo>
                  <a:lnTo>
                    <a:pt x="16735" y="19411"/>
                  </a:lnTo>
                  <a:lnTo>
                    <a:pt x="16871" y="19187"/>
                  </a:lnTo>
                  <a:lnTo>
                    <a:pt x="16905" y="19075"/>
                  </a:lnTo>
                  <a:lnTo>
                    <a:pt x="16973" y="18962"/>
                  </a:lnTo>
                  <a:lnTo>
                    <a:pt x="17109" y="18738"/>
                  </a:lnTo>
                  <a:lnTo>
                    <a:pt x="17279" y="18626"/>
                  </a:lnTo>
                  <a:lnTo>
                    <a:pt x="17415" y="18401"/>
                  </a:lnTo>
                  <a:lnTo>
                    <a:pt x="17518" y="18121"/>
                  </a:lnTo>
                  <a:lnTo>
                    <a:pt x="17551" y="18009"/>
                  </a:lnTo>
                  <a:lnTo>
                    <a:pt x="17619" y="17897"/>
                  </a:lnTo>
                  <a:lnTo>
                    <a:pt x="17755" y="17672"/>
                  </a:lnTo>
                  <a:lnTo>
                    <a:pt x="17892" y="17448"/>
                  </a:lnTo>
                  <a:lnTo>
                    <a:pt x="18028" y="17223"/>
                  </a:lnTo>
                  <a:lnTo>
                    <a:pt x="18096" y="16943"/>
                  </a:lnTo>
                  <a:lnTo>
                    <a:pt x="18164" y="16831"/>
                  </a:lnTo>
                  <a:lnTo>
                    <a:pt x="18232" y="16718"/>
                  </a:lnTo>
                  <a:lnTo>
                    <a:pt x="18334" y="16494"/>
                  </a:lnTo>
                  <a:lnTo>
                    <a:pt x="18470" y="16213"/>
                  </a:lnTo>
                  <a:lnTo>
                    <a:pt x="18572" y="15933"/>
                  </a:lnTo>
                  <a:lnTo>
                    <a:pt x="18606" y="15764"/>
                  </a:lnTo>
                  <a:lnTo>
                    <a:pt x="18640" y="15708"/>
                  </a:lnTo>
                  <a:lnTo>
                    <a:pt x="18708" y="15540"/>
                  </a:lnTo>
                  <a:lnTo>
                    <a:pt x="18742" y="15372"/>
                  </a:lnTo>
                  <a:lnTo>
                    <a:pt x="18810" y="15260"/>
                  </a:lnTo>
                  <a:lnTo>
                    <a:pt x="18844" y="15091"/>
                  </a:lnTo>
                  <a:lnTo>
                    <a:pt x="18946" y="14867"/>
                  </a:lnTo>
                  <a:lnTo>
                    <a:pt x="19082" y="14530"/>
                  </a:lnTo>
                  <a:lnTo>
                    <a:pt x="19150" y="14194"/>
                  </a:lnTo>
                  <a:lnTo>
                    <a:pt x="19218" y="13913"/>
                  </a:lnTo>
                  <a:lnTo>
                    <a:pt x="19320" y="13633"/>
                  </a:lnTo>
                  <a:lnTo>
                    <a:pt x="19388" y="13296"/>
                  </a:lnTo>
                  <a:lnTo>
                    <a:pt x="19490" y="12959"/>
                  </a:lnTo>
                  <a:lnTo>
                    <a:pt x="19592" y="12623"/>
                  </a:lnTo>
                  <a:lnTo>
                    <a:pt x="19627" y="12454"/>
                  </a:lnTo>
                  <a:lnTo>
                    <a:pt x="19661" y="12286"/>
                  </a:lnTo>
                  <a:lnTo>
                    <a:pt x="19728" y="12005"/>
                  </a:lnTo>
                  <a:lnTo>
                    <a:pt x="19762" y="11781"/>
                  </a:lnTo>
                  <a:lnTo>
                    <a:pt x="19762" y="11613"/>
                  </a:lnTo>
                  <a:lnTo>
                    <a:pt x="19865" y="11276"/>
                  </a:lnTo>
                  <a:lnTo>
                    <a:pt x="19898" y="11052"/>
                  </a:lnTo>
                  <a:lnTo>
                    <a:pt x="19932" y="10940"/>
                  </a:lnTo>
                  <a:lnTo>
                    <a:pt x="20001" y="10547"/>
                  </a:lnTo>
                  <a:lnTo>
                    <a:pt x="20035" y="10323"/>
                  </a:lnTo>
                  <a:lnTo>
                    <a:pt x="20069" y="10154"/>
                  </a:lnTo>
                  <a:lnTo>
                    <a:pt x="20137" y="9818"/>
                  </a:lnTo>
                  <a:lnTo>
                    <a:pt x="20205" y="9425"/>
                  </a:lnTo>
                  <a:lnTo>
                    <a:pt x="20205" y="9200"/>
                  </a:lnTo>
                  <a:lnTo>
                    <a:pt x="20239" y="9088"/>
                  </a:lnTo>
                  <a:lnTo>
                    <a:pt x="20307" y="8639"/>
                  </a:lnTo>
                  <a:lnTo>
                    <a:pt x="20341" y="8246"/>
                  </a:lnTo>
                  <a:lnTo>
                    <a:pt x="20375" y="7854"/>
                  </a:lnTo>
                  <a:lnTo>
                    <a:pt x="20409" y="7630"/>
                  </a:lnTo>
                  <a:lnTo>
                    <a:pt x="20443" y="7461"/>
                  </a:lnTo>
                  <a:lnTo>
                    <a:pt x="20477" y="7069"/>
                  </a:lnTo>
                  <a:lnTo>
                    <a:pt x="20511" y="6844"/>
                  </a:lnTo>
                  <a:lnTo>
                    <a:pt x="20511" y="6620"/>
                  </a:lnTo>
                  <a:lnTo>
                    <a:pt x="20579" y="6227"/>
                  </a:lnTo>
                  <a:lnTo>
                    <a:pt x="20613" y="5778"/>
                  </a:lnTo>
                  <a:lnTo>
                    <a:pt x="20647" y="5385"/>
                  </a:lnTo>
                  <a:lnTo>
                    <a:pt x="20681" y="4880"/>
                  </a:lnTo>
                  <a:lnTo>
                    <a:pt x="20715" y="4488"/>
                  </a:lnTo>
                  <a:lnTo>
                    <a:pt x="20749" y="4039"/>
                  </a:lnTo>
                  <a:lnTo>
                    <a:pt x="20749" y="3534"/>
                  </a:lnTo>
                  <a:lnTo>
                    <a:pt x="20783" y="3085"/>
                  </a:lnTo>
                  <a:lnTo>
                    <a:pt x="20817" y="2580"/>
                  </a:lnTo>
                  <a:lnTo>
                    <a:pt x="20817" y="2131"/>
                  </a:lnTo>
                  <a:lnTo>
                    <a:pt x="21600" y="0"/>
                  </a:lnTo>
                  <a:lnTo>
                    <a:pt x="21327" y="280"/>
                  </a:lnTo>
                  <a:lnTo>
                    <a:pt x="21021" y="616"/>
                  </a:lnTo>
                  <a:lnTo>
                    <a:pt x="20443" y="1177"/>
                  </a:lnTo>
                  <a:lnTo>
                    <a:pt x="19831" y="1738"/>
                  </a:lnTo>
                  <a:lnTo>
                    <a:pt x="19694" y="1907"/>
                  </a:lnTo>
                  <a:lnTo>
                    <a:pt x="19558" y="2075"/>
                  </a:lnTo>
                  <a:lnTo>
                    <a:pt x="19218" y="2356"/>
                  </a:lnTo>
                  <a:lnTo>
                    <a:pt x="18946" y="2580"/>
                  </a:lnTo>
                  <a:lnTo>
                    <a:pt x="18640" y="2861"/>
                  </a:lnTo>
                  <a:lnTo>
                    <a:pt x="18028" y="3478"/>
                  </a:lnTo>
                  <a:lnTo>
                    <a:pt x="17755" y="3646"/>
                  </a:lnTo>
                  <a:lnTo>
                    <a:pt x="17449" y="3927"/>
                  </a:lnTo>
                  <a:lnTo>
                    <a:pt x="16871" y="4488"/>
                  </a:lnTo>
                  <a:lnTo>
                    <a:pt x="16259" y="4936"/>
                  </a:lnTo>
                  <a:lnTo>
                    <a:pt x="15646" y="5441"/>
                  </a:lnTo>
                  <a:lnTo>
                    <a:pt x="15476" y="5554"/>
                  </a:lnTo>
                  <a:lnTo>
                    <a:pt x="15306" y="5666"/>
                  </a:lnTo>
                  <a:lnTo>
                    <a:pt x="15034" y="5946"/>
                  </a:lnTo>
                  <a:lnTo>
                    <a:pt x="14422" y="6339"/>
                  </a:lnTo>
                  <a:lnTo>
                    <a:pt x="13810" y="6844"/>
                  </a:lnTo>
                  <a:lnTo>
                    <a:pt x="13640" y="6956"/>
                  </a:lnTo>
                  <a:lnTo>
                    <a:pt x="13470" y="7069"/>
                  </a:lnTo>
                  <a:lnTo>
                    <a:pt x="13198" y="7293"/>
                  </a:lnTo>
                  <a:lnTo>
                    <a:pt x="12585" y="7686"/>
                  </a:lnTo>
                  <a:lnTo>
                    <a:pt x="11973" y="8078"/>
                  </a:lnTo>
                  <a:lnTo>
                    <a:pt x="11327" y="8471"/>
                  </a:lnTo>
                  <a:lnTo>
                    <a:pt x="11055" y="8639"/>
                  </a:lnTo>
                  <a:lnTo>
                    <a:pt x="10885" y="8751"/>
                  </a:lnTo>
                  <a:lnTo>
                    <a:pt x="10714" y="8864"/>
                  </a:lnTo>
                  <a:lnTo>
                    <a:pt x="10102" y="9200"/>
                  </a:lnTo>
                  <a:lnTo>
                    <a:pt x="9456" y="9537"/>
                  </a:lnTo>
                  <a:lnTo>
                    <a:pt x="9150" y="9705"/>
                  </a:lnTo>
                  <a:lnTo>
                    <a:pt x="8843" y="9874"/>
                  </a:lnTo>
                  <a:lnTo>
                    <a:pt x="8231" y="10154"/>
                  </a:lnTo>
                  <a:lnTo>
                    <a:pt x="7619" y="10491"/>
                  </a:lnTo>
                  <a:lnTo>
                    <a:pt x="7279" y="10603"/>
                  </a:lnTo>
                  <a:lnTo>
                    <a:pt x="6973" y="10771"/>
                  </a:lnTo>
                  <a:lnTo>
                    <a:pt x="6632" y="10940"/>
                  </a:lnTo>
                  <a:lnTo>
                    <a:pt x="6496" y="10996"/>
                  </a:lnTo>
                  <a:lnTo>
                    <a:pt x="6326" y="11052"/>
                  </a:lnTo>
                  <a:lnTo>
                    <a:pt x="5714" y="11276"/>
                  </a:lnTo>
                  <a:lnTo>
                    <a:pt x="5068" y="11557"/>
                  </a:lnTo>
                  <a:lnTo>
                    <a:pt x="4761" y="11669"/>
                  </a:lnTo>
                  <a:lnTo>
                    <a:pt x="4591" y="11725"/>
                  </a:lnTo>
                  <a:lnTo>
                    <a:pt x="4421" y="11837"/>
                  </a:lnTo>
                  <a:lnTo>
                    <a:pt x="4115" y="11949"/>
                  </a:lnTo>
                  <a:lnTo>
                    <a:pt x="3775" y="12005"/>
                  </a:lnTo>
                  <a:lnTo>
                    <a:pt x="3129" y="12230"/>
                  </a:lnTo>
                  <a:lnTo>
                    <a:pt x="2823" y="12286"/>
                  </a:lnTo>
                  <a:lnTo>
                    <a:pt x="2483" y="12398"/>
                  </a:lnTo>
                  <a:lnTo>
                    <a:pt x="1870" y="12623"/>
                  </a:lnTo>
                  <a:lnTo>
                    <a:pt x="1938" y="12623"/>
                  </a:lnTo>
                  <a:lnTo>
                    <a:pt x="2040" y="12623"/>
                  </a:lnTo>
                  <a:lnTo>
                    <a:pt x="2210" y="12623"/>
                  </a:lnTo>
                  <a:lnTo>
                    <a:pt x="2551" y="12623"/>
                  </a:lnTo>
                  <a:lnTo>
                    <a:pt x="3265" y="12679"/>
                  </a:lnTo>
                  <a:lnTo>
                    <a:pt x="3979" y="12679"/>
                  </a:lnTo>
                  <a:lnTo>
                    <a:pt x="4694" y="12735"/>
                  </a:lnTo>
                  <a:lnTo>
                    <a:pt x="5340" y="12679"/>
                  </a:lnTo>
                  <a:lnTo>
                    <a:pt x="5714" y="12679"/>
                  </a:lnTo>
                  <a:lnTo>
                    <a:pt x="6054" y="12679"/>
                  </a:lnTo>
                  <a:lnTo>
                    <a:pt x="6769" y="12623"/>
                  </a:lnTo>
                  <a:lnTo>
                    <a:pt x="6939" y="12623"/>
                  </a:lnTo>
                  <a:lnTo>
                    <a:pt x="7074" y="12623"/>
                  </a:lnTo>
                  <a:lnTo>
                    <a:pt x="7449" y="12623"/>
                  </a:lnTo>
                  <a:lnTo>
                    <a:pt x="8129" y="12567"/>
                  </a:lnTo>
                  <a:lnTo>
                    <a:pt x="8809" y="12454"/>
                  </a:lnTo>
                  <a:lnTo>
                    <a:pt x="8946" y="12454"/>
                  </a:lnTo>
                  <a:lnTo>
                    <a:pt x="9116" y="12398"/>
                  </a:lnTo>
                  <a:lnTo>
                    <a:pt x="9456" y="12398"/>
                  </a:lnTo>
                  <a:lnTo>
                    <a:pt x="10136" y="12286"/>
                  </a:lnTo>
                  <a:lnTo>
                    <a:pt x="10782" y="12174"/>
                  </a:lnTo>
                  <a:lnTo>
                    <a:pt x="11463" y="12062"/>
                  </a:lnTo>
                  <a:lnTo>
                    <a:pt x="12143" y="11949"/>
                  </a:lnTo>
                  <a:lnTo>
                    <a:pt x="12823" y="11781"/>
                  </a:lnTo>
                  <a:lnTo>
                    <a:pt x="13368" y="11669"/>
                  </a:lnTo>
                  <a:lnTo>
                    <a:pt x="13980" y="11501"/>
                  </a:lnTo>
                  <a:lnTo>
                    <a:pt x="14558" y="11332"/>
                  </a:lnTo>
                  <a:lnTo>
                    <a:pt x="15136" y="11164"/>
                  </a:lnTo>
                  <a:lnTo>
                    <a:pt x="15715" y="10996"/>
                  </a:lnTo>
                  <a:lnTo>
                    <a:pt x="16293" y="10828"/>
                  </a:lnTo>
                  <a:lnTo>
                    <a:pt x="16837" y="10603"/>
                  </a:lnTo>
                  <a:lnTo>
                    <a:pt x="17449" y="10379"/>
                  </a:lnTo>
                  <a:lnTo>
                    <a:pt x="17484" y="10379"/>
                  </a:lnTo>
                  <a:lnTo>
                    <a:pt x="17551" y="10379"/>
                  </a:lnTo>
                  <a:lnTo>
                    <a:pt x="17688" y="10323"/>
                  </a:lnTo>
                  <a:lnTo>
                    <a:pt x="17755" y="10323"/>
                  </a:lnTo>
                  <a:lnTo>
                    <a:pt x="17824" y="10323"/>
                  </a:lnTo>
                </a:path>
              </a:pathLst>
            </a:custGeom>
            <a:gradFill rotWithShape="0">
              <a:gsLst>
                <a:gs pos="0">
                  <a:srgbClr val="3f76bf"/>
                </a:gs>
                <a:gs pos="100000">
                  <a:srgbClr val="0028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5841720" y="4057200"/>
              <a:ext cx="1792080" cy="596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5744"/>
                  </a:moveTo>
                  <a:lnTo>
                    <a:pt x="0" y="16004"/>
                  </a:lnTo>
                  <a:lnTo>
                    <a:pt x="0" y="16134"/>
                  </a:lnTo>
                  <a:lnTo>
                    <a:pt x="0" y="16395"/>
                  </a:lnTo>
                  <a:lnTo>
                    <a:pt x="0" y="16655"/>
                  </a:lnTo>
                  <a:lnTo>
                    <a:pt x="0" y="16915"/>
                  </a:lnTo>
                  <a:lnTo>
                    <a:pt x="43" y="17175"/>
                  </a:lnTo>
                  <a:lnTo>
                    <a:pt x="86" y="17435"/>
                  </a:lnTo>
                  <a:lnTo>
                    <a:pt x="173" y="17566"/>
                  </a:lnTo>
                  <a:lnTo>
                    <a:pt x="260" y="17826"/>
                  </a:lnTo>
                  <a:lnTo>
                    <a:pt x="346" y="18086"/>
                  </a:lnTo>
                  <a:lnTo>
                    <a:pt x="433" y="18216"/>
                  </a:lnTo>
                  <a:lnTo>
                    <a:pt x="563" y="18346"/>
                  </a:lnTo>
                  <a:lnTo>
                    <a:pt x="693" y="18606"/>
                  </a:lnTo>
                  <a:lnTo>
                    <a:pt x="780" y="18737"/>
                  </a:lnTo>
                  <a:lnTo>
                    <a:pt x="954" y="18867"/>
                  </a:lnTo>
                  <a:lnTo>
                    <a:pt x="1127" y="19127"/>
                  </a:lnTo>
                  <a:lnTo>
                    <a:pt x="1300" y="19257"/>
                  </a:lnTo>
                  <a:lnTo>
                    <a:pt x="1387" y="19387"/>
                  </a:lnTo>
                  <a:lnTo>
                    <a:pt x="1431" y="19387"/>
                  </a:lnTo>
                  <a:lnTo>
                    <a:pt x="1647" y="19648"/>
                  </a:lnTo>
                  <a:lnTo>
                    <a:pt x="1864" y="19778"/>
                  </a:lnTo>
                  <a:lnTo>
                    <a:pt x="2125" y="19908"/>
                  </a:lnTo>
                  <a:lnTo>
                    <a:pt x="2298" y="20038"/>
                  </a:lnTo>
                  <a:lnTo>
                    <a:pt x="2558" y="20168"/>
                  </a:lnTo>
                  <a:lnTo>
                    <a:pt x="2862" y="20298"/>
                  </a:lnTo>
                  <a:lnTo>
                    <a:pt x="3079" y="20298"/>
                  </a:lnTo>
                  <a:lnTo>
                    <a:pt x="3382" y="20428"/>
                  </a:lnTo>
                  <a:lnTo>
                    <a:pt x="3643" y="20558"/>
                  </a:lnTo>
                  <a:lnTo>
                    <a:pt x="3990" y="20558"/>
                  </a:lnTo>
                  <a:lnTo>
                    <a:pt x="4293" y="20689"/>
                  </a:lnTo>
                  <a:lnTo>
                    <a:pt x="4597" y="20819"/>
                  </a:lnTo>
                  <a:lnTo>
                    <a:pt x="4987" y="20949"/>
                  </a:lnTo>
                  <a:lnTo>
                    <a:pt x="5291" y="20949"/>
                  </a:lnTo>
                  <a:lnTo>
                    <a:pt x="6288" y="21079"/>
                  </a:lnTo>
                  <a:lnTo>
                    <a:pt x="6766" y="21209"/>
                  </a:lnTo>
                  <a:lnTo>
                    <a:pt x="7286" y="21209"/>
                  </a:lnTo>
                  <a:lnTo>
                    <a:pt x="8197" y="21339"/>
                  </a:lnTo>
                  <a:lnTo>
                    <a:pt x="8674" y="21339"/>
                  </a:lnTo>
                  <a:lnTo>
                    <a:pt x="9151" y="21469"/>
                  </a:lnTo>
                  <a:lnTo>
                    <a:pt x="9368" y="21469"/>
                  </a:lnTo>
                  <a:lnTo>
                    <a:pt x="9498" y="21469"/>
                  </a:lnTo>
                  <a:lnTo>
                    <a:pt x="9585" y="21469"/>
                  </a:lnTo>
                  <a:lnTo>
                    <a:pt x="10062" y="21469"/>
                  </a:lnTo>
                  <a:lnTo>
                    <a:pt x="10496" y="21469"/>
                  </a:lnTo>
                  <a:lnTo>
                    <a:pt x="10973" y="21469"/>
                  </a:lnTo>
                  <a:lnTo>
                    <a:pt x="11363" y="21469"/>
                  </a:lnTo>
                  <a:lnTo>
                    <a:pt x="11580" y="21469"/>
                  </a:lnTo>
                  <a:lnTo>
                    <a:pt x="11710" y="21469"/>
                  </a:lnTo>
                  <a:lnTo>
                    <a:pt x="11797" y="21469"/>
                  </a:lnTo>
                  <a:lnTo>
                    <a:pt x="12231" y="21469"/>
                  </a:lnTo>
                  <a:lnTo>
                    <a:pt x="12447" y="21469"/>
                  </a:lnTo>
                  <a:lnTo>
                    <a:pt x="12621" y="21600"/>
                  </a:lnTo>
                  <a:lnTo>
                    <a:pt x="13445" y="21469"/>
                  </a:lnTo>
                  <a:lnTo>
                    <a:pt x="14269" y="21469"/>
                  </a:lnTo>
                  <a:lnTo>
                    <a:pt x="14660" y="21469"/>
                  </a:lnTo>
                  <a:lnTo>
                    <a:pt x="15050" y="21469"/>
                  </a:lnTo>
                  <a:lnTo>
                    <a:pt x="15787" y="21339"/>
                  </a:lnTo>
                  <a:lnTo>
                    <a:pt x="16524" y="21209"/>
                  </a:lnTo>
                  <a:lnTo>
                    <a:pt x="16915" y="21209"/>
                  </a:lnTo>
                  <a:lnTo>
                    <a:pt x="17262" y="21209"/>
                  </a:lnTo>
                  <a:lnTo>
                    <a:pt x="17956" y="21079"/>
                  </a:lnTo>
                  <a:lnTo>
                    <a:pt x="18043" y="20949"/>
                  </a:lnTo>
                  <a:lnTo>
                    <a:pt x="18130" y="20949"/>
                  </a:lnTo>
                  <a:lnTo>
                    <a:pt x="18303" y="20949"/>
                  </a:lnTo>
                  <a:lnTo>
                    <a:pt x="18606" y="20819"/>
                  </a:lnTo>
                  <a:lnTo>
                    <a:pt x="18823" y="20558"/>
                  </a:lnTo>
                  <a:lnTo>
                    <a:pt x="18997" y="20298"/>
                  </a:lnTo>
                  <a:lnTo>
                    <a:pt x="19170" y="19908"/>
                  </a:lnTo>
                  <a:lnTo>
                    <a:pt x="19344" y="19517"/>
                  </a:lnTo>
                  <a:lnTo>
                    <a:pt x="19517" y="19127"/>
                  </a:lnTo>
                  <a:lnTo>
                    <a:pt x="19691" y="18867"/>
                  </a:lnTo>
                  <a:lnTo>
                    <a:pt x="19821" y="18476"/>
                  </a:lnTo>
                  <a:lnTo>
                    <a:pt x="19994" y="18216"/>
                  </a:lnTo>
                  <a:lnTo>
                    <a:pt x="20298" y="17566"/>
                  </a:lnTo>
                  <a:lnTo>
                    <a:pt x="20558" y="16785"/>
                  </a:lnTo>
                  <a:lnTo>
                    <a:pt x="20732" y="16134"/>
                  </a:lnTo>
                  <a:lnTo>
                    <a:pt x="20949" y="15484"/>
                  </a:lnTo>
                  <a:lnTo>
                    <a:pt x="21036" y="15224"/>
                  </a:lnTo>
                  <a:lnTo>
                    <a:pt x="21122" y="14833"/>
                  </a:lnTo>
                  <a:lnTo>
                    <a:pt x="21209" y="14443"/>
                  </a:lnTo>
                  <a:lnTo>
                    <a:pt x="21296" y="14052"/>
                  </a:lnTo>
                  <a:lnTo>
                    <a:pt x="21296" y="13792"/>
                  </a:lnTo>
                  <a:lnTo>
                    <a:pt x="21383" y="13532"/>
                  </a:lnTo>
                  <a:lnTo>
                    <a:pt x="21469" y="12881"/>
                  </a:lnTo>
                  <a:lnTo>
                    <a:pt x="21512" y="12100"/>
                  </a:lnTo>
                  <a:lnTo>
                    <a:pt x="21556" y="11710"/>
                  </a:lnTo>
                  <a:lnTo>
                    <a:pt x="21556" y="11580"/>
                  </a:lnTo>
                  <a:lnTo>
                    <a:pt x="21600" y="10800"/>
                  </a:lnTo>
                  <a:lnTo>
                    <a:pt x="21556" y="10539"/>
                  </a:lnTo>
                  <a:lnTo>
                    <a:pt x="21556" y="10149"/>
                  </a:lnTo>
                  <a:lnTo>
                    <a:pt x="21512" y="9498"/>
                  </a:lnTo>
                  <a:lnTo>
                    <a:pt x="21426" y="8848"/>
                  </a:lnTo>
                  <a:lnTo>
                    <a:pt x="21339" y="8197"/>
                  </a:lnTo>
                  <a:lnTo>
                    <a:pt x="21252" y="7546"/>
                  </a:lnTo>
                  <a:lnTo>
                    <a:pt x="21166" y="7286"/>
                  </a:lnTo>
                  <a:lnTo>
                    <a:pt x="21079" y="6896"/>
                  </a:lnTo>
                  <a:lnTo>
                    <a:pt x="20992" y="6635"/>
                  </a:lnTo>
                  <a:lnTo>
                    <a:pt x="20905" y="6245"/>
                  </a:lnTo>
                  <a:lnTo>
                    <a:pt x="20775" y="5985"/>
                  </a:lnTo>
                  <a:lnTo>
                    <a:pt x="20689" y="5595"/>
                  </a:lnTo>
                  <a:lnTo>
                    <a:pt x="20558" y="5204"/>
                  </a:lnTo>
                  <a:lnTo>
                    <a:pt x="20472" y="5074"/>
                  </a:lnTo>
                  <a:lnTo>
                    <a:pt x="20168" y="4424"/>
                  </a:lnTo>
                  <a:lnTo>
                    <a:pt x="20038" y="4033"/>
                  </a:lnTo>
                  <a:lnTo>
                    <a:pt x="19865" y="3643"/>
                  </a:lnTo>
                  <a:lnTo>
                    <a:pt x="19604" y="2992"/>
                  </a:lnTo>
                  <a:lnTo>
                    <a:pt x="19431" y="2732"/>
                  </a:lnTo>
                  <a:lnTo>
                    <a:pt x="19214" y="2472"/>
                  </a:lnTo>
                  <a:lnTo>
                    <a:pt x="19084" y="2081"/>
                  </a:lnTo>
                  <a:lnTo>
                    <a:pt x="18867" y="1821"/>
                  </a:lnTo>
                  <a:lnTo>
                    <a:pt x="18476" y="1171"/>
                  </a:lnTo>
                  <a:lnTo>
                    <a:pt x="18303" y="780"/>
                  </a:lnTo>
                  <a:lnTo>
                    <a:pt x="18043" y="650"/>
                  </a:lnTo>
                  <a:lnTo>
                    <a:pt x="17609" y="0"/>
                  </a:lnTo>
                  <a:lnTo>
                    <a:pt x="16785" y="260"/>
                  </a:lnTo>
                  <a:lnTo>
                    <a:pt x="15917" y="650"/>
                  </a:lnTo>
                  <a:lnTo>
                    <a:pt x="15050" y="780"/>
                  </a:lnTo>
                  <a:lnTo>
                    <a:pt x="14226" y="1040"/>
                  </a:lnTo>
                  <a:lnTo>
                    <a:pt x="13358" y="1300"/>
                  </a:lnTo>
                  <a:lnTo>
                    <a:pt x="12925" y="1300"/>
                  </a:lnTo>
                  <a:lnTo>
                    <a:pt x="12708" y="1431"/>
                  </a:lnTo>
                  <a:lnTo>
                    <a:pt x="12491" y="1431"/>
                  </a:lnTo>
                  <a:lnTo>
                    <a:pt x="11667" y="1691"/>
                  </a:lnTo>
                  <a:lnTo>
                    <a:pt x="10800" y="1821"/>
                  </a:lnTo>
                  <a:lnTo>
                    <a:pt x="10236" y="2862"/>
                  </a:lnTo>
                  <a:lnTo>
                    <a:pt x="10062" y="2992"/>
                  </a:lnTo>
                  <a:lnTo>
                    <a:pt x="9975" y="3122"/>
                  </a:lnTo>
                  <a:lnTo>
                    <a:pt x="9932" y="3252"/>
                  </a:lnTo>
                  <a:lnTo>
                    <a:pt x="9585" y="3903"/>
                  </a:lnTo>
                  <a:lnTo>
                    <a:pt x="9325" y="4424"/>
                  </a:lnTo>
                  <a:lnTo>
                    <a:pt x="8978" y="4944"/>
                  </a:lnTo>
                  <a:lnTo>
                    <a:pt x="8370" y="5855"/>
                  </a:lnTo>
                  <a:lnTo>
                    <a:pt x="7763" y="6766"/>
                  </a:lnTo>
                  <a:lnTo>
                    <a:pt x="7416" y="7286"/>
                  </a:lnTo>
                  <a:lnTo>
                    <a:pt x="7286" y="7416"/>
                  </a:lnTo>
                  <a:lnTo>
                    <a:pt x="7113" y="7676"/>
                  </a:lnTo>
                  <a:lnTo>
                    <a:pt x="6939" y="7937"/>
                  </a:lnTo>
                  <a:lnTo>
                    <a:pt x="6766" y="8067"/>
                  </a:lnTo>
                  <a:lnTo>
                    <a:pt x="6462" y="8587"/>
                  </a:lnTo>
                  <a:lnTo>
                    <a:pt x="5811" y="9368"/>
                  </a:lnTo>
                  <a:lnTo>
                    <a:pt x="5117" y="10279"/>
                  </a:lnTo>
                  <a:lnTo>
                    <a:pt x="5031" y="10409"/>
                  </a:lnTo>
                  <a:lnTo>
                    <a:pt x="4944" y="10539"/>
                  </a:lnTo>
                  <a:lnTo>
                    <a:pt x="4727" y="10800"/>
                  </a:lnTo>
                  <a:lnTo>
                    <a:pt x="4380" y="11190"/>
                  </a:lnTo>
                  <a:lnTo>
                    <a:pt x="4033" y="11580"/>
                  </a:lnTo>
                  <a:lnTo>
                    <a:pt x="3946" y="11580"/>
                  </a:lnTo>
                  <a:lnTo>
                    <a:pt x="3860" y="11710"/>
                  </a:lnTo>
                  <a:lnTo>
                    <a:pt x="3686" y="11971"/>
                  </a:lnTo>
                  <a:lnTo>
                    <a:pt x="2949" y="12751"/>
                  </a:lnTo>
                  <a:lnTo>
                    <a:pt x="2211" y="13532"/>
                  </a:lnTo>
                  <a:lnTo>
                    <a:pt x="1864" y="13792"/>
                  </a:lnTo>
                  <a:lnTo>
                    <a:pt x="1474" y="14182"/>
                  </a:lnTo>
                  <a:lnTo>
                    <a:pt x="737" y="14963"/>
                  </a:lnTo>
                  <a:lnTo>
                    <a:pt x="563" y="15224"/>
                  </a:lnTo>
                  <a:lnTo>
                    <a:pt x="346" y="15353"/>
                  </a:lnTo>
                  <a:lnTo>
                    <a:pt x="0" y="15744"/>
                  </a:lnTo>
                </a:path>
              </a:pathLst>
            </a:custGeom>
            <a:gradFill rotWithShape="0">
              <a:gsLst>
                <a:gs pos="0">
                  <a:srgbClr val="294b87"/>
                </a:gs>
                <a:gs pos="100000">
                  <a:srgbClr val="3f76b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未知"/>
            <p:cNvSpPr/>
            <p:nvPr/>
          </p:nvSpPr>
          <p:spPr>
            <a:xfrm>
              <a:off x="6111720" y="4656240"/>
              <a:ext cx="295200" cy="1363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56"/>
                  </a:moveTo>
                  <a:lnTo>
                    <a:pt x="15804" y="0"/>
                  </a:lnTo>
                  <a:lnTo>
                    <a:pt x="0" y="21542"/>
                  </a:lnTo>
                  <a:lnTo>
                    <a:pt x="263" y="21600"/>
                  </a:lnTo>
                  <a:lnTo>
                    <a:pt x="526" y="21600"/>
                  </a:lnTo>
                  <a:lnTo>
                    <a:pt x="1053" y="21542"/>
                  </a:lnTo>
                  <a:lnTo>
                    <a:pt x="1580" y="21542"/>
                  </a:lnTo>
                  <a:lnTo>
                    <a:pt x="1843" y="21485"/>
                  </a:lnTo>
                  <a:lnTo>
                    <a:pt x="2370" y="21428"/>
                  </a:lnTo>
                  <a:lnTo>
                    <a:pt x="2634" y="21371"/>
                  </a:lnTo>
                  <a:lnTo>
                    <a:pt x="3160" y="21257"/>
                  </a:lnTo>
                  <a:lnTo>
                    <a:pt x="21600" y="56"/>
                  </a:lnTo>
                </a:path>
              </a:pathLst>
            </a:custGeom>
            <a:gradFill rotWithShape="0">
              <a:gsLst>
                <a:gs pos="0">
                  <a:srgbClr val="3f76bf"/>
                </a:gs>
                <a:gs pos="100000">
                  <a:srgbClr val="0028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7040160" y="4678560"/>
              <a:ext cx="147600" cy="635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277" y="0"/>
                  </a:moveTo>
                  <a:lnTo>
                    <a:pt x="13170" y="0"/>
                  </a:lnTo>
                  <a:lnTo>
                    <a:pt x="12117" y="0"/>
                  </a:lnTo>
                  <a:lnTo>
                    <a:pt x="12117" y="0"/>
                  </a:lnTo>
                  <a:lnTo>
                    <a:pt x="12117" y="0"/>
                  </a:lnTo>
                  <a:lnTo>
                    <a:pt x="11590" y="0"/>
                  </a:lnTo>
                  <a:lnTo>
                    <a:pt x="11590" y="0"/>
                  </a:lnTo>
                  <a:lnTo>
                    <a:pt x="7375" y="0"/>
                  </a:lnTo>
                  <a:lnTo>
                    <a:pt x="0" y="0"/>
                  </a:lnTo>
                  <a:lnTo>
                    <a:pt x="11590" y="20989"/>
                  </a:lnTo>
                  <a:lnTo>
                    <a:pt x="12643" y="21233"/>
                  </a:lnTo>
                  <a:lnTo>
                    <a:pt x="13697" y="21355"/>
                  </a:lnTo>
                  <a:lnTo>
                    <a:pt x="14224" y="21477"/>
                  </a:lnTo>
                  <a:lnTo>
                    <a:pt x="15277" y="21477"/>
                  </a:lnTo>
                  <a:lnTo>
                    <a:pt x="16331" y="21600"/>
                  </a:lnTo>
                  <a:lnTo>
                    <a:pt x="17911" y="21477"/>
                  </a:lnTo>
                  <a:lnTo>
                    <a:pt x="18965" y="21477"/>
                  </a:lnTo>
                  <a:lnTo>
                    <a:pt x="20546" y="21355"/>
                  </a:lnTo>
                  <a:lnTo>
                    <a:pt x="21600" y="21111"/>
                  </a:lnTo>
                  <a:lnTo>
                    <a:pt x="15277" y="0"/>
                  </a:lnTo>
                </a:path>
              </a:pathLst>
            </a:custGeom>
            <a:gradFill rotWithShape="0">
              <a:gsLst>
                <a:gs pos="0">
                  <a:srgbClr val="3f76bf"/>
                </a:gs>
                <a:gs pos="100000">
                  <a:srgbClr val="0028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7392600" y="4656240"/>
              <a:ext cx="408240" cy="1434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396" y="0"/>
                  </a:moveTo>
                  <a:lnTo>
                    <a:pt x="2102" y="0"/>
                  </a:lnTo>
                  <a:lnTo>
                    <a:pt x="0" y="108"/>
                  </a:lnTo>
                  <a:lnTo>
                    <a:pt x="18541" y="21383"/>
                  </a:lnTo>
                  <a:lnTo>
                    <a:pt x="19114" y="21491"/>
                  </a:lnTo>
                  <a:lnTo>
                    <a:pt x="19306" y="21491"/>
                  </a:lnTo>
                  <a:lnTo>
                    <a:pt x="19497" y="21545"/>
                  </a:lnTo>
                  <a:lnTo>
                    <a:pt x="19879" y="21545"/>
                  </a:lnTo>
                  <a:lnTo>
                    <a:pt x="20261" y="21600"/>
                  </a:lnTo>
                  <a:lnTo>
                    <a:pt x="20261" y="21545"/>
                  </a:lnTo>
                  <a:lnTo>
                    <a:pt x="20453" y="21545"/>
                  </a:lnTo>
                  <a:lnTo>
                    <a:pt x="20453" y="21545"/>
                  </a:lnTo>
                  <a:lnTo>
                    <a:pt x="20453" y="21545"/>
                  </a:lnTo>
                  <a:lnTo>
                    <a:pt x="20644" y="21545"/>
                  </a:lnTo>
                  <a:lnTo>
                    <a:pt x="20644" y="21545"/>
                  </a:lnTo>
                  <a:lnTo>
                    <a:pt x="20644" y="21545"/>
                  </a:lnTo>
                  <a:lnTo>
                    <a:pt x="20835" y="21545"/>
                  </a:lnTo>
                  <a:lnTo>
                    <a:pt x="20835" y="21545"/>
                  </a:lnTo>
                  <a:lnTo>
                    <a:pt x="21026" y="21545"/>
                  </a:lnTo>
                  <a:lnTo>
                    <a:pt x="21217" y="21545"/>
                  </a:lnTo>
                  <a:lnTo>
                    <a:pt x="21217" y="21545"/>
                  </a:lnTo>
                  <a:lnTo>
                    <a:pt x="21408" y="21491"/>
                  </a:lnTo>
                  <a:lnTo>
                    <a:pt x="21408" y="21491"/>
                  </a:lnTo>
                  <a:lnTo>
                    <a:pt x="21600" y="21491"/>
                  </a:lnTo>
                  <a:lnTo>
                    <a:pt x="4396" y="0"/>
                  </a:lnTo>
                </a:path>
              </a:pathLst>
            </a:custGeom>
            <a:gradFill rotWithShape="0">
              <a:gsLst>
                <a:gs pos="0">
                  <a:srgbClr val="3f76bf"/>
                </a:gs>
                <a:gs pos="100000">
                  <a:srgbClr val="0028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7357320" y="3978000"/>
              <a:ext cx="571320" cy="67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63" y="4710"/>
                  </a:moveTo>
                  <a:lnTo>
                    <a:pt x="21600" y="4020"/>
                  </a:lnTo>
                  <a:lnTo>
                    <a:pt x="21600" y="3676"/>
                  </a:lnTo>
                  <a:lnTo>
                    <a:pt x="21600" y="3331"/>
                  </a:lnTo>
                  <a:lnTo>
                    <a:pt x="21600" y="3102"/>
                  </a:lnTo>
                  <a:lnTo>
                    <a:pt x="21600" y="2872"/>
                  </a:lnTo>
                  <a:lnTo>
                    <a:pt x="21600" y="2642"/>
                  </a:lnTo>
                  <a:lnTo>
                    <a:pt x="21600" y="2297"/>
                  </a:lnTo>
                  <a:lnTo>
                    <a:pt x="21600" y="2067"/>
                  </a:lnTo>
                  <a:lnTo>
                    <a:pt x="21463" y="1838"/>
                  </a:lnTo>
                  <a:lnTo>
                    <a:pt x="21463" y="1608"/>
                  </a:lnTo>
                  <a:lnTo>
                    <a:pt x="21328" y="1493"/>
                  </a:lnTo>
                  <a:lnTo>
                    <a:pt x="21056" y="1148"/>
                  </a:lnTo>
                  <a:lnTo>
                    <a:pt x="21056" y="1033"/>
                  </a:lnTo>
                  <a:lnTo>
                    <a:pt x="20920" y="804"/>
                  </a:lnTo>
                  <a:lnTo>
                    <a:pt x="20784" y="689"/>
                  </a:lnTo>
                  <a:lnTo>
                    <a:pt x="20648" y="574"/>
                  </a:lnTo>
                  <a:lnTo>
                    <a:pt x="20377" y="459"/>
                  </a:lnTo>
                  <a:lnTo>
                    <a:pt x="20241" y="344"/>
                  </a:lnTo>
                  <a:lnTo>
                    <a:pt x="19697" y="114"/>
                  </a:lnTo>
                  <a:lnTo>
                    <a:pt x="19426" y="114"/>
                  </a:lnTo>
                  <a:lnTo>
                    <a:pt x="19290" y="0"/>
                  </a:lnTo>
                  <a:lnTo>
                    <a:pt x="18882" y="0"/>
                  </a:lnTo>
                  <a:lnTo>
                    <a:pt x="18747" y="0"/>
                  </a:lnTo>
                  <a:lnTo>
                    <a:pt x="18203" y="0"/>
                  </a:lnTo>
                  <a:lnTo>
                    <a:pt x="17796" y="0"/>
                  </a:lnTo>
                  <a:lnTo>
                    <a:pt x="17388" y="0"/>
                  </a:lnTo>
                  <a:lnTo>
                    <a:pt x="17116" y="0"/>
                  </a:lnTo>
                  <a:lnTo>
                    <a:pt x="16709" y="0"/>
                  </a:lnTo>
                  <a:lnTo>
                    <a:pt x="17116" y="114"/>
                  </a:lnTo>
                  <a:lnTo>
                    <a:pt x="17388" y="114"/>
                  </a:lnTo>
                  <a:lnTo>
                    <a:pt x="17796" y="229"/>
                  </a:lnTo>
                  <a:lnTo>
                    <a:pt x="18067" y="344"/>
                  </a:lnTo>
                  <a:lnTo>
                    <a:pt x="18203" y="344"/>
                  </a:lnTo>
                  <a:lnTo>
                    <a:pt x="18339" y="459"/>
                  </a:lnTo>
                  <a:lnTo>
                    <a:pt x="18611" y="689"/>
                  </a:lnTo>
                  <a:lnTo>
                    <a:pt x="18747" y="918"/>
                  </a:lnTo>
                  <a:lnTo>
                    <a:pt x="19018" y="1148"/>
                  </a:lnTo>
                  <a:lnTo>
                    <a:pt x="19154" y="1263"/>
                  </a:lnTo>
                  <a:lnTo>
                    <a:pt x="19290" y="1608"/>
                  </a:lnTo>
                  <a:lnTo>
                    <a:pt x="19426" y="1953"/>
                  </a:lnTo>
                  <a:lnTo>
                    <a:pt x="19562" y="2297"/>
                  </a:lnTo>
                  <a:lnTo>
                    <a:pt x="19562" y="2642"/>
                  </a:lnTo>
                  <a:lnTo>
                    <a:pt x="19562" y="2872"/>
                  </a:lnTo>
                  <a:lnTo>
                    <a:pt x="19562" y="3102"/>
                  </a:lnTo>
                  <a:lnTo>
                    <a:pt x="19562" y="3331"/>
                  </a:lnTo>
                  <a:lnTo>
                    <a:pt x="19562" y="3906"/>
                  </a:lnTo>
                  <a:lnTo>
                    <a:pt x="19290" y="4710"/>
                  </a:lnTo>
                  <a:lnTo>
                    <a:pt x="19018" y="5400"/>
                  </a:lnTo>
                  <a:lnTo>
                    <a:pt x="18747" y="6204"/>
                  </a:lnTo>
                  <a:lnTo>
                    <a:pt x="18339" y="7008"/>
                  </a:lnTo>
                  <a:lnTo>
                    <a:pt x="17931" y="7697"/>
                  </a:lnTo>
                  <a:lnTo>
                    <a:pt x="17660" y="8042"/>
                  </a:lnTo>
                  <a:lnTo>
                    <a:pt x="17524" y="8387"/>
                  </a:lnTo>
                  <a:lnTo>
                    <a:pt x="16981" y="9076"/>
                  </a:lnTo>
                  <a:lnTo>
                    <a:pt x="16573" y="9765"/>
                  </a:lnTo>
                  <a:lnTo>
                    <a:pt x="16165" y="10455"/>
                  </a:lnTo>
                  <a:lnTo>
                    <a:pt x="15758" y="11029"/>
                  </a:lnTo>
                  <a:lnTo>
                    <a:pt x="15214" y="11718"/>
                  </a:lnTo>
                  <a:lnTo>
                    <a:pt x="14943" y="11833"/>
                  </a:lnTo>
                  <a:lnTo>
                    <a:pt x="14807" y="12063"/>
                  </a:lnTo>
                  <a:lnTo>
                    <a:pt x="14671" y="12408"/>
                  </a:lnTo>
                  <a:lnTo>
                    <a:pt x="14263" y="12638"/>
                  </a:lnTo>
                  <a:lnTo>
                    <a:pt x="14128" y="12753"/>
                  </a:lnTo>
                  <a:lnTo>
                    <a:pt x="14128" y="12867"/>
                  </a:lnTo>
                  <a:lnTo>
                    <a:pt x="13584" y="13557"/>
                  </a:lnTo>
                  <a:lnTo>
                    <a:pt x="13448" y="13672"/>
                  </a:lnTo>
                  <a:lnTo>
                    <a:pt x="13177" y="13787"/>
                  </a:lnTo>
                  <a:lnTo>
                    <a:pt x="12905" y="14131"/>
                  </a:lnTo>
                  <a:lnTo>
                    <a:pt x="12362" y="14706"/>
                  </a:lnTo>
                  <a:lnTo>
                    <a:pt x="11818" y="15165"/>
                  </a:lnTo>
                  <a:lnTo>
                    <a:pt x="11546" y="15280"/>
                  </a:lnTo>
                  <a:lnTo>
                    <a:pt x="11411" y="15510"/>
                  </a:lnTo>
                  <a:lnTo>
                    <a:pt x="11139" y="15740"/>
                  </a:lnTo>
                  <a:lnTo>
                    <a:pt x="10324" y="16314"/>
                  </a:lnTo>
                  <a:lnTo>
                    <a:pt x="10052" y="16544"/>
                  </a:lnTo>
                  <a:lnTo>
                    <a:pt x="9780" y="16659"/>
                  </a:lnTo>
                  <a:lnTo>
                    <a:pt x="9645" y="16659"/>
                  </a:lnTo>
                  <a:lnTo>
                    <a:pt x="9509" y="16774"/>
                  </a:lnTo>
                  <a:lnTo>
                    <a:pt x="9373" y="16889"/>
                  </a:lnTo>
                  <a:lnTo>
                    <a:pt x="8965" y="17233"/>
                  </a:lnTo>
                  <a:lnTo>
                    <a:pt x="8830" y="17348"/>
                  </a:lnTo>
                  <a:lnTo>
                    <a:pt x="8694" y="17463"/>
                  </a:lnTo>
                  <a:lnTo>
                    <a:pt x="8286" y="17693"/>
                  </a:lnTo>
                  <a:lnTo>
                    <a:pt x="7471" y="18153"/>
                  </a:lnTo>
                  <a:lnTo>
                    <a:pt x="7199" y="18382"/>
                  </a:lnTo>
                  <a:lnTo>
                    <a:pt x="6927" y="18497"/>
                  </a:lnTo>
                  <a:lnTo>
                    <a:pt x="6792" y="18612"/>
                  </a:lnTo>
                  <a:lnTo>
                    <a:pt x="5977" y="18957"/>
                  </a:lnTo>
                  <a:lnTo>
                    <a:pt x="5162" y="19416"/>
                  </a:lnTo>
                  <a:lnTo>
                    <a:pt x="4346" y="19761"/>
                  </a:lnTo>
                  <a:lnTo>
                    <a:pt x="3396" y="20220"/>
                  </a:lnTo>
                  <a:lnTo>
                    <a:pt x="2581" y="20451"/>
                  </a:lnTo>
                  <a:lnTo>
                    <a:pt x="1765" y="20795"/>
                  </a:lnTo>
                  <a:lnTo>
                    <a:pt x="1222" y="21025"/>
                  </a:lnTo>
                  <a:lnTo>
                    <a:pt x="815" y="21140"/>
                  </a:lnTo>
                  <a:lnTo>
                    <a:pt x="0" y="21600"/>
                  </a:lnTo>
                  <a:lnTo>
                    <a:pt x="678" y="21484"/>
                  </a:lnTo>
                  <a:lnTo>
                    <a:pt x="1086" y="21369"/>
                  </a:lnTo>
                  <a:lnTo>
                    <a:pt x="1494" y="21369"/>
                  </a:lnTo>
                  <a:lnTo>
                    <a:pt x="2309" y="21255"/>
                  </a:lnTo>
                  <a:lnTo>
                    <a:pt x="2581" y="21140"/>
                  </a:lnTo>
                  <a:lnTo>
                    <a:pt x="3124" y="21025"/>
                  </a:lnTo>
                  <a:lnTo>
                    <a:pt x="3939" y="20910"/>
                  </a:lnTo>
                  <a:lnTo>
                    <a:pt x="4346" y="20795"/>
                  </a:lnTo>
                  <a:lnTo>
                    <a:pt x="4482" y="20680"/>
                  </a:lnTo>
                  <a:lnTo>
                    <a:pt x="4754" y="20680"/>
                  </a:lnTo>
                  <a:lnTo>
                    <a:pt x="5433" y="20451"/>
                  </a:lnTo>
                  <a:lnTo>
                    <a:pt x="6249" y="20220"/>
                  </a:lnTo>
                  <a:lnTo>
                    <a:pt x="6927" y="19876"/>
                  </a:lnTo>
                  <a:lnTo>
                    <a:pt x="7607" y="19531"/>
                  </a:lnTo>
                  <a:lnTo>
                    <a:pt x="8014" y="19302"/>
                  </a:lnTo>
                  <a:lnTo>
                    <a:pt x="8150" y="19302"/>
                  </a:lnTo>
                  <a:lnTo>
                    <a:pt x="8422" y="19187"/>
                  </a:lnTo>
                  <a:lnTo>
                    <a:pt x="9101" y="18727"/>
                  </a:lnTo>
                  <a:lnTo>
                    <a:pt x="9780" y="18382"/>
                  </a:lnTo>
                  <a:lnTo>
                    <a:pt x="10460" y="17923"/>
                  </a:lnTo>
                  <a:lnTo>
                    <a:pt x="10867" y="17693"/>
                  </a:lnTo>
                  <a:lnTo>
                    <a:pt x="11275" y="17463"/>
                  </a:lnTo>
                  <a:lnTo>
                    <a:pt x="11818" y="16889"/>
                  </a:lnTo>
                  <a:lnTo>
                    <a:pt x="12226" y="16659"/>
                  </a:lnTo>
                  <a:lnTo>
                    <a:pt x="12498" y="16429"/>
                  </a:lnTo>
                  <a:lnTo>
                    <a:pt x="13177" y="15855"/>
                  </a:lnTo>
                  <a:lnTo>
                    <a:pt x="13584" y="15510"/>
                  </a:lnTo>
                  <a:lnTo>
                    <a:pt x="13856" y="15165"/>
                  </a:lnTo>
                  <a:lnTo>
                    <a:pt x="14128" y="14820"/>
                  </a:lnTo>
                  <a:lnTo>
                    <a:pt x="14263" y="14706"/>
                  </a:lnTo>
                  <a:lnTo>
                    <a:pt x="14535" y="14591"/>
                  </a:lnTo>
                  <a:lnTo>
                    <a:pt x="14671" y="14476"/>
                  </a:lnTo>
                  <a:lnTo>
                    <a:pt x="14807" y="14246"/>
                  </a:lnTo>
                  <a:lnTo>
                    <a:pt x="15079" y="13902"/>
                  </a:lnTo>
                  <a:lnTo>
                    <a:pt x="15758" y="13212"/>
                  </a:lnTo>
                  <a:lnTo>
                    <a:pt x="16437" y="12523"/>
                  </a:lnTo>
                  <a:lnTo>
                    <a:pt x="16709" y="12178"/>
                  </a:lnTo>
                  <a:lnTo>
                    <a:pt x="16981" y="11718"/>
                  </a:lnTo>
                  <a:lnTo>
                    <a:pt x="17524" y="10914"/>
                  </a:lnTo>
                  <a:lnTo>
                    <a:pt x="17931" y="10569"/>
                  </a:lnTo>
                  <a:lnTo>
                    <a:pt x="18203" y="10110"/>
                  </a:lnTo>
                  <a:lnTo>
                    <a:pt x="18747" y="9306"/>
                  </a:lnTo>
                  <a:lnTo>
                    <a:pt x="19018" y="8961"/>
                  </a:lnTo>
                  <a:lnTo>
                    <a:pt x="19290" y="8502"/>
                  </a:lnTo>
                  <a:lnTo>
                    <a:pt x="19833" y="7467"/>
                  </a:lnTo>
                  <a:lnTo>
                    <a:pt x="19969" y="7238"/>
                  </a:lnTo>
                  <a:lnTo>
                    <a:pt x="20241" y="7008"/>
                  </a:lnTo>
                  <a:lnTo>
                    <a:pt x="20513" y="6663"/>
                  </a:lnTo>
                  <a:lnTo>
                    <a:pt x="21056" y="5629"/>
                  </a:lnTo>
                  <a:lnTo>
                    <a:pt x="21463" y="4710"/>
                  </a:lnTo>
                </a:path>
              </a:pathLst>
            </a:custGeom>
            <a:solidFill>
              <a:srgbClr val="294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3640" y="5943960"/>
              <a:ext cx="17917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Kingsoft WPS Offi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567240" y="5219640"/>
            <a:ext cx="5097240" cy="65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294b8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84360" y="917640"/>
            <a:ext cx="9396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64d2"/>
                </a:solidFill>
                <a:latin typeface="Times New Roman"/>
                <a:ea typeface="宋体"/>
              </a:rPr>
              <a:t>公司简介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44760" y="990720"/>
            <a:ext cx="133200" cy="125280"/>
          </a:xfrm>
          <a:prstGeom prst="rect">
            <a:avLst/>
          </a:prstGeom>
          <a:solidFill>
            <a:srgbClr val="60abff"/>
          </a:solidFill>
          <a:ln w="7200">
            <a:solidFill>
              <a:srgbClr val="60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49600" y="990720"/>
            <a:ext cx="133200" cy="125280"/>
          </a:xfrm>
          <a:prstGeom prst="rect">
            <a:avLst/>
          </a:prstGeom>
          <a:solidFill>
            <a:srgbClr val="97c9ff"/>
          </a:solidFill>
          <a:ln w="7200">
            <a:solidFill>
              <a:srgbClr val="97c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54440" y="990720"/>
            <a:ext cx="133200" cy="125280"/>
          </a:xfrm>
          <a:prstGeom prst="rect">
            <a:avLst/>
          </a:prstGeom>
          <a:solidFill>
            <a:srgbClr val="a2ceff"/>
          </a:solidFill>
          <a:ln w="7200">
            <a:solidFill>
              <a:srgbClr val="a2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60720" y="990720"/>
            <a:ext cx="131760" cy="125280"/>
          </a:xfrm>
          <a:prstGeom prst="rect">
            <a:avLst/>
          </a:prstGeom>
          <a:solidFill>
            <a:srgbClr val="aad2ff"/>
          </a:solidFill>
          <a:ln w="7200">
            <a:solidFill>
              <a:srgbClr val="aad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4680" y="1482840"/>
            <a:ext cx="1282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294b87"/>
                </a:solidFill>
                <a:latin typeface="Times New Roman"/>
                <a:ea typeface="宋体"/>
              </a:rPr>
              <a:t>企业文化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20840" y="2209680"/>
            <a:ext cx="691920" cy="1569960"/>
            <a:chOff x="420840" y="2209680"/>
            <a:chExt cx="691920" cy="1569960"/>
          </a:xfrm>
        </p:grpSpPr>
        <p:sp>
          <p:nvSpPr>
            <p:cNvPr id="98" name=""/>
            <p:cNvSpPr/>
            <p:nvPr/>
          </p:nvSpPr>
          <p:spPr>
            <a:xfrm>
              <a:off x="420840" y="2209680"/>
              <a:ext cx="691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589cda"/>
                  </a:solidFill>
                  <a:latin typeface="Times New Roman"/>
                  <a:ea typeface="宋体"/>
                </a:rPr>
                <a:t>公司简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>
              <a:hlinkClick r:id="" action="ppaction://hlinkshowjump?jump=nextslide"/>
            </p:cNvPr>
            <p:cNvSpPr/>
            <p:nvPr/>
          </p:nvSpPr>
          <p:spPr>
            <a:xfrm>
              <a:off x="420840" y="2541600"/>
              <a:ext cx="69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公司理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0840" y="2877480"/>
              <a:ext cx="69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公司结构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0840" y="3212280"/>
              <a:ext cx="6919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发展历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0840" y="3551400"/>
              <a:ext cx="6919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加盟我们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106720" y="1782720"/>
            <a:ext cx="591336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4b87"/>
                </a:solidFill>
                <a:latin typeface="宋体"/>
                <a:ea typeface="宋体"/>
              </a:rPr>
              <a:t>请输入公司简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78000" y="2664000"/>
            <a:ext cx="331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94b87"/>
                </a:solidFill>
                <a:latin typeface="Arial"/>
              </a:rPr>
              <a:t>招聘类</a:t>
            </a:r>
            <a:r>
              <a:rPr b="1" lang="en-US" sz="4000" spc="-1" strike="noStrike">
                <a:solidFill>
                  <a:srgbClr val="294b87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294b87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52720" y="3529080"/>
            <a:ext cx="38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94b87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294b87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84360" y="917640"/>
            <a:ext cx="9396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64d2"/>
                </a:solidFill>
                <a:latin typeface="Times New Roman"/>
                <a:ea typeface="宋体"/>
              </a:rPr>
              <a:t>公司理念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44760" y="990720"/>
            <a:ext cx="133200" cy="125280"/>
          </a:xfrm>
          <a:prstGeom prst="rect">
            <a:avLst/>
          </a:prstGeom>
          <a:solidFill>
            <a:srgbClr val="60abff"/>
          </a:solidFill>
          <a:ln w="7200">
            <a:solidFill>
              <a:srgbClr val="60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49600" y="990720"/>
            <a:ext cx="133200" cy="125280"/>
          </a:xfrm>
          <a:prstGeom prst="rect">
            <a:avLst/>
          </a:prstGeom>
          <a:solidFill>
            <a:srgbClr val="97c9ff"/>
          </a:solidFill>
          <a:ln w="7200">
            <a:solidFill>
              <a:srgbClr val="97c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54440" y="990720"/>
            <a:ext cx="133200" cy="125280"/>
          </a:xfrm>
          <a:prstGeom prst="rect">
            <a:avLst/>
          </a:prstGeom>
          <a:solidFill>
            <a:srgbClr val="a2ceff"/>
          </a:solidFill>
          <a:ln w="7200">
            <a:solidFill>
              <a:srgbClr val="a2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60720" y="990720"/>
            <a:ext cx="131760" cy="125280"/>
          </a:xfrm>
          <a:prstGeom prst="rect">
            <a:avLst/>
          </a:prstGeom>
          <a:solidFill>
            <a:srgbClr val="aad2ff"/>
          </a:solidFill>
          <a:ln w="7200">
            <a:solidFill>
              <a:srgbClr val="aad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20840" y="2209680"/>
            <a:ext cx="691920" cy="1559160"/>
            <a:chOff x="420840" y="2209680"/>
            <a:chExt cx="691920" cy="1559160"/>
          </a:xfrm>
        </p:grpSpPr>
        <p:sp>
          <p:nvSpPr>
            <p:cNvPr id="112" name="">
              <a:hlinkClick r:id="" action="ppaction://hlinkshowjump?jump=previousslide"/>
            </p:cNvPr>
            <p:cNvSpPr/>
            <p:nvPr/>
          </p:nvSpPr>
          <p:spPr>
            <a:xfrm>
              <a:off x="420840" y="2209680"/>
              <a:ext cx="691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公司简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0840" y="2541600"/>
              <a:ext cx="69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589cda"/>
                  </a:solidFill>
                  <a:latin typeface="Times New Roman"/>
                  <a:ea typeface="宋体"/>
                </a:rPr>
                <a:t>公司理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0840" y="2867040"/>
              <a:ext cx="69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公司结构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0840" y="3201120"/>
              <a:ext cx="6919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发展历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0840" y="3540240"/>
              <a:ext cx="69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加盟我们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106720" y="1782720"/>
            <a:ext cx="591336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4b87"/>
                </a:solidFill>
                <a:latin typeface="宋体"/>
                <a:ea typeface="宋体"/>
              </a:rPr>
              <a:t>请输入公司理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584360" y="917640"/>
            <a:ext cx="9396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64d2"/>
                </a:solidFill>
                <a:latin typeface="Times New Roman"/>
                <a:ea typeface="宋体"/>
              </a:rPr>
              <a:t>公司结构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44760" y="990720"/>
            <a:ext cx="133200" cy="125280"/>
          </a:xfrm>
          <a:prstGeom prst="rect">
            <a:avLst/>
          </a:prstGeom>
          <a:solidFill>
            <a:srgbClr val="60abff"/>
          </a:solidFill>
          <a:ln w="7200">
            <a:solidFill>
              <a:srgbClr val="60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49600" y="990720"/>
            <a:ext cx="133200" cy="125280"/>
          </a:xfrm>
          <a:prstGeom prst="rect">
            <a:avLst/>
          </a:prstGeom>
          <a:solidFill>
            <a:srgbClr val="97c9ff"/>
          </a:solidFill>
          <a:ln w="7200">
            <a:solidFill>
              <a:srgbClr val="97c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54440" y="990720"/>
            <a:ext cx="133200" cy="125280"/>
          </a:xfrm>
          <a:prstGeom prst="rect">
            <a:avLst/>
          </a:prstGeom>
          <a:solidFill>
            <a:srgbClr val="a2ceff"/>
          </a:solidFill>
          <a:ln w="7200">
            <a:solidFill>
              <a:srgbClr val="a2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60720" y="990720"/>
            <a:ext cx="131760" cy="125280"/>
          </a:xfrm>
          <a:prstGeom prst="rect">
            <a:avLst/>
          </a:prstGeom>
          <a:solidFill>
            <a:srgbClr val="aad2ff"/>
          </a:solidFill>
          <a:ln w="7200">
            <a:solidFill>
              <a:srgbClr val="aad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20840" y="2209680"/>
            <a:ext cx="691920" cy="1552680"/>
            <a:chOff x="420840" y="2209680"/>
            <a:chExt cx="691920" cy="1552680"/>
          </a:xfrm>
        </p:grpSpPr>
        <p:sp>
          <p:nvSpPr>
            <p:cNvPr id="124" name=""/>
            <p:cNvSpPr/>
            <p:nvPr/>
          </p:nvSpPr>
          <p:spPr>
            <a:xfrm>
              <a:off x="420840" y="2209680"/>
              <a:ext cx="691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公司简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20840" y="2541600"/>
              <a:ext cx="69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公司理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0840" y="2877480"/>
              <a:ext cx="69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589cda"/>
                  </a:solidFill>
                  <a:latin typeface="Times New Roman"/>
                  <a:ea typeface="宋体"/>
                </a:rPr>
                <a:t>公司结构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0840" y="3211920"/>
              <a:ext cx="6919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发展历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0840" y="3531960"/>
              <a:ext cx="69192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加盟我们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106720" y="1782720"/>
            <a:ext cx="591336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4b87"/>
                </a:solidFill>
                <a:latin typeface="宋体"/>
                <a:ea typeface="宋体"/>
              </a:rPr>
              <a:t>请输入公司结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84360" y="917640"/>
            <a:ext cx="9396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64d2"/>
                </a:solidFill>
                <a:latin typeface="Times New Roman"/>
                <a:ea typeface="宋体"/>
              </a:rPr>
              <a:t>发展历程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44760" y="990720"/>
            <a:ext cx="133200" cy="125280"/>
          </a:xfrm>
          <a:prstGeom prst="rect">
            <a:avLst/>
          </a:prstGeom>
          <a:solidFill>
            <a:srgbClr val="60abff"/>
          </a:solidFill>
          <a:ln w="7200">
            <a:solidFill>
              <a:srgbClr val="60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49600" y="990720"/>
            <a:ext cx="133200" cy="125280"/>
          </a:xfrm>
          <a:prstGeom prst="rect">
            <a:avLst/>
          </a:prstGeom>
          <a:solidFill>
            <a:srgbClr val="97c9ff"/>
          </a:solidFill>
          <a:ln w="7200">
            <a:solidFill>
              <a:srgbClr val="97c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54440" y="990720"/>
            <a:ext cx="133200" cy="125280"/>
          </a:xfrm>
          <a:prstGeom prst="rect">
            <a:avLst/>
          </a:prstGeom>
          <a:solidFill>
            <a:srgbClr val="a2ceff"/>
          </a:solidFill>
          <a:ln w="7200">
            <a:solidFill>
              <a:srgbClr val="a2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60720" y="990720"/>
            <a:ext cx="131760" cy="125280"/>
          </a:xfrm>
          <a:prstGeom prst="rect">
            <a:avLst/>
          </a:prstGeom>
          <a:solidFill>
            <a:srgbClr val="aad2ff"/>
          </a:solidFill>
          <a:ln w="7200">
            <a:solidFill>
              <a:srgbClr val="aad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20840" y="2209680"/>
            <a:ext cx="691920" cy="1569960"/>
            <a:chOff x="420840" y="2209680"/>
            <a:chExt cx="691920" cy="1569960"/>
          </a:xfrm>
        </p:grpSpPr>
        <p:sp>
          <p:nvSpPr>
            <p:cNvPr id="136" name="">
              <a:hlinkClick r:id="" action="ppaction://hlinkshowjump?jump=firstslide"/>
            </p:cNvPr>
            <p:cNvSpPr/>
            <p:nvPr/>
          </p:nvSpPr>
          <p:spPr>
            <a:xfrm>
              <a:off x="420840" y="2209680"/>
              <a:ext cx="691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公司简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0840" y="2541600"/>
              <a:ext cx="69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公司理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0840" y="2877480"/>
              <a:ext cx="69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公司结构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0840" y="3212280"/>
              <a:ext cx="6919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589cda"/>
                  </a:solidFill>
                  <a:latin typeface="Times New Roman"/>
                  <a:ea typeface="宋体"/>
                </a:rPr>
                <a:t>发展历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0840" y="3551400"/>
              <a:ext cx="6919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加盟我们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106720" y="1782720"/>
            <a:ext cx="591336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4b87"/>
                </a:solidFill>
                <a:latin typeface="宋体"/>
                <a:ea typeface="宋体"/>
              </a:rPr>
              <a:t>请输入公司发展历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743120" y="1450800"/>
            <a:ext cx="395604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f76bf"/>
                </a:solidFill>
                <a:latin typeface="Arial Unicode MS"/>
                <a:ea typeface="方正大黑简体"/>
              </a:rPr>
              <a:t>招聘职位：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d88f5f"/>
                </a:solidFill>
                <a:latin typeface="Arial"/>
                <a:ea typeface="方正小标宋简体"/>
              </a:rPr>
              <a:t>要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88f5f"/>
                </a:solidFill>
                <a:latin typeface="Arial"/>
                <a:ea typeface="宋体"/>
              </a:rPr>
              <a:t>(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88f5f"/>
                </a:solidFill>
                <a:latin typeface="Arial"/>
                <a:ea typeface="宋体"/>
              </a:rPr>
              <a:t>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88f5f"/>
                </a:solidFill>
                <a:latin typeface="Arial"/>
                <a:ea typeface="宋体"/>
              </a:rPr>
              <a:t>(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88f5f"/>
                </a:solidFill>
                <a:latin typeface="Arial"/>
                <a:ea typeface="宋体"/>
              </a:rPr>
              <a:t>(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88f5f"/>
                </a:solidFill>
                <a:latin typeface="Arial"/>
                <a:ea typeface="宋体"/>
              </a:rPr>
              <a:t>(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88f5f"/>
                </a:solidFill>
                <a:latin typeface="Arial"/>
                <a:ea typeface="宋体"/>
              </a:rPr>
              <a:t>(6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753160" y="1886040"/>
            <a:ext cx="2887560" cy="117000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420840" y="2209680"/>
            <a:ext cx="691920" cy="1569960"/>
            <a:chOff x="420840" y="2209680"/>
            <a:chExt cx="691920" cy="1569960"/>
          </a:xfrm>
        </p:grpSpPr>
        <p:sp>
          <p:nvSpPr>
            <p:cNvPr id="145" name="">
              <a:hlinkClick r:id="" action="ppaction://hlinkshowjump?jump=firstslide"/>
            </p:cNvPr>
            <p:cNvSpPr/>
            <p:nvPr/>
          </p:nvSpPr>
          <p:spPr>
            <a:xfrm>
              <a:off x="420840" y="2209680"/>
              <a:ext cx="691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公司简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0840" y="2541600"/>
              <a:ext cx="69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公司理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0840" y="2877480"/>
              <a:ext cx="69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公司结构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0840" y="3212280"/>
              <a:ext cx="6919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发展历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0840" y="3551400"/>
              <a:ext cx="6919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589cda"/>
                  </a:solidFill>
                  <a:latin typeface="Times New Roman"/>
                  <a:ea typeface="宋体"/>
                </a:rPr>
                <a:t>加盟我们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584360" y="917640"/>
            <a:ext cx="9396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64d2"/>
                </a:solidFill>
                <a:latin typeface="Times New Roman"/>
                <a:ea typeface="宋体"/>
              </a:rPr>
              <a:t>加盟我们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44760" y="990720"/>
            <a:ext cx="133200" cy="125280"/>
          </a:xfrm>
          <a:prstGeom prst="rect">
            <a:avLst/>
          </a:prstGeom>
          <a:solidFill>
            <a:srgbClr val="60abff"/>
          </a:solidFill>
          <a:ln w="7200">
            <a:solidFill>
              <a:srgbClr val="60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49600" y="990720"/>
            <a:ext cx="133200" cy="125280"/>
          </a:xfrm>
          <a:prstGeom prst="rect">
            <a:avLst/>
          </a:prstGeom>
          <a:solidFill>
            <a:srgbClr val="97c9ff"/>
          </a:solidFill>
          <a:ln w="7200">
            <a:solidFill>
              <a:srgbClr val="97c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54440" y="990720"/>
            <a:ext cx="133200" cy="125280"/>
          </a:xfrm>
          <a:prstGeom prst="rect">
            <a:avLst/>
          </a:prstGeom>
          <a:solidFill>
            <a:srgbClr val="a2ceff"/>
          </a:solidFill>
          <a:ln w="7200">
            <a:solidFill>
              <a:srgbClr val="a2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60720" y="990720"/>
            <a:ext cx="131760" cy="125280"/>
          </a:xfrm>
          <a:prstGeom prst="rect">
            <a:avLst/>
          </a:prstGeom>
          <a:solidFill>
            <a:srgbClr val="aad2ff"/>
          </a:solidFill>
          <a:ln w="7200">
            <a:solidFill>
              <a:srgbClr val="aad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79280"/>
            <a:ext cx="7756560" cy="54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d9ecf3"/>
                </a:solidFill>
                <a:latin typeface="Arial"/>
              </a:rPr>
              <a:t>使用规范说明</a:t>
            </a:r>
            <a:endParaRPr b="0" lang="en-US" sz="43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1520" y="1199880"/>
            <a:ext cx="843768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3240"/>
                <a:tab algn="l" pos="6480"/>
                <a:tab algn="l" pos="9360"/>
                <a:tab algn="l" pos="12600"/>
                <a:tab algn="l" pos="15840"/>
                <a:tab algn="l" pos="19080"/>
                <a:tab algn="l" pos="22320"/>
                <a:tab algn="l" pos="25560"/>
                <a:tab algn="l" pos="28440"/>
                <a:tab algn="l" pos="31680"/>
                <a:tab algn="l" pos="34920"/>
                <a:tab algn="l" pos="38160"/>
                <a:tab algn="l" pos="41400"/>
                <a:tab algn="l" pos="44280"/>
                <a:tab algn="l" pos="47520"/>
                <a:tab algn="l" pos="50760"/>
                <a:tab algn="l" pos="54000"/>
                <a:tab algn="l" pos="57240"/>
                <a:tab algn="l" pos="60480"/>
                <a:tab algn="l" pos="63360"/>
              </a:tabLst>
            </a:pPr>
            <a:r>
              <a:rPr b="1" lang="zh-CN" sz="1500" spc="-1" strike="noStrike" u="sng">
                <a:solidFill>
                  <a:srgbClr val="ededed"/>
                </a:solidFill>
                <a:uFillTx/>
                <a:latin typeface="Arial"/>
              </a:rPr>
              <a:t>站点介绍</a:t>
            </a:r>
            <a:r>
              <a:rPr b="1" lang="en-US" sz="1500" spc="-1" strike="noStrike" u="sng">
                <a:solidFill>
                  <a:srgbClr val="ededed"/>
                </a:solidFill>
                <a:uFillTx/>
                <a:latin typeface="Arial"/>
              </a:rPr>
              <a:t>：</a:t>
            </a:r>
            <a:endParaRPr b="0" lang="en-US" sz="15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3240"/>
                <a:tab algn="l" pos="6480"/>
                <a:tab algn="l" pos="9360"/>
                <a:tab algn="l" pos="12600"/>
                <a:tab algn="l" pos="15840"/>
                <a:tab algn="l" pos="19080"/>
                <a:tab algn="l" pos="22320"/>
                <a:tab algn="l" pos="25560"/>
                <a:tab algn="l" pos="28440"/>
                <a:tab algn="l" pos="31680"/>
                <a:tab algn="l" pos="34920"/>
                <a:tab algn="l" pos="38160"/>
                <a:tab algn="l" pos="41400"/>
                <a:tab algn="l" pos="44280"/>
                <a:tab algn="l" pos="47520"/>
                <a:tab algn="l" pos="50760"/>
                <a:tab algn="l" pos="54000"/>
                <a:tab algn="l" pos="57240"/>
                <a:tab algn="l" pos="60480"/>
                <a:tab algn="l" pos="63360"/>
              </a:tabLst>
            </a:pPr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3240"/>
                <a:tab algn="l" pos="6480"/>
                <a:tab algn="l" pos="9360"/>
                <a:tab algn="l" pos="12600"/>
                <a:tab algn="l" pos="15840"/>
                <a:tab algn="l" pos="19080"/>
                <a:tab algn="l" pos="22320"/>
                <a:tab algn="l" pos="25560"/>
                <a:tab algn="l" pos="28440"/>
                <a:tab algn="l" pos="31680"/>
                <a:tab algn="l" pos="34920"/>
                <a:tab algn="l" pos="38160"/>
                <a:tab algn="l" pos="41400"/>
                <a:tab algn="l" pos="44280"/>
                <a:tab algn="l" pos="47520"/>
                <a:tab algn="l" pos="50760"/>
                <a:tab algn="l" pos="54000"/>
                <a:tab algn="l" pos="57240"/>
                <a:tab algn="l" pos="60480"/>
                <a:tab algn="l" pos="63360"/>
              </a:tabLst>
            </a:pPr>
            <a:r>
              <a:rPr b="1" lang="en-US" sz="1400" spc="-1" strike="noStrike" u="sng">
                <a:solidFill>
                  <a:srgbClr val="ededed"/>
                </a:solidFill>
                <a:uFillTx/>
                <a:latin typeface="Arial"/>
              </a:rPr>
              <a:t>PPT</a:t>
            </a:r>
            <a:r>
              <a:rPr b="1" lang="en-US" sz="1400" spc="-1" strike="noStrike" u="sng">
                <a:solidFill>
                  <a:srgbClr val="ededed"/>
                </a:solidFill>
                <a:uFillTx/>
                <a:latin typeface="Arial"/>
              </a:rPr>
              <a:t>模板下载网站</a:t>
            </a:r>
            <a:r>
              <a:rPr b="1" lang="zh-CN" sz="1400" spc="-1" strike="noStrike" u="sng">
                <a:solidFill>
                  <a:srgbClr val="e8eff7"/>
                </a:solidFill>
                <a:uFillTx/>
                <a:latin typeface="Arial"/>
              </a:rPr>
              <a:t>www.eeppt.com</a:t>
            </a:r>
            <a:r>
              <a:rPr b="1" lang="en-US" sz="1400" spc="-1" strike="noStrike" u="sng">
                <a:solidFill>
                  <a:srgbClr val="ededed"/>
                </a:solidFill>
                <a:uFillTx/>
                <a:latin typeface="Arial"/>
              </a:rPr>
              <a:t>为您提供幻灯片之家，有好看的</a:t>
            </a:r>
            <a:r>
              <a:rPr b="1" lang="en-US" sz="1400" spc="-1" strike="noStrike" u="sng">
                <a:solidFill>
                  <a:srgbClr val="ededed"/>
                </a:solidFill>
                <a:uFillTx/>
                <a:latin typeface="Arial"/>
              </a:rPr>
              <a:t>ppt</a:t>
            </a:r>
            <a:r>
              <a:rPr b="1" lang="en-US" sz="1400" spc="-1" strike="noStrike" u="sng">
                <a:solidFill>
                  <a:srgbClr val="ededed"/>
                </a:solidFill>
                <a:uFillTx/>
                <a:latin typeface="Arial"/>
              </a:rPr>
              <a:t>模板，</a:t>
            </a:r>
            <a:r>
              <a:rPr b="1" lang="en-US" sz="1400" spc="-1" strike="noStrike" u="sng">
                <a:solidFill>
                  <a:srgbClr val="ededed"/>
                </a:solidFill>
                <a:uFillTx/>
                <a:latin typeface="Arial"/>
              </a:rPr>
              <a:t>ppt</a:t>
            </a:r>
            <a:r>
              <a:rPr b="1" lang="en-US" sz="1400" spc="-1" strike="noStrike" u="sng">
                <a:solidFill>
                  <a:srgbClr val="ededed"/>
                </a:solidFill>
                <a:uFillTx/>
                <a:latin typeface="Arial"/>
              </a:rPr>
              <a:t>背景图片，</a:t>
            </a:r>
            <a:r>
              <a:rPr b="1" lang="en-US" sz="1400" spc="-1" strike="noStrike" u="sng">
                <a:solidFill>
                  <a:srgbClr val="ededed"/>
                </a:solidFill>
                <a:uFillTx/>
                <a:latin typeface="Arial"/>
              </a:rPr>
              <a:t>ppt</a:t>
            </a:r>
            <a:r>
              <a:rPr b="1" lang="en-US" sz="1400" spc="-1" strike="noStrike" u="sng">
                <a:solidFill>
                  <a:srgbClr val="ededed"/>
                </a:solidFill>
                <a:uFillTx/>
                <a:latin typeface="Arial"/>
              </a:rPr>
              <a:t>素材，</a:t>
            </a:r>
            <a:r>
              <a:rPr b="1" lang="en-US" sz="1400" spc="-1" strike="noStrike" u="sng">
                <a:solidFill>
                  <a:srgbClr val="ededed"/>
                </a:solidFill>
                <a:uFillTx/>
                <a:latin typeface="Arial"/>
              </a:rPr>
              <a:t>ppt</a:t>
            </a:r>
            <a:r>
              <a:rPr b="1" lang="en-US" sz="1400" spc="-1" strike="noStrike" u="sng">
                <a:solidFill>
                  <a:srgbClr val="ededed"/>
                </a:solidFill>
                <a:uFillTx/>
                <a:latin typeface="Arial"/>
              </a:rPr>
              <a:t>图表，动态</a:t>
            </a:r>
            <a:r>
              <a:rPr b="1" lang="en-US" sz="1400" spc="-1" strike="noStrike" u="sng">
                <a:solidFill>
                  <a:srgbClr val="ededed"/>
                </a:solidFill>
                <a:uFillTx/>
                <a:latin typeface="Arial"/>
              </a:rPr>
              <a:t>ppt</a:t>
            </a:r>
            <a:r>
              <a:rPr b="1" lang="en-US" sz="1400" spc="-1" strike="noStrike" u="sng">
                <a:solidFill>
                  <a:srgbClr val="ededed"/>
                </a:solidFill>
                <a:uFillTx/>
                <a:latin typeface="Arial"/>
              </a:rPr>
              <a:t>模板大全，幻灯片模板，</a:t>
            </a:r>
            <a:r>
              <a:rPr b="1" lang="en-US" sz="1400" spc="-1" strike="noStrike" u="sng">
                <a:solidFill>
                  <a:srgbClr val="ededed"/>
                </a:solidFill>
                <a:uFillTx/>
                <a:latin typeface="Arial"/>
              </a:rPr>
              <a:t>Powe</a:t>
            </a:r>
            <a:r>
              <a:rPr b="1" lang="en-US" sz="1400" spc="-1" strike="noStrike" u="sng">
                <a:solidFill>
                  <a:srgbClr val="e8eff7"/>
                </a:solidFill>
                <a:uFillTx/>
                <a:latin typeface="Arial"/>
              </a:rPr>
              <a:t>rPoint</a:t>
            </a:r>
            <a:r>
              <a:rPr b="1" lang="en-US" sz="1400" spc="-1" strike="noStrike" u="sng">
                <a:solidFill>
                  <a:srgbClr val="e8eff7"/>
                </a:solidFill>
                <a:uFillTx/>
                <a:latin typeface="Arial"/>
              </a:rPr>
              <a:t>模板等各类</a:t>
            </a:r>
            <a:r>
              <a:rPr b="1" lang="en-US" sz="1400" spc="-1" strike="noStrike" u="sng">
                <a:solidFill>
                  <a:srgbClr val="e8eff7"/>
                </a:solidFill>
                <a:uFillTx/>
                <a:latin typeface="Arial"/>
              </a:rPr>
              <a:t>ppt</a:t>
            </a:r>
            <a:r>
              <a:rPr b="1" lang="en-US" sz="1400" spc="-1" strike="noStrike" u="sng">
                <a:solidFill>
                  <a:srgbClr val="e8eff7"/>
                </a:solidFill>
                <a:uFillTx/>
                <a:latin typeface="Arial"/>
              </a:rPr>
              <a:t>模板免费下载。</a:t>
            </a:r>
            <a:r>
              <a:rPr b="1" lang="zh-CN" sz="1400" spc="-1" strike="noStrike" u="sng">
                <a:solidFill>
                  <a:srgbClr val="e8eff7"/>
                </a:solidFill>
                <a:uFillTx/>
                <a:latin typeface="Arial"/>
              </a:rPr>
              <a:t>助</a:t>
            </a:r>
            <a:r>
              <a:rPr b="1" lang="en-US" sz="1400" spc="-1" strike="noStrike" u="sng">
                <a:solidFill>
                  <a:srgbClr val="e8eff7"/>
                </a:solidFill>
                <a:uFillTx/>
                <a:latin typeface="Arial"/>
              </a:rPr>
              <a:t>您轻松制作出精美</a:t>
            </a:r>
            <a:r>
              <a:rPr b="1" lang="en-US" sz="1400" spc="-1" strike="noStrike" u="sng">
                <a:solidFill>
                  <a:srgbClr val="e8eff7"/>
                </a:solidFill>
                <a:uFillTx/>
                <a:latin typeface="Arial"/>
              </a:rPr>
              <a:t>PPT</a:t>
            </a:r>
            <a:r>
              <a:rPr b="1" lang="en-US" sz="1400" spc="-1" strike="noStrike" u="sng">
                <a:solidFill>
                  <a:srgbClr val="e8eff7"/>
                </a:solidFill>
                <a:uFillTx/>
                <a:latin typeface="Arial"/>
              </a:rPr>
              <a:t>模板！</a:t>
            </a:r>
            <a:r>
              <a:rPr b="1" lang="zh-CN" sz="14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最新更新</a:t>
            </a:r>
            <a:r>
              <a:rPr b="1" lang="zh-CN" sz="14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ppt</a:t>
            </a:r>
            <a:r>
              <a:rPr b="1" lang="zh-CN" sz="14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模板</a:t>
            </a:r>
            <a:r>
              <a:rPr b="0" lang="zh-CN" sz="14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 </a:t>
            </a:r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3240"/>
                <a:tab algn="l" pos="6480"/>
                <a:tab algn="l" pos="9360"/>
                <a:tab algn="l" pos="12600"/>
                <a:tab algn="l" pos="15840"/>
                <a:tab algn="l" pos="19080"/>
                <a:tab algn="l" pos="22320"/>
                <a:tab algn="l" pos="25560"/>
                <a:tab algn="l" pos="28440"/>
                <a:tab algn="l" pos="31680"/>
                <a:tab algn="l" pos="34920"/>
                <a:tab algn="l" pos="38160"/>
                <a:tab algn="l" pos="41400"/>
                <a:tab algn="l" pos="44280"/>
                <a:tab algn="l" pos="47520"/>
                <a:tab algn="l" pos="50760"/>
                <a:tab algn="l" pos="54000"/>
                <a:tab algn="l" pos="57240"/>
                <a:tab algn="l" pos="60480"/>
                <a:tab algn="l" pos="63360"/>
              </a:tabLst>
            </a:pPr>
            <a:endParaRPr b="0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3240"/>
                <a:tab algn="l" pos="6480"/>
                <a:tab algn="l" pos="9360"/>
                <a:tab algn="l" pos="12600"/>
                <a:tab algn="l" pos="15840"/>
                <a:tab algn="l" pos="19080"/>
                <a:tab algn="l" pos="22320"/>
                <a:tab algn="l" pos="25560"/>
                <a:tab algn="l" pos="28440"/>
                <a:tab algn="l" pos="31680"/>
                <a:tab algn="l" pos="34920"/>
                <a:tab algn="l" pos="38160"/>
                <a:tab algn="l" pos="41400"/>
                <a:tab algn="l" pos="44280"/>
                <a:tab algn="l" pos="47520"/>
                <a:tab algn="l" pos="50760"/>
                <a:tab algn="l" pos="54000"/>
                <a:tab algn="l" pos="57240"/>
                <a:tab algn="l" pos="60480"/>
                <a:tab algn="l" pos="63360"/>
              </a:tabLst>
            </a:pPr>
            <a:endParaRPr b="0" lang="en-US" sz="7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3240"/>
                <a:tab algn="l" pos="6480"/>
                <a:tab algn="l" pos="9360"/>
                <a:tab algn="l" pos="12600"/>
                <a:tab algn="l" pos="15840"/>
                <a:tab algn="l" pos="19080"/>
                <a:tab algn="l" pos="22320"/>
                <a:tab algn="l" pos="25560"/>
                <a:tab algn="l" pos="28440"/>
                <a:tab algn="l" pos="31680"/>
                <a:tab algn="l" pos="34920"/>
                <a:tab algn="l" pos="38160"/>
                <a:tab algn="l" pos="41400"/>
                <a:tab algn="l" pos="44280"/>
                <a:tab algn="l" pos="47520"/>
                <a:tab algn="l" pos="50760"/>
                <a:tab algn="l" pos="54000"/>
                <a:tab algn="l" pos="57240"/>
                <a:tab algn="l" pos="60480"/>
                <a:tab algn="l" pos="63360"/>
              </a:tabLst>
            </a:pPr>
            <a:r>
              <a:rPr b="1" lang="en-US" sz="1500" spc="-1" strike="noStrike" u="sng">
                <a:solidFill>
                  <a:srgbClr val="ededed"/>
                </a:solidFill>
                <a:uFillTx/>
                <a:latin typeface="Arial"/>
              </a:rPr>
              <a:t>特别说明：</a:t>
            </a:r>
            <a:endParaRPr b="0" lang="en-US" sz="15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3240"/>
                <a:tab algn="l" pos="6480"/>
                <a:tab algn="l" pos="9360"/>
                <a:tab algn="l" pos="12600"/>
                <a:tab algn="l" pos="15840"/>
                <a:tab algn="l" pos="19080"/>
                <a:tab algn="l" pos="22320"/>
                <a:tab algn="l" pos="25560"/>
                <a:tab algn="l" pos="28440"/>
                <a:tab algn="l" pos="31680"/>
                <a:tab algn="l" pos="34920"/>
                <a:tab algn="l" pos="38160"/>
                <a:tab algn="l" pos="41400"/>
                <a:tab algn="l" pos="44280"/>
                <a:tab algn="l" pos="47520"/>
                <a:tab algn="l" pos="50760"/>
                <a:tab algn="l" pos="54000"/>
                <a:tab algn="l" pos="57240"/>
                <a:tab algn="l" pos="60480"/>
                <a:tab algn="l" pos="63360"/>
              </a:tabLst>
            </a:pPr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3240"/>
                <a:tab algn="l" pos="6480"/>
                <a:tab algn="l" pos="9360"/>
                <a:tab algn="l" pos="12600"/>
                <a:tab algn="l" pos="15840"/>
                <a:tab algn="l" pos="19080"/>
                <a:tab algn="l" pos="22320"/>
                <a:tab algn="l" pos="25560"/>
                <a:tab algn="l" pos="28440"/>
                <a:tab algn="l" pos="31680"/>
                <a:tab algn="l" pos="34920"/>
                <a:tab algn="l" pos="38160"/>
                <a:tab algn="l" pos="41400"/>
                <a:tab algn="l" pos="44280"/>
                <a:tab algn="l" pos="47520"/>
                <a:tab algn="l" pos="50760"/>
                <a:tab algn="l" pos="54000"/>
                <a:tab algn="l" pos="57240"/>
                <a:tab algn="l" pos="60480"/>
                <a:tab algn="l" pos="63360"/>
              </a:tabLst>
            </a:pPr>
            <a:r>
              <a:rPr b="1" lang="zh-CN" sz="1400" spc="-1" strike="noStrike" u="sng">
                <a:solidFill>
                  <a:srgbClr val="ededed"/>
                </a:solidFill>
                <a:uFillTx/>
                <a:latin typeface="Arial"/>
              </a:rPr>
              <a:t>该</a:t>
            </a:r>
            <a:r>
              <a:rPr b="1" lang="zh-CN" sz="1400" spc="-1" strike="noStrike" u="sng">
                <a:solidFill>
                  <a:srgbClr val="ededed"/>
                </a:solidFill>
                <a:uFillTx/>
                <a:latin typeface="Arial"/>
              </a:rPr>
              <a:t>PPT</a:t>
            </a:r>
            <a:r>
              <a:rPr b="1" lang="zh-CN" sz="1400" spc="-1" strike="noStrike" u="sng">
                <a:solidFill>
                  <a:srgbClr val="ededed"/>
                </a:solidFill>
                <a:uFillTx/>
                <a:latin typeface="Arial"/>
              </a:rPr>
              <a:t>模板收集于网络，</a:t>
            </a:r>
            <a:r>
              <a:rPr b="1" lang="en-US" sz="1400" spc="-1" strike="noStrike" u="sng">
                <a:solidFill>
                  <a:srgbClr val="ededed"/>
                </a:solidFill>
                <a:uFillTx/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3240"/>
                <a:tab algn="l" pos="6480"/>
                <a:tab algn="l" pos="9360"/>
                <a:tab algn="l" pos="12600"/>
                <a:tab algn="l" pos="15840"/>
                <a:tab algn="l" pos="19080"/>
                <a:tab algn="l" pos="22320"/>
                <a:tab algn="l" pos="25560"/>
                <a:tab algn="l" pos="28440"/>
                <a:tab algn="l" pos="31680"/>
                <a:tab algn="l" pos="34920"/>
                <a:tab algn="l" pos="38160"/>
                <a:tab algn="l" pos="41400"/>
                <a:tab algn="l" pos="44280"/>
                <a:tab algn="l" pos="47520"/>
                <a:tab algn="l" pos="50760"/>
                <a:tab algn="l" pos="54000"/>
                <a:tab algn="l" pos="57240"/>
                <a:tab algn="l" pos="60480"/>
                <a:tab algn="l" pos="63360"/>
              </a:tabLst>
            </a:pPr>
            <a:endParaRPr b="0" lang="en-US" sz="7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3240"/>
                <a:tab algn="l" pos="6480"/>
                <a:tab algn="l" pos="9360"/>
                <a:tab algn="l" pos="12600"/>
                <a:tab algn="l" pos="15840"/>
                <a:tab algn="l" pos="19080"/>
                <a:tab algn="l" pos="22320"/>
                <a:tab algn="l" pos="25560"/>
                <a:tab algn="l" pos="28440"/>
                <a:tab algn="l" pos="31680"/>
                <a:tab algn="l" pos="34920"/>
                <a:tab algn="l" pos="38160"/>
                <a:tab algn="l" pos="41400"/>
                <a:tab algn="l" pos="44280"/>
                <a:tab algn="l" pos="47520"/>
                <a:tab algn="l" pos="50760"/>
                <a:tab algn="l" pos="54000"/>
                <a:tab algn="l" pos="57240"/>
                <a:tab algn="l" pos="60480"/>
                <a:tab algn="l" pos="63360"/>
              </a:tabLst>
            </a:pPr>
            <a:endParaRPr b="0" lang="en-US" sz="7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3240"/>
                <a:tab algn="l" pos="6480"/>
                <a:tab algn="l" pos="9360"/>
                <a:tab algn="l" pos="12600"/>
                <a:tab algn="l" pos="15840"/>
                <a:tab algn="l" pos="19080"/>
                <a:tab algn="l" pos="22320"/>
                <a:tab algn="l" pos="25560"/>
                <a:tab algn="l" pos="28440"/>
                <a:tab algn="l" pos="31680"/>
                <a:tab algn="l" pos="34920"/>
                <a:tab algn="l" pos="38160"/>
                <a:tab algn="l" pos="41400"/>
                <a:tab algn="l" pos="44280"/>
                <a:tab algn="l" pos="47520"/>
                <a:tab algn="l" pos="50760"/>
                <a:tab algn="l" pos="54000"/>
                <a:tab algn="l" pos="57240"/>
                <a:tab algn="l" pos="60480"/>
                <a:tab algn="l" pos="63360"/>
              </a:tabLst>
            </a:pPr>
            <a:endParaRPr b="0" lang="en-US" sz="7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63"/>
              </a:spcBef>
              <a:buNone/>
              <a:tabLst>
                <a:tab algn="l" pos="0"/>
                <a:tab algn="l" pos="3240"/>
                <a:tab algn="l" pos="6480"/>
                <a:tab algn="l" pos="9360"/>
                <a:tab algn="l" pos="12600"/>
                <a:tab algn="l" pos="15840"/>
                <a:tab algn="l" pos="19080"/>
                <a:tab algn="l" pos="22320"/>
                <a:tab algn="l" pos="25560"/>
                <a:tab algn="l" pos="28440"/>
                <a:tab algn="l" pos="31680"/>
                <a:tab algn="l" pos="34920"/>
                <a:tab algn="l" pos="38160"/>
                <a:tab algn="l" pos="41400"/>
                <a:tab algn="l" pos="44280"/>
                <a:tab algn="l" pos="47520"/>
                <a:tab algn="l" pos="50760"/>
                <a:tab algn="l" pos="54000"/>
                <a:tab algn="l" pos="57240"/>
                <a:tab algn="l" pos="60480"/>
                <a:tab algn="l" pos="63360"/>
              </a:tabLst>
            </a:pPr>
            <a:r>
              <a:rPr b="1" lang="zh-CN" sz="1500" spc="-1" strike="noStrike" u="sng">
                <a:solidFill>
                  <a:srgbClr val="ededed"/>
                </a:solidFill>
                <a:uFillTx/>
                <a:latin typeface="Arial"/>
              </a:rPr>
              <a:t>栏目推荐</a:t>
            </a:r>
            <a:r>
              <a:rPr b="1" lang="en-US" sz="1500" spc="-1" strike="noStrike" u="sng">
                <a:solidFill>
                  <a:srgbClr val="ededed"/>
                </a:solidFill>
                <a:uFillTx/>
                <a:latin typeface="Arial"/>
              </a:rPr>
              <a:t>：</a:t>
            </a:r>
            <a:endParaRPr b="0" lang="en-US" sz="15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63"/>
              </a:spcBef>
              <a:buNone/>
              <a:tabLst>
                <a:tab algn="l" pos="0"/>
                <a:tab algn="l" pos="3240"/>
                <a:tab algn="l" pos="6480"/>
                <a:tab algn="l" pos="9360"/>
                <a:tab algn="l" pos="12600"/>
                <a:tab algn="l" pos="15840"/>
                <a:tab algn="l" pos="19080"/>
                <a:tab algn="l" pos="22320"/>
                <a:tab algn="l" pos="25560"/>
                <a:tab algn="l" pos="28440"/>
                <a:tab algn="l" pos="31680"/>
                <a:tab algn="l" pos="34920"/>
                <a:tab algn="l" pos="38160"/>
                <a:tab algn="l" pos="41400"/>
                <a:tab algn="l" pos="44280"/>
                <a:tab algn="l" pos="47520"/>
                <a:tab algn="l" pos="50760"/>
                <a:tab algn="l" pos="54000"/>
                <a:tab algn="l" pos="57240"/>
                <a:tab algn="l" pos="60480"/>
                <a:tab algn="l" pos="63360"/>
              </a:tabLst>
            </a:pPr>
            <a:endParaRPr b="0" lang="en-US" sz="15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63"/>
              </a:spcBef>
              <a:buNone/>
              <a:tabLst>
                <a:tab algn="l" pos="0"/>
                <a:tab algn="l" pos="3240"/>
                <a:tab algn="l" pos="6480"/>
                <a:tab algn="l" pos="9360"/>
                <a:tab algn="l" pos="12600"/>
                <a:tab algn="l" pos="15840"/>
                <a:tab algn="l" pos="19080"/>
                <a:tab algn="l" pos="22320"/>
                <a:tab algn="l" pos="25560"/>
                <a:tab algn="l" pos="28440"/>
                <a:tab algn="l" pos="31680"/>
                <a:tab algn="l" pos="34920"/>
                <a:tab algn="l" pos="38160"/>
                <a:tab algn="l" pos="41400"/>
                <a:tab algn="l" pos="44280"/>
                <a:tab algn="l" pos="47520"/>
                <a:tab algn="l" pos="50760"/>
                <a:tab algn="l" pos="54000"/>
                <a:tab algn="l" pos="57240"/>
                <a:tab algn="l" pos="60480"/>
                <a:tab algn="l" pos="63360"/>
              </a:tabLst>
            </a:pP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  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  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http://www.eeppt.com/beijing/</a:t>
            </a:r>
            <a:endParaRPr b="0" lang="en-US" sz="13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63"/>
              </a:spcBef>
              <a:buNone/>
              <a:tabLst>
                <a:tab algn="l" pos="0"/>
                <a:tab algn="l" pos="3240"/>
                <a:tab algn="l" pos="6480"/>
                <a:tab algn="l" pos="9360"/>
                <a:tab algn="l" pos="12600"/>
                <a:tab algn="l" pos="15840"/>
                <a:tab algn="l" pos="19080"/>
                <a:tab algn="l" pos="22320"/>
                <a:tab algn="l" pos="25560"/>
                <a:tab algn="l" pos="28440"/>
                <a:tab algn="l" pos="31680"/>
                <a:tab algn="l" pos="34920"/>
                <a:tab algn="l" pos="38160"/>
                <a:tab algn="l" pos="41400"/>
                <a:tab algn="l" pos="44280"/>
                <a:tab algn="l" pos="47520"/>
                <a:tab algn="l" pos="50760"/>
                <a:tab algn="l" pos="54000"/>
                <a:tab algn="l" pos="57240"/>
                <a:tab algn="l" pos="60480"/>
                <a:tab algn="l" pos="63360"/>
              </a:tabLst>
            </a:pP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  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  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http://www.eeppt.com/moban/tongyong/  </a:t>
            </a:r>
            <a:endParaRPr b="0" lang="en-US" sz="13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63"/>
              </a:spcBef>
              <a:buNone/>
              <a:tabLst>
                <a:tab algn="l" pos="0"/>
                <a:tab algn="l" pos="3240"/>
                <a:tab algn="l" pos="6480"/>
                <a:tab algn="l" pos="9360"/>
                <a:tab algn="l" pos="12600"/>
                <a:tab algn="l" pos="15840"/>
                <a:tab algn="l" pos="19080"/>
                <a:tab algn="l" pos="22320"/>
                <a:tab algn="l" pos="25560"/>
                <a:tab algn="l" pos="28440"/>
                <a:tab algn="l" pos="31680"/>
                <a:tab algn="l" pos="34920"/>
                <a:tab algn="l" pos="38160"/>
                <a:tab algn="l" pos="41400"/>
                <a:tab algn="l" pos="44280"/>
                <a:tab algn="l" pos="47520"/>
                <a:tab algn="l" pos="50760"/>
                <a:tab algn="l" pos="54000"/>
                <a:tab algn="l" pos="57240"/>
                <a:tab algn="l" pos="60480"/>
                <a:tab algn="l" pos="63360"/>
              </a:tabLst>
            </a:pP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  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  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http://www.eeppt.com/moban/chuangyi/   </a:t>
            </a:r>
            <a:endParaRPr b="0" lang="en-US" sz="13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63"/>
              </a:spcBef>
              <a:buNone/>
              <a:tabLst>
                <a:tab algn="l" pos="0"/>
                <a:tab algn="l" pos="3240"/>
                <a:tab algn="l" pos="6480"/>
                <a:tab algn="l" pos="9360"/>
                <a:tab algn="l" pos="12600"/>
                <a:tab algn="l" pos="15840"/>
                <a:tab algn="l" pos="19080"/>
                <a:tab algn="l" pos="22320"/>
                <a:tab algn="l" pos="25560"/>
                <a:tab algn="l" pos="28440"/>
                <a:tab algn="l" pos="31680"/>
                <a:tab algn="l" pos="34920"/>
                <a:tab algn="l" pos="38160"/>
                <a:tab algn="l" pos="41400"/>
                <a:tab algn="l" pos="44280"/>
                <a:tab algn="l" pos="47520"/>
                <a:tab algn="l" pos="50760"/>
                <a:tab algn="l" pos="54000"/>
                <a:tab algn="l" pos="57240"/>
                <a:tab algn="l" pos="60480"/>
                <a:tab algn="l" pos="63360"/>
              </a:tabLst>
            </a:pP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  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  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http://www.eeppt.com/moban/dabian/</a:t>
            </a:r>
            <a:endParaRPr b="0" lang="en-US" sz="13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63"/>
              </a:spcBef>
              <a:buNone/>
              <a:tabLst>
                <a:tab algn="l" pos="0"/>
                <a:tab algn="l" pos="3240"/>
                <a:tab algn="l" pos="6480"/>
                <a:tab algn="l" pos="9360"/>
                <a:tab algn="l" pos="12600"/>
                <a:tab algn="l" pos="15840"/>
                <a:tab algn="l" pos="19080"/>
                <a:tab algn="l" pos="22320"/>
                <a:tab algn="l" pos="25560"/>
                <a:tab algn="l" pos="28440"/>
                <a:tab algn="l" pos="31680"/>
                <a:tab algn="l" pos="34920"/>
                <a:tab algn="l" pos="38160"/>
                <a:tab algn="l" pos="41400"/>
                <a:tab algn="l" pos="44280"/>
                <a:tab algn="l" pos="47520"/>
                <a:tab algn="l" pos="50760"/>
                <a:tab algn="l" pos="54000"/>
                <a:tab algn="l" pos="57240"/>
                <a:tab algn="l" pos="60480"/>
                <a:tab algn="l" pos="63360"/>
              </a:tabLst>
            </a:pP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  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  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http://www.eeppt.com/moban/gongzuo/   </a:t>
            </a:r>
            <a:endParaRPr b="0" lang="en-US" sz="13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63"/>
              </a:spcBef>
              <a:buNone/>
              <a:tabLst>
                <a:tab algn="l" pos="0"/>
                <a:tab algn="l" pos="3240"/>
                <a:tab algn="l" pos="6480"/>
                <a:tab algn="l" pos="9360"/>
                <a:tab algn="l" pos="12600"/>
                <a:tab algn="l" pos="15840"/>
                <a:tab algn="l" pos="19080"/>
                <a:tab algn="l" pos="22320"/>
                <a:tab algn="l" pos="25560"/>
                <a:tab algn="l" pos="28440"/>
                <a:tab algn="l" pos="31680"/>
                <a:tab algn="l" pos="34920"/>
                <a:tab algn="l" pos="38160"/>
                <a:tab algn="l" pos="41400"/>
                <a:tab algn="l" pos="44280"/>
                <a:tab algn="l" pos="47520"/>
                <a:tab algn="l" pos="50760"/>
                <a:tab algn="l" pos="54000"/>
                <a:tab algn="l" pos="57240"/>
                <a:tab algn="l" pos="60480"/>
                <a:tab algn="l" pos="63360"/>
              </a:tabLst>
            </a:pP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  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  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http://www.eeppt.com/moban/jingpin/ </a:t>
            </a:r>
            <a:endParaRPr b="0" lang="en-US" sz="13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63"/>
              </a:spcBef>
              <a:buNone/>
              <a:tabLst>
                <a:tab algn="l" pos="0"/>
                <a:tab algn="l" pos="3240"/>
                <a:tab algn="l" pos="6480"/>
                <a:tab algn="l" pos="9360"/>
                <a:tab algn="l" pos="12600"/>
                <a:tab algn="l" pos="15840"/>
                <a:tab algn="l" pos="19080"/>
                <a:tab algn="l" pos="22320"/>
                <a:tab algn="l" pos="25560"/>
                <a:tab algn="l" pos="28440"/>
                <a:tab algn="l" pos="31680"/>
                <a:tab algn="l" pos="34920"/>
                <a:tab algn="l" pos="38160"/>
                <a:tab algn="l" pos="41400"/>
                <a:tab algn="l" pos="44280"/>
                <a:tab algn="l" pos="47520"/>
                <a:tab algn="l" pos="50760"/>
                <a:tab algn="l" pos="54000"/>
                <a:tab algn="l" pos="57240"/>
                <a:tab algn="l" pos="60480"/>
                <a:tab algn="l" pos="63360"/>
              </a:tabLst>
            </a:pP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  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  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63"/>
              </a:spcBef>
              <a:buNone/>
              <a:tabLst>
                <a:tab algn="l" pos="0"/>
                <a:tab algn="l" pos="3240"/>
                <a:tab algn="l" pos="6480"/>
                <a:tab algn="l" pos="9360"/>
                <a:tab algn="l" pos="12600"/>
                <a:tab algn="l" pos="15840"/>
                <a:tab algn="l" pos="19080"/>
                <a:tab algn="l" pos="22320"/>
                <a:tab algn="l" pos="25560"/>
                <a:tab algn="l" pos="28440"/>
                <a:tab algn="l" pos="31680"/>
                <a:tab algn="l" pos="34920"/>
                <a:tab algn="l" pos="38160"/>
                <a:tab algn="l" pos="41400"/>
                <a:tab algn="l" pos="44280"/>
                <a:tab algn="l" pos="47520"/>
                <a:tab algn="l" pos="50760"/>
                <a:tab algn="l" pos="54000"/>
                <a:tab algn="l" pos="57240"/>
                <a:tab algn="l" pos="60480"/>
                <a:tab algn="l" pos="63360"/>
              </a:tabLst>
            </a:pP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  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  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http://www.eeppt.com/moban/mianfei/</a:t>
            </a:r>
            <a:endParaRPr b="0" lang="en-US" sz="13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63"/>
              </a:spcBef>
              <a:buNone/>
              <a:tabLst>
                <a:tab algn="l" pos="0"/>
                <a:tab algn="l" pos="3240"/>
                <a:tab algn="l" pos="6480"/>
                <a:tab algn="l" pos="9360"/>
                <a:tab algn="l" pos="12600"/>
                <a:tab algn="l" pos="15840"/>
                <a:tab algn="l" pos="19080"/>
                <a:tab algn="l" pos="22320"/>
                <a:tab algn="l" pos="25560"/>
                <a:tab algn="l" pos="28440"/>
                <a:tab algn="l" pos="31680"/>
                <a:tab algn="l" pos="34920"/>
                <a:tab algn="l" pos="38160"/>
                <a:tab algn="l" pos="41400"/>
                <a:tab algn="l" pos="44280"/>
                <a:tab algn="l" pos="47520"/>
                <a:tab algn="l" pos="50760"/>
                <a:tab algn="l" pos="54000"/>
                <a:tab algn="l" pos="57240"/>
                <a:tab algn="l" pos="60480"/>
                <a:tab algn="l" pos="63360"/>
              </a:tabLst>
            </a:pP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  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  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http://www.eeppt.com/moban/huiyi/</a:t>
            </a:r>
            <a:endParaRPr b="0" lang="en-US" sz="13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63"/>
              </a:spcBef>
              <a:buNone/>
              <a:tabLst>
                <a:tab algn="l" pos="0"/>
                <a:tab algn="l" pos="3240"/>
                <a:tab algn="l" pos="6480"/>
                <a:tab algn="l" pos="9360"/>
                <a:tab algn="l" pos="12600"/>
                <a:tab algn="l" pos="15840"/>
                <a:tab algn="l" pos="19080"/>
                <a:tab algn="l" pos="22320"/>
                <a:tab algn="l" pos="25560"/>
                <a:tab algn="l" pos="28440"/>
                <a:tab algn="l" pos="31680"/>
                <a:tab algn="l" pos="34920"/>
                <a:tab algn="l" pos="38160"/>
                <a:tab algn="l" pos="41400"/>
                <a:tab algn="l" pos="44280"/>
                <a:tab algn="l" pos="47520"/>
                <a:tab algn="l" pos="50760"/>
                <a:tab algn="l" pos="54000"/>
                <a:tab algn="l" pos="57240"/>
                <a:tab algn="l" pos="60480"/>
                <a:tab algn="l" pos="63360"/>
              </a:tabLst>
            </a:pP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  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  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http://www.eeppt.com/moban/jiaoyu/</a:t>
            </a:r>
            <a:endParaRPr b="0" lang="en-US" sz="13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63"/>
              </a:spcBef>
              <a:buNone/>
              <a:tabLst>
                <a:tab algn="l" pos="0"/>
                <a:tab algn="l" pos="3240"/>
                <a:tab algn="l" pos="6480"/>
                <a:tab algn="l" pos="9360"/>
                <a:tab algn="l" pos="12600"/>
                <a:tab algn="l" pos="15840"/>
                <a:tab algn="l" pos="19080"/>
                <a:tab algn="l" pos="22320"/>
                <a:tab algn="l" pos="25560"/>
                <a:tab algn="l" pos="28440"/>
                <a:tab algn="l" pos="31680"/>
                <a:tab algn="l" pos="34920"/>
                <a:tab algn="l" pos="38160"/>
                <a:tab algn="l" pos="41400"/>
                <a:tab algn="l" pos="44280"/>
                <a:tab algn="l" pos="47520"/>
                <a:tab algn="l" pos="50760"/>
                <a:tab algn="l" pos="54000"/>
                <a:tab algn="l" pos="57240"/>
                <a:tab algn="l" pos="60480"/>
                <a:tab algn="l" pos="63360"/>
              </a:tabLst>
            </a:pP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  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  </a:t>
            </a:r>
            <a:r>
              <a:rPr b="0" lang="zh-CN" sz="1300" spc="-1" strike="noStrike" u="sng">
                <a:solidFill>
                  <a:srgbClr val="ededed"/>
                </a:solidFill>
                <a:uFillTx/>
                <a:latin typeface="Calibri"/>
                <a:ea typeface="宋体"/>
              </a:rPr>
              <a:t>http://www.eeppt.com/moban/yundong/</a:t>
            </a:r>
            <a:endParaRPr b="0" lang="en-US" sz="13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63"/>
              </a:spcBef>
              <a:buNone/>
              <a:tabLst>
                <a:tab algn="l" pos="0"/>
                <a:tab algn="l" pos="3240"/>
                <a:tab algn="l" pos="6480"/>
                <a:tab algn="l" pos="9360"/>
                <a:tab algn="l" pos="12600"/>
                <a:tab algn="l" pos="15840"/>
                <a:tab algn="l" pos="19080"/>
                <a:tab algn="l" pos="22320"/>
                <a:tab algn="l" pos="25560"/>
                <a:tab algn="l" pos="28440"/>
                <a:tab algn="l" pos="31680"/>
                <a:tab algn="l" pos="34920"/>
                <a:tab algn="l" pos="38160"/>
                <a:tab algn="l" pos="41400"/>
                <a:tab algn="l" pos="44280"/>
                <a:tab algn="l" pos="47520"/>
                <a:tab algn="l" pos="50760"/>
                <a:tab algn="l" pos="54000"/>
                <a:tab algn="l" pos="57240"/>
                <a:tab algn="l" pos="60480"/>
                <a:tab algn="l" pos="63360"/>
              </a:tabLst>
            </a:pPr>
            <a:endParaRPr b="0" lang="en-US" sz="13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63"/>
              </a:spcBef>
              <a:buNone/>
              <a:tabLst>
                <a:tab algn="l" pos="0"/>
                <a:tab algn="l" pos="3240"/>
                <a:tab algn="l" pos="6480"/>
                <a:tab algn="l" pos="9360"/>
                <a:tab algn="l" pos="12600"/>
                <a:tab algn="l" pos="15840"/>
                <a:tab algn="l" pos="19080"/>
                <a:tab algn="l" pos="22320"/>
                <a:tab algn="l" pos="25560"/>
                <a:tab algn="l" pos="28440"/>
                <a:tab algn="l" pos="31680"/>
                <a:tab algn="l" pos="34920"/>
                <a:tab algn="l" pos="38160"/>
                <a:tab algn="l" pos="41400"/>
                <a:tab algn="l" pos="44280"/>
                <a:tab algn="l" pos="47520"/>
                <a:tab algn="l" pos="50760"/>
                <a:tab algn="l" pos="54000"/>
                <a:tab algn="l" pos="57240"/>
                <a:tab algn="l" pos="60480"/>
                <a:tab algn="l" pos="63360"/>
              </a:tabLst>
            </a:pPr>
            <a:endParaRPr b="0" lang="en-US" sz="13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63"/>
              </a:spcBef>
              <a:buNone/>
              <a:tabLst>
                <a:tab algn="l" pos="0"/>
                <a:tab algn="l" pos="3240"/>
                <a:tab algn="l" pos="6480"/>
                <a:tab algn="l" pos="9360"/>
                <a:tab algn="l" pos="12600"/>
                <a:tab algn="l" pos="15840"/>
                <a:tab algn="l" pos="19080"/>
                <a:tab algn="l" pos="22320"/>
                <a:tab algn="l" pos="25560"/>
                <a:tab algn="l" pos="28440"/>
                <a:tab algn="l" pos="31680"/>
                <a:tab algn="l" pos="34920"/>
                <a:tab algn="l" pos="38160"/>
                <a:tab algn="l" pos="41400"/>
                <a:tab algn="l" pos="44280"/>
                <a:tab algn="l" pos="47520"/>
                <a:tab algn="l" pos="50760"/>
                <a:tab algn="l" pos="54000"/>
                <a:tab algn="l" pos="57240"/>
                <a:tab algn="l" pos="60480"/>
                <a:tab algn="l" pos="63360"/>
              </a:tabLst>
            </a:pPr>
            <a:endParaRPr b="0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63"/>
              </a:spcBef>
              <a:buNone/>
              <a:tabLst>
                <a:tab algn="l" pos="0"/>
                <a:tab algn="l" pos="3240"/>
                <a:tab algn="l" pos="6480"/>
                <a:tab algn="l" pos="9360"/>
                <a:tab algn="l" pos="12600"/>
                <a:tab algn="l" pos="15840"/>
                <a:tab algn="l" pos="19080"/>
                <a:tab algn="l" pos="22320"/>
                <a:tab algn="l" pos="25560"/>
                <a:tab algn="l" pos="28440"/>
                <a:tab algn="l" pos="31680"/>
                <a:tab algn="l" pos="34920"/>
                <a:tab algn="l" pos="38160"/>
                <a:tab algn="l" pos="41400"/>
                <a:tab algn="l" pos="44280"/>
                <a:tab algn="l" pos="47520"/>
                <a:tab algn="l" pos="50760"/>
                <a:tab algn="l" pos="54000"/>
                <a:tab algn="l" pos="57240"/>
                <a:tab algn="l" pos="60480"/>
                <a:tab algn="l" pos="63360"/>
              </a:tabLst>
            </a:pP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63"/>
              </a:spcBef>
              <a:buNone/>
              <a:tabLst>
                <a:tab algn="l" pos="0"/>
                <a:tab algn="l" pos="3240"/>
                <a:tab algn="l" pos="6480"/>
                <a:tab algn="l" pos="9360"/>
                <a:tab algn="l" pos="12600"/>
                <a:tab algn="l" pos="15840"/>
                <a:tab algn="l" pos="19080"/>
                <a:tab algn="l" pos="22320"/>
                <a:tab algn="l" pos="25560"/>
                <a:tab algn="l" pos="28440"/>
                <a:tab algn="l" pos="31680"/>
                <a:tab algn="l" pos="34920"/>
                <a:tab algn="l" pos="38160"/>
                <a:tab algn="l" pos="41400"/>
                <a:tab algn="l" pos="44280"/>
                <a:tab algn="l" pos="47520"/>
                <a:tab algn="l" pos="50760"/>
                <a:tab algn="l" pos="54000"/>
                <a:tab algn="l" pos="57240"/>
                <a:tab algn="l" pos="60480"/>
                <a:tab algn="l" pos="63360"/>
              </a:tabLst>
            </a:pP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63"/>
              </a:spcBef>
              <a:buNone/>
              <a:tabLst>
                <a:tab algn="l" pos="0"/>
                <a:tab algn="l" pos="3240"/>
                <a:tab algn="l" pos="6480"/>
                <a:tab algn="l" pos="9360"/>
                <a:tab algn="l" pos="12600"/>
                <a:tab algn="l" pos="15840"/>
                <a:tab algn="l" pos="19080"/>
                <a:tab algn="l" pos="22320"/>
                <a:tab algn="l" pos="25560"/>
                <a:tab algn="l" pos="28440"/>
                <a:tab algn="l" pos="31680"/>
                <a:tab algn="l" pos="34920"/>
                <a:tab algn="l" pos="38160"/>
                <a:tab algn="l" pos="41400"/>
                <a:tab algn="l" pos="44280"/>
                <a:tab algn="l" pos="47520"/>
                <a:tab algn="l" pos="50760"/>
                <a:tab algn="l" pos="54000"/>
                <a:tab algn="l" pos="57240"/>
                <a:tab algn="l" pos="60480"/>
                <a:tab algn="l" pos="63360"/>
              </a:tabLst>
            </a:pP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63"/>
              </a:spcBef>
              <a:buNone/>
              <a:tabLst>
                <a:tab algn="l" pos="0"/>
                <a:tab algn="l" pos="3240"/>
                <a:tab algn="l" pos="6480"/>
                <a:tab algn="l" pos="9360"/>
                <a:tab algn="l" pos="12600"/>
                <a:tab algn="l" pos="15840"/>
                <a:tab algn="l" pos="19080"/>
                <a:tab algn="l" pos="22320"/>
                <a:tab algn="l" pos="25560"/>
                <a:tab algn="l" pos="28440"/>
                <a:tab algn="l" pos="31680"/>
                <a:tab algn="l" pos="34920"/>
                <a:tab algn="l" pos="38160"/>
                <a:tab algn="l" pos="41400"/>
                <a:tab algn="l" pos="44280"/>
                <a:tab algn="l" pos="47520"/>
                <a:tab algn="l" pos="50760"/>
                <a:tab algn="l" pos="54000"/>
                <a:tab algn="l" pos="57240"/>
                <a:tab algn="l" pos="60480"/>
                <a:tab algn="l" pos="63360"/>
              </a:tabLst>
            </a:pP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63"/>
              </a:spcBef>
              <a:buNone/>
              <a:tabLst>
                <a:tab algn="l" pos="0"/>
                <a:tab algn="l" pos="3240"/>
                <a:tab algn="l" pos="6480"/>
                <a:tab algn="l" pos="9360"/>
                <a:tab algn="l" pos="12600"/>
                <a:tab algn="l" pos="15840"/>
                <a:tab algn="l" pos="19080"/>
                <a:tab algn="l" pos="22320"/>
                <a:tab algn="l" pos="25560"/>
                <a:tab algn="l" pos="28440"/>
                <a:tab algn="l" pos="31680"/>
                <a:tab algn="l" pos="34920"/>
                <a:tab algn="l" pos="38160"/>
                <a:tab algn="l" pos="41400"/>
                <a:tab algn="l" pos="44280"/>
                <a:tab algn="l" pos="47520"/>
                <a:tab algn="l" pos="50760"/>
                <a:tab algn="l" pos="54000"/>
                <a:tab algn="l" pos="57240"/>
                <a:tab algn="l" pos="60480"/>
                <a:tab algn="l" pos="63360"/>
              </a:tabLst>
            </a:pPr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6886440" y="314280"/>
            <a:ext cx="1312920" cy="330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04:33Z</dcterms:created>
  <dc:creator/>
  <dc:description/>
  <dc:language>en-US</dc:language>
  <cp:lastModifiedBy/>
  <dcterms:modified xsi:type="dcterms:W3CDTF">2015-07-04T06:25:4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