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845978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E95-ADF7-4728-A4EB-4514AEBC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289-02D3-4771-BE3A-38A8D73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5A9-32C5-4B00-9BD5-7A7E0F62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519-4764-4EBB-AF12-BD5A9B2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7A06-D4AC-44AD-9DC0-8434126C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35F-15D9-4294-BC99-DFF5D9F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A8E-5D45-4F2C-8974-66F618E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279C-8A5E-4B11-81DF-F8212F2B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6A80-8C5F-497F-B4C7-665AD1F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B87-C1AD-46B1-8285-A64A7B8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7FD-106B-44A5-85A6-A95B28E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339-A98E-4B7A-B704-57FEDD2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0BB1-7DF9-43C7-A272-B37F391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6E45-88A6-4EFA-AE1F-79EEE3C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7C7-D6FE-4589-8AD7-997501F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5DD-84B8-481A-A822-9F73123F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A56-C851-479D-A06F-A9609171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8EF0-6CB8-4880-9F0A-98C1149E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1419-F986-4CE8-9A2F-147F5EC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5ECA-4646-438C-BC8B-B6211DF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CA77-06BA-4399-8D1F-4DC76FF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2E08-3C59-431A-8E73-19D6B7F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C5E-25D6-4547-8A36-8F6A394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3208-E15B-4CF0-8B2B-E8BB117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B45A-2913-4BDE-9259-9C7688B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15AA-A105-4428-8F77-B023669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4E93-1D14-4355-835A-68BD3808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46C6-1DFB-41D8-86FF-B41CC675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4B8F-6141-42F7-B20E-A5568BB8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2364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4960" y="109044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2232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92364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4960" y="2704320"/>
            <a:ext cx="200088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2221-2476-4556-ADB5-EBFF06F9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754-DF8D-4A90-9E70-0542869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49C-FE2F-47E0-BEC9-AF732C2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2320" y="187200"/>
            <a:ext cx="6213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EB3-7B26-4E18-BE54-375E72DE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D5D-8FD8-414C-BA23-54776C8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6880" y="270432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BA9-FAE1-49E8-81DB-15A7699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6880" y="1090440"/>
            <a:ext cx="30326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2320" y="2704320"/>
            <a:ext cx="6215040" cy="147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E16-418B-49C6-95C3-337818E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992160"/>
            <a:ext cx="8491320" cy="369252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football_3-wallpaper-1920x1080" descr=""/>
          <p:cNvPicPr/>
          <p:nvPr/>
        </p:nvPicPr>
        <p:blipFill>
          <a:blip r:embed="rId2"/>
          <a:srcRect l="0" t="0" r="0" b="78383"/>
          <a:stretch/>
        </p:blipFill>
        <p:spPr>
          <a:xfrm>
            <a:off x="-12600" y="-30240"/>
            <a:ext cx="8450280" cy="10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360" y="187200"/>
            <a:ext cx="7612200" cy="77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3360" y="1093680"/>
            <a:ext cx="761220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580000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580000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58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00E-A7AC-4018-B6E7-3C812B66B27D}" type="slidenum">
              <a:rPr b="0" lang="en-US" sz="7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otball_3-wallpaper-1920x1080" descr=""/>
          <p:cNvPicPr/>
          <p:nvPr/>
        </p:nvPicPr>
        <p:blipFill>
          <a:blip r:embed="rId2"/>
          <a:stretch/>
        </p:blipFill>
        <p:spPr>
          <a:xfrm>
            <a:off x="0" y="-33480"/>
            <a:ext cx="8459640" cy="475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6480" y="2166480"/>
            <a:ext cx="7188480" cy="763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860-399F-4AC2-ACDC-A1643FB1A6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23000" y="1095120"/>
            <a:ext cx="7613640" cy="27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580000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580000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580000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otball_3-wallpaper-1920x1080" descr=""/>
          <p:cNvPicPr/>
          <p:nvPr/>
        </p:nvPicPr>
        <p:blipFill>
          <a:blip r:embed="rId2"/>
          <a:srcRect l="22596" t="0" r="57604" b="0"/>
          <a:stretch/>
        </p:blipFill>
        <p:spPr>
          <a:xfrm>
            <a:off x="-12600" y="-34920"/>
            <a:ext cx="1668240" cy="475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55640" y="-33480"/>
            <a:ext cx="6823080" cy="467208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58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58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58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58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58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58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58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2336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889360" y="4260960"/>
            <a:ext cx="268128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063840" y="4260960"/>
            <a:ext cx="1971720" cy="32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791C-B4C6-4B02-8175-D9AFF5958542}" type="slidenum">
              <a:rPr b="0" lang="en-US" sz="800" spc="-1" strike="noStrike">
                <a:solidFill>
                  <a:srgbClr val="580000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09640" y="1044360"/>
            <a:ext cx="5297760" cy="763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足球火焰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4920" y="4140360"/>
            <a:ext cx="2451240" cy="475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来自</a:t>
            </a:r>
            <a:r>
              <a:rPr b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PMingLiU"/>
                <a:hlinkClick r:id="rId1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3360" y="187200"/>
            <a:ext cx="7612200" cy="77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火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3720" y="1093680"/>
            <a:ext cx="373536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00560" y="1093680"/>
            <a:ext cx="3735360" cy="2903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580000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580000"/>
                </a:solidFill>
                <a:latin typeface="Arial"/>
              </a:rPr>
              <a:t>火焰</a:t>
            </a:r>
            <a:endParaRPr b="0" lang="en-US" sz="2300" spc="-1" strike="noStrike">
              <a:solidFill>
                <a:srgbClr val="58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06720" y="1384200"/>
            <a:ext cx="4751280" cy="668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280" y="1384200"/>
            <a:ext cx="2160360" cy="66852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2319480"/>
            <a:ext cx="2160360" cy="66816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280" y="3255840"/>
            <a:ext cx="2160360" cy="668520"/>
          </a:xfrm>
          <a:prstGeom prst="roundRect">
            <a:avLst>
              <a:gd name="adj" fmla="val 16667"/>
            </a:avLst>
          </a:prstGeom>
          <a:solidFill>
            <a:srgbClr val="9933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93300"/>
                </a:solidFill>
                <a:latin typeface="Arial"/>
                <a:ea typeface="微软雅黑"/>
              </a:rPr>
              <a:t>火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6720" y="2319480"/>
            <a:ext cx="4751280" cy="66816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06720" y="3255840"/>
            <a:ext cx="4751280" cy="668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236600" y="1249200"/>
            <a:ext cx="5962680" cy="2891160"/>
            <a:chOff x="1236600" y="1249200"/>
            <a:chExt cx="5962680" cy="2891160"/>
          </a:xfrm>
        </p:grpSpPr>
        <p:sp>
          <p:nvSpPr>
            <p:cNvPr id="140" name=""/>
            <p:cNvSpPr/>
            <p:nvPr/>
          </p:nvSpPr>
          <p:spPr>
            <a:xfrm>
              <a:off x="1236600" y="1249200"/>
              <a:ext cx="5962680" cy="86652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36600" y="1465560"/>
              <a:ext cx="57456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6600" y="1917360"/>
              <a:ext cx="183636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36600" y="1917360"/>
              <a:ext cx="1836360" cy="166968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72960" y="1537920"/>
              <a:ext cx="4126320" cy="866520"/>
            </a:xfrm>
            <a:prstGeom prst="rightArrow">
              <a:avLst>
                <a:gd name="adj1" fmla="val 50000"/>
                <a:gd name="adj2" fmla="val 50089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2960" y="1754640"/>
              <a:ext cx="39092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2960" y="2206440"/>
              <a:ext cx="183636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2960" y="2206440"/>
              <a:ext cx="1836360" cy="166968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9680" y="1827000"/>
              <a:ext cx="2289600" cy="866520"/>
            </a:xfrm>
            <a:prstGeom prst="rightArrow">
              <a:avLst>
                <a:gd name="adj1" fmla="val 50000"/>
                <a:gd name="adj2" fmla="val 50106"/>
              </a:avLst>
            </a:prstGeom>
            <a:solidFill>
              <a:srgbClr val="9933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09680" y="2043720"/>
              <a:ext cx="20725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9680" y="2495160"/>
              <a:ext cx="1836360" cy="16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9680" y="2495160"/>
              <a:ext cx="1836360" cy="1645200"/>
            </a:xfrm>
            <a:prstGeom prst="rect">
              <a:avLst/>
            </a:prstGeom>
            <a:noFill/>
            <a:ln cap="rnd" w="3240">
              <a:solidFill>
                <a:srgbClr val="99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3300"/>
                  </a:solidFill>
                  <a:latin typeface="宋体"/>
                  <a:ea typeface="微软雅黑"/>
                </a:rPr>
                <a:t>火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2320" y="187200"/>
            <a:ext cx="6213600" cy="77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1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2320" y="1090440"/>
            <a:ext cx="6215040" cy="3089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99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993300"/>
                </a:solidFill>
                <a:latin typeface="Arial"/>
              </a:rPr>
              <a:t>火焰</a:t>
            </a:r>
            <a:endParaRPr b="0" lang="en-US" sz="19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2640" y="4179960"/>
            <a:ext cx="348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更多免费</a:t>
            </a:r>
            <a:r>
              <a:rPr b="1" lang="en-US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模板尽在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3440" y="128160"/>
            <a:ext cx="7593120" cy="39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100" spc="-1" strike="noStrike">
                <a:solidFill>
                  <a:srgbClr val="580000"/>
                </a:solidFill>
                <a:latin typeface="Arial"/>
              </a:rPr>
              <a:t>使用规范说明</a:t>
            </a:r>
            <a:endParaRPr b="0" lang="en-US" sz="31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080" y="866520"/>
            <a:ext cx="8259840" cy="3562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75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5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3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58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742080" y="227160"/>
            <a:ext cx="1284480" cy="239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DDC1-868E-40E6-AFD1-71ED22797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5:03:54Z</dcterms:created>
  <dc:creator>Administrator</dc:creator>
  <dc:description/>
  <dc:language>en-US</dc:language>
  <cp:lastModifiedBy/>
  <dcterms:modified xsi:type="dcterms:W3CDTF">2015-07-04T05:54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