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56853-8446-4918-9065-670A7708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6720" y="1052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6720" y="3416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8E92B-74F2-4440-8F65-CA872DF1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672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1376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672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1376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C3A1E-1E0A-4D56-80AB-4B6F417A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6720" y="1052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9160" y="1052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61600" y="1052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6720" y="3416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9160" y="3416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61600" y="3416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1DB8F-DDD9-4D2A-952F-1514E764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0C14-F931-4DAC-83A6-394750EB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967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53ED-61F9-4941-B67C-65FDE482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67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50B6-01EA-4316-97EB-D310B2A6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672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76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E1F7-B245-4410-BBD9-09B4896C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C417-5515-4769-9060-CF398304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68360" y="19044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603E-F9C8-4323-A424-E2A11198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672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376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672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B17B-1827-42E4-A248-A143BC91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67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567E6-BC94-4D06-8293-E2AC9052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672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376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1376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6A4F-4973-4B4F-8E1A-1A6F7C2D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672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1376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96720" y="3416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9195-0672-4EC7-8897-FA528499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6720" y="1052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6720" y="3416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EE1B-6F6B-4268-8912-0F913E38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672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1376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9672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1376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693A-8F91-4747-A524-88BEF54B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6720" y="1052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79160" y="1052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61600" y="1052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96720" y="3416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79160" y="3416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61600" y="3416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914F-6F22-426F-B69F-959FD2AF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67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4F4BB-1E26-47BC-BC5E-114DAE1F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672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376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AFED9-FC45-433B-A34D-423E3081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277E2-9403-4B74-9107-07636C24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360" y="19044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F0BFF-17C2-4A1D-BD0D-270A7D78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672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76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72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3FD87-2DFA-4B78-8C4E-724F4131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672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76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1376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1CC79-196A-43C1-B734-F5F4785D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672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376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720" y="3416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266DC-2A61-47A3-BCD0-D9CCF4F0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" descr="1.png"/>
          <p:cNvPicPr/>
          <p:nvPr/>
        </p:nvPicPr>
        <p:blipFill>
          <a:blip r:embed="rId2"/>
          <a:srcRect l="26526" t="0" r="0" b="265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I:\e\8.16\中秋\9.png"/>
          <p:cNvPicPr/>
          <p:nvPr/>
        </p:nvPicPr>
        <p:blipFill>
          <a:blip r:embed="rId3"/>
          <a:srcRect l="59938" t="21747" r="30258" b="64798"/>
          <a:stretch/>
        </p:blipFill>
        <p:spPr>
          <a:xfrm>
            <a:off x="2610000" y="1465200"/>
            <a:ext cx="955440" cy="9860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I:\e\8.16\中秋\14.png"/>
          <p:cNvPicPr/>
          <p:nvPr/>
        </p:nvPicPr>
        <p:blipFill>
          <a:blip r:embed="rId4"/>
          <a:srcRect l="58587" t="32345" r="30743" b="49965"/>
          <a:stretch/>
        </p:blipFill>
        <p:spPr>
          <a:xfrm>
            <a:off x="2693880" y="2211480"/>
            <a:ext cx="1041480" cy="1293840"/>
          </a:xfrm>
          <a:prstGeom prst="rect">
            <a:avLst/>
          </a:prstGeom>
          <a:ln w="0">
            <a:noFill/>
          </a:ln>
        </p:spPr>
      </p:pic>
      <p:pic>
        <p:nvPicPr>
          <p:cNvPr id="3" name="图片 6" descr="3.png"/>
          <p:cNvPicPr/>
          <p:nvPr/>
        </p:nvPicPr>
        <p:blipFill>
          <a:blip r:embed="rId5"/>
          <a:srcRect l="0" t="58334" r="0" b="8332"/>
          <a:stretch/>
        </p:blipFill>
        <p:spPr>
          <a:xfrm>
            <a:off x="0" y="414972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4" name="图片 5" descr="2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图片 9" descr="3.pn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图片 7" descr="3.png"/>
          <p:cNvPicPr/>
          <p:nvPr/>
        </p:nvPicPr>
        <p:blipFill>
          <a:blip r:embed="rId8"/>
          <a:srcRect l="0" t="58334" r="0" b="8332"/>
          <a:stretch/>
        </p:blipFill>
        <p:spPr>
          <a:xfrm>
            <a:off x="0" y="4869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7" name="圆角矩形 16"/>
          <p:cNvSpPr/>
          <p:nvPr/>
        </p:nvSpPr>
        <p:spPr>
          <a:xfrm>
            <a:off x="357120" y="803160"/>
            <a:ext cx="8329680" cy="5689800"/>
          </a:xfrm>
          <a:prstGeom prst="roundRect">
            <a:avLst>
              <a:gd name="adj" fmla="val 3037"/>
            </a:avLst>
          </a:prstGeom>
          <a:solidFill>
            <a:srgbClr val="ffffff">
              <a:alpha val="86000"/>
            </a:srgbClr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967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B913-7E79-4A4F-9041-869A1CEEF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67CE-0F61-4E86-9CB2-39EC778C96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图片 2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" descr="3.png"/>
          <p:cNvPicPr/>
          <p:nvPr/>
        </p:nvPicPr>
        <p:blipFill>
          <a:blip r:embed="rId3"/>
          <a:srcRect l="0" t="58334" r="0" b="8332"/>
          <a:stretch/>
        </p:blipFill>
        <p:spPr>
          <a:xfrm>
            <a:off x="0" y="414972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6" descr="3.png"/>
          <p:cNvPicPr/>
          <p:nvPr/>
        </p:nvPicPr>
        <p:blipFill>
          <a:blip r:embed="rId4"/>
          <a:srcRect l="0" t="58334" r="0" b="8332"/>
          <a:stretch/>
        </p:blipFill>
        <p:spPr>
          <a:xfrm>
            <a:off x="0" y="486900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I:\e\8.16\中秋\5.png"/>
          <p:cNvPicPr/>
          <p:nvPr/>
        </p:nvPicPr>
        <p:blipFill>
          <a:blip r:embed="rId5"/>
          <a:srcRect l="0" t="0" r="0" b="20237"/>
          <a:stretch/>
        </p:blipFill>
        <p:spPr>
          <a:xfrm>
            <a:off x="-123840" y="-119160"/>
            <a:ext cx="9304200" cy="55641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" descr="3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I:\e\8.16\中秋\9.png"/>
          <p:cNvPicPr/>
          <p:nvPr/>
        </p:nvPicPr>
        <p:blipFill>
          <a:blip r:embed="rId7"/>
          <a:srcRect l="59938" t="21747" r="30258" b="64798"/>
          <a:stretch/>
        </p:blipFill>
        <p:spPr>
          <a:xfrm>
            <a:off x="2610000" y="1465200"/>
            <a:ext cx="955440" cy="98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I:\e\8.16\中秋\14.png"/>
          <p:cNvPicPr/>
          <p:nvPr/>
        </p:nvPicPr>
        <p:blipFill>
          <a:blip r:embed="rId8"/>
          <a:srcRect l="58587" t="32345" r="30743" b="49965"/>
          <a:stretch/>
        </p:blipFill>
        <p:spPr>
          <a:xfrm>
            <a:off x="2693880" y="2211480"/>
            <a:ext cx="1041480" cy="1293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4943520"/>
            <a:ext cx="58327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http://www.eeppt.com</a:t>
            </a:r>
            <a:endParaRPr b="1" lang="en-US" sz="18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98" name="TextBox 20" descr=""/>
          <p:cNvPicPr/>
          <p:nvPr/>
        </p:nvPicPr>
        <p:blipFill>
          <a:blip r:embed="rId1"/>
          <a:stretch/>
        </p:blipFill>
        <p:spPr>
          <a:xfrm>
            <a:off x="1494000" y="3475080"/>
            <a:ext cx="702144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9FFD9-4F49-46EA-A12B-865879A94D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3:56:46Z</dcterms:created>
  <dc:creator/>
  <dc:description/>
  <dc:language>en-US</dc:language>
  <cp:lastModifiedBy>Administrator</cp:lastModifiedBy>
  <dcterms:modified xsi:type="dcterms:W3CDTF">2015-07-04T06:08:43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