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874-E0A7-48A4-956B-0D3E7F86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B96-4012-44A3-9AAE-66A5C6F4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31D2-0921-4F54-8265-B3B2AD36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04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1EB-6170-43B0-A58C-64664746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9C1B-90FF-47D3-860D-67FE70A5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B1B-1783-444C-B95C-74D4BD5C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65E1-2399-428B-9031-D31DDDE8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047-1084-4678-8950-B0F5D5BE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4E42-BC66-46F3-9E33-C822D780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44B-EBA6-4CB3-8E98-B0A39C4A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D71B-61DB-4F60-A58B-1DF80262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1E6-6AB9-419D-A01F-5CBC4178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设计素材\图片\CG\1284204123102.jpg"/>
          <p:cNvPicPr/>
          <p:nvPr/>
        </p:nvPicPr>
        <p:blipFill>
          <a:blip r:embed="rId2"/>
          <a:srcRect l="0" t="0" r="16726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D6A3-2BE3-408E-8A8E-06672D698640}" type="datetime">
              <a:rPr b="0" lang="zh-CN" sz="1200" spc="-1" strike="noStrike">
                <a:solidFill>
                  <a:srgbClr val="ffffff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小田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A2EA-4F0F-48C4-B6C7-06FEF32F7237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fengjin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768320"/>
            <a:ext cx="8353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怡人风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3840" y="2991960"/>
            <a:ext cx="83563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6381720"/>
            <a:ext cx="683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自然风景ppt模板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www.eeppt.com/moban/fengjing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感谢您的关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612-FB88-4F21-AE69-CBD4025CD8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/>
  <dc:description/>
  <dc:language>en-US</dc:language>
  <cp:lastModifiedBy>ilovePPT.ORG</cp:lastModifiedBy>
  <dcterms:modified xsi:type="dcterms:W3CDTF">2015-07-04T06:55:11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