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65B-7F90-4EED-8A85-AD92ECAC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B17-024C-4610-84FE-CD70855E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2C6-87F8-4A59-AB46-8C53222C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E53-A09F-4AFE-B498-16C4F6DE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6F36-F19A-4AA3-8533-0B76040F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87B4-463C-4FE8-8D48-C20711AC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7097-4D79-49BD-B49D-2F6ADDB7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2180-E6E5-47A2-94DA-5CF422E2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E288-585B-41A1-84E7-68DF7E96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8C5E-E48F-42E3-A8AC-36094C84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93CE-3FE5-4EBE-9844-07E0B4F2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A3C-CE24-4EDB-B528-5F55C5A3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B339-EA0A-4077-BE41-D1A49195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1FEF-41E2-4400-93BB-21239B6D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13DC-3A46-49EE-B39E-056D41D2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1B6A-F03B-4EE8-AC60-8326433B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6DEC-4C35-4C99-AC27-071731D0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AB0-FAE4-465C-9173-8CCE66D3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A9B-953F-4F4A-AED1-5EF93483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D68-148B-483C-9307-F943E7D3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24D-3C71-4FD5-BB51-5BEC4007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7D1-0DE4-4DBE-89D4-FBBB9197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A14-FBE5-481C-BAA5-40499420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4E4-C32C-4867-B1F3-76B43F1E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8916-C5CD-4A9F-B873-FE13D8CC82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9C03-E393-4656-9030-D96D2CCEA9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15" descr=""/>
          <p:cNvPicPr/>
          <p:nvPr/>
        </p:nvPicPr>
        <p:blipFill>
          <a:blip r:embed="rId2"/>
          <a:stretch/>
        </p:blipFill>
        <p:spPr>
          <a:xfrm>
            <a:off x="6084720" y="6310440"/>
            <a:ext cx="2395800" cy="220680"/>
          </a:xfrm>
          <a:prstGeom prst="rect">
            <a:avLst/>
          </a:prstGeom>
          <a:ln w="0">
            <a:noFill/>
          </a:ln>
        </p:spPr>
      </p:pic>
      <p:sp>
        <p:nvSpPr>
          <p:cNvPr id="83" name="WordArt 16"/>
          <p:cNvSpPr txBox="1"/>
          <p:nvPr/>
        </p:nvSpPr>
        <p:spPr>
          <a:xfrm>
            <a:off x="1012680" y="4005360"/>
            <a:ext cx="2368800" cy="250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454545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>
                      <a:alpha val="75000"/>
                    </a:srgbClr>
                  </a:outerShdw>
                </a:effectLst>
                <a:latin typeface="黑体"/>
              </a:rPr>
              <a:t> 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454545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ffffff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"/>
          <p:cNvSpPr/>
          <p:nvPr/>
        </p:nvSpPr>
        <p:spPr>
          <a:xfrm>
            <a:off x="1482840" y="4054320"/>
            <a:ext cx="46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幻灯片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4870440"/>
            <a:ext cx="43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1847880" y="428796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2325600" y="50022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806D-B2F0-4D5D-8D37-ED0FAFB5FE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0:58:59Z</dcterms:created>
  <dc:creator>北京锐得幻演广告有限公司</dc:creator>
  <dc:description/>
  <dc:language>en-US</dc:language>
  <cp:lastModifiedBy>king</cp:lastModifiedBy>
  <dcterms:modified xsi:type="dcterms:W3CDTF">2015-07-04T05:57:13Z</dcterms:modified>
  <cp:revision>346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