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034-89A9-44CE-9953-D35643C9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F08-35D6-4BF4-A025-0D0F6450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F14-009B-4602-99EE-43599B05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CE9-671D-4C80-88DA-FF08D733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5985-D3DB-4D72-B51C-3DFB58BC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965A-DAEA-4203-8812-D1766E2F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71BD-3790-46FC-BDCD-D138753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2636-0DC6-450A-9C1E-A5D7D9C8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1D21-5A31-4833-9A6F-C795D114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C136-814B-4A17-8AA6-56A18A6C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F4E3-EBB4-453F-912B-F8720211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EDC-0C95-4503-B00C-2BD37425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8BDF-DF2F-4BE9-9788-601CB49D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BB55-2BBF-4804-AF05-DB0ECD3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8810-069F-4676-A9B5-8638412F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801E-714B-43CF-8967-AA35E85F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4ED6-F51C-40F5-9CDC-CEDA43DE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316-18E2-4510-955B-176D206F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B63-A653-4111-8BFB-4A192934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1AC-38EB-4531-8EF9-0482AFC1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CF4-4FE1-4F1B-8E90-C78470A7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A80-8A49-451D-AD53-9FCA6AAA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C00-98DA-474A-A4FB-7867CC5A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6ED-ABDB-432B-A40A-DB74A50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13000"/>
            <a:ext cx="9144000" cy="4824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0C16-4DEB-4248-BF00-499A99261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D2C6-9789-42A0-8D01-2455F7ABD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紫色水晶爱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lIns="90000" rIns="90000" tIns="46800" bIns="46800" anchor="b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411280" y="1341360"/>
            <a:ext cx="46087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1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幼圆"/>
              </a:rPr>
              <a:t>谢谢观看</a:t>
            </a:r>
            <a:endParaRPr b="1" lang="en-US" sz="96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049 0.083186 C 0.010613 0.04689 0.041521 -0.005543 0.078317 -0.005543 C 0.132774 -0.005543 0.176928 0.048902 0.176928 0.117471 C 0.176928 0.139642 0.172512 0.159816 0.163682 0.177964 C 0.165154 0.177964 -0.007049 0.450186 -0.007049 0.452199 C -0.007049 0.450186 -0.179251 0.177964 -0.177779 0.177964 C -0.18661 0.159816 -0.191026 0.139642 -0.191026 0.117471 C -0.191026 0.048902 -0.146871 -0.005543 -0.090942 -0.005543 C -0.055619 -0.005543 -0.024711 0.04689 -0.007049 0.083186 Z">
                                      <p:cBhvr>
                                        <p:cTn id="6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387-DEC2-42FD-B8E4-8E8CB435E5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10:51:52Z</dcterms:created>
  <dc:creator/>
  <dc:description/>
  <dc:language>en-US</dc:language>
  <cp:lastModifiedBy/>
  <dcterms:modified xsi:type="dcterms:W3CDTF">2015-07-04T06:02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