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348-531A-47C2-A074-0BE32714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051-B768-4D0A-9381-5369D69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D52-8CDB-48F8-812E-CBEBD123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D3F-F420-4EE4-B911-AFFBDD51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21D-960F-4A6B-B214-4651960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C3E-1643-4CB7-892E-0A1B6866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071-A173-41A2-86D6-511C1BC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DF2-2D97-4585-A01D-A93CF4D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9E0-0EDE-454F-B9E2-6EA6EB3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0AE-ACD2-4300-A6DF-9B899DE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372-4FFE-4561-9382-A35E65C3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CB9-BDDC-4CFB-BE99-E91E804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933-A6C8-4F97-9A53-C6C3FB02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eeppt.com/moban/jiaoyu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907920"/>
            <a:ext cx="864072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i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心存感恩，学会做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主题班会活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700360" y="558972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705-6BC2-4A2B-8B97-91E5BC337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125360"/>
            <a:ext cx="56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916360" y="3716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同学们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再见</a:t>
            </a:r>
            <a:r>
              <a:rPr b="0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学会感恩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"/>
          <p:cNvPicPr/>
          <p:nvPr/>
        </p:nvPicPr>
        <p:blipFill>
          <a:blip r:embed="rId2"/>
          <a:stretch/>
        </p:blipFill>
        <p:spPr>
          <a:xfrm>
            <a:off x="6442200" y="4149720"/>
            <a:ext cx="2701800" cy="2708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635280" y="1844640"/>
            <a:ext cx="32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父爱如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母爱如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谢父母孕育我们生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谢父母养育我们成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们每个人对亲爱的爸爸妈妈一起说一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谢你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们辛苦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836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献给父母的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听妈妈的话.mp3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8136000" y="1341360"/>
            <a:ext cx="611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042400" y="1844640"/>
            <a:ext cx="610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8336520" y="981000"/>
            <a:ext cx="48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无法修饰的一双手，在我背后默默传送着温暖的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185600" y="981000"/>
            <a:ext cx="485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句句啰嗦是蜜语甜言吧，听的多会腻，但听的少会觉得苦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887080" y="1052640"/>
            <a:ext cx="485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句句啰嗦是人生真理吧，让我坚毅的望着前方，在跌倒时不会放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520160" y="1125360"/>
            <a:ext cx="4852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这种爱是伟大？是无限？不，那是无法用言语形容的一切一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008880" y="1125360"/>
            <a:ext cx="4852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如这鲜艳的康乃馨，在我心中永不凋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879920" y="1125360"/>
            <a:ext cx="4852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妈妈，把这独爱轻轻放在耳边，你一定能听得到：真的爱你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205040" y="765000"/>
            <a:ext cx="1399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学会感恩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910120" y="1125360"/>
            <a:ext cx="10335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赠人玫瑰，手有余香”。每个人都应该常怀感恩之心，在学习，生活中无论怎样都要找到感恩的理由，找到可以感恩的人。只有学会感恩他人，你才可能成为被感恩的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感恩他人，你才会感动自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_imgload"/>
          <p:cNvPicPr/>
          <p:nvPr/>
        </p:nvPicPr>
        <p:blipFill>
          <a:blip r:embed="rId2"/>
          <a:stretch/>
        </p:blipFill>
        <p:spPr>
          <a:xfrm>
            <a:off x="4859280" y="1197000"/>
            <a:ext cx="3600360" cy="3567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55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感恩他人，感恩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68360" y="5229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知道他是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2321324132933907666"/>
          <p:cNvPicPr/>
          <p:nvPr/>
        </p:nvPicPr>
        <p:blipFill>
          <a:blip r:embed="rId3"/>
          <a:stretch/>
        </p:blipFill>
        <p:spPr>
          <a:xfrm>
            <a:off x="539640" y="1268280"/>
            <a:ext cx="38880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6237360"/>
            <a:ext cx="81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jiaoy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826920" y="476280"/>
            <a:ext cx="66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多少年之后，中国又有了一位伟大的总理，灾难困苦中，总能看到这样一位老人的身影。温暖，慈祥，坚强，他会哽咽的告诉灾区的孩子们：“一定要挺住，一定会得救！”他会用力的告诉人民子弟兵：“是人民在养你们，你们自己看着办！我不管你们怎么样，我只要这些群众脱险，这是命令！”这些坚强，坚定的语言给了所有人受灾人民信心，给了创伤后心灵的慰藉！让我们对温总理致意最崇高的敬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830880" y="765000"/>
            <a:ext cx="10947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979640" y="1125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我们应该培养怎样的品质去感恩他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95640" y="2781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滴水之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涌泉相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投之以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之以李的例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87280" y="1125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、哪些是没有感恩之心的行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843280" y="3789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例举恩将仇报，见利忘义，过河拆桥的行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708360" y="40464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00000" y="1197000"/>
            <a:ext cx="7993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，生活中会少些怨气和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，心灵上才会获得宁静和安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的生活，才会敬重地球上所有的生命，珍爱大自然的一切惠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心存感恩的生活，才会时时感受到生活中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拥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而不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缺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感恩不只是一种心情，更是一种素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今天，我们不仅窑心存感恩，还要学会感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让这种民族精神代代相传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最后，让我们一起祈祷，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永驻人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会感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明天会更好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感恩的心-欧阳菲菲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8:41:33Z</dcterms:created>
  <dc:creator>An</dc:creator>
  <dc:description/>
  <dc:language>en-US</dc:language>
  <cp:lastModifiedBy/>
  <dcterms:modified xsi:type="dcterms:W3CDTF">2015-07-04T09:17:0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