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3BA-1DF6-4790-A87F-D93464C2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6DF-1A1C-443C-9AD3-6B01759A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DF1-3853-4F30-B8FB-92B80DB6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C12-2922-4740-B970-A5CABF37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1F6B-B72F-40BF-9244-CE3B25DF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D3E3-256F-4C79-85D4-547204A3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7C50-A940-4037-B970-55F9C060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6807-C716-4487-9269-2F70E84F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10F5-9B8A-4921-AA8D-797A5BA7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BC58-3A9E-4599-AC1D-378D0B51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0BF6-60C0-4075-8923-0574CB3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0B2-2E10-4E36-83BF-ECE1F3E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4B1A-8BE5-403D-A0B2-B9837DF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F0C1-BD9B-4B0D-9DA1-D67F65E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7C8B-9B4A-407E-A6B5-FDDFF57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A4FE-6185-4EBB-8858-1DF9E7D1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9CB9-EB2E-45A0-B3F0-AD4ACFB8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581-7D72-48BD-949C-09880C5A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DFD-AB7F-40F7-8E67-2FB8BEAE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DEB-2885-4761-BA8E-9B112221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920-2657-4404-910A-39847B0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5A7-93B6-4364-A3C6-4028B6B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7A2-4E9B-4194-925F-929BD328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1AE-B8A2-466D-AD10-FF3C2B32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520F-8C61-472B-A936-7B9317B1E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10A7-E725-45AE-B3BF-58BA6FACF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职业生涯规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508360" y="6165360"/>
            <a:ext cx="33130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匿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3429000"/>
            <a:ext cx="46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2000" y="213372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9"/>
              </a:gs>
              <a:gs pos="50000">
                <a:srgbClr val="99cc00"/>
              </a:gs>
              <a:gs pos="100000">
                <a:srgbClr val="e9f4c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14680" y="2205000"/>
            <a:ext cx="21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        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285264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f2c6"/>
              </a:gs>
              <a:gs pos="50000">
                <a:srgbClr val="99cc00"/>
              </a:gs>
              <a:gs pos="100000">
                <a:srgbClr val="e7f2c6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7760" y="29257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 我 分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3573360"/>
            <a:ext cx="266400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f2c6"/>
              </a:gs>
              <a:gs pos="50000">
                <a:srgbClr val="99cc00"/>
              </a:gs>
              <a:gs pos="100000">
                <a:srgbClr val="e7f2c6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9040" y="3645000"/>
            <a:ext cx="17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环 境 分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429264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f2c6"/>
              </a:gs>
              <a:gs pos="50000">
                <a:srgbClr val="99cc00"/>
              </a:gs>
              <a:gs pos="100000">
                <a:srgbClr val="e7f2c6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436572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 涯 规 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5013360"/>
            <a:ext cx="2664000" cy="45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f2c6"/>
              </a:gs>
              <a:gs pos="50000">
                <a:srgbClr val="99cc00"/>
              </a:gs>
              <a:gs pos="100000">
                <a:srgbClr val="e7f2c6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71760" y="508644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实 施 方 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84360" y="765000"/>
            <a:ext cx="4103640" cy="799200"/>
            <a:chOff x="2484360" y="765000"/>
            <a:chExt cx="4103640" cy="799200"/>
          </a:xfrm>
        </p:grpSpPr>
        <p:sp>
          <p:nvSpPr>
            <p:cNvPr id="96" name=""/>
            <p:cNvSpPr/>
            <p:nvPr/>
          </p:nvSpPr>
          <p:spPr>
            <a:xfrm>
              <a:off x="2484360" y="765000"/>
              <a:ext cx="4103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6e7fe"/>
                </a:gs>
                <a:gs pos="50000">
                  <a:srgbClr val="0099ff"/>
                </a:gs>
                <a:gs pos="100000">
                  <a:srgbClr val="c6e7f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53280" y="860760"/>
              <a:ext cx="323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   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99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前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104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自我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110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环境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115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涯规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120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实施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893-C277-4B6D-B076-A00FE3C6DD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1:27:38Z</dcterms:created>
  <dc:creator/>
  <dc:description/>
  <dc:language>en-US</dc:language>
  <cp:lastModifiedBy/>
  <dcterms:modified xsi:type="dcterms:W3CDTF">2015-07-04T06:23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