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3.png" ContentType="image/png"/>
  <Override PartName="/ppt/media/image52.jpeg" ContentType="image/jpeg"/>
  <Override PartName="/ppt/media/image13.png" ContentType="image/png"/>
  <Override PartName="/ppt/media/image51.jpeg" ContentType="image/jpeg"/>
  <Override PartName="/ppt/media/image47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37.png" ContentType="image/png"/>
  <Override PartName="/ppt/media/image36.png" ContentType="image/png"/>
  <Override PartName="/ppt/media/image32.png" ContentType="image/png"/>
  <Override PartName="/ppt/media/image25.png" ContentType="image/png"/>
  <Override PartName="/ppt/media/image15.png" ContentType="image/png"/>
  <Override PartName="/ppt/media/image10.png" ContentType="image/png"/>
  <Override PartName="/ppt/media/image17.png" ContentType="image/png"/>
  <Override PartName="/ppt/media/image1.jpeg" ContentType="image/jpeg"/>
  <Override PartName="/ppt/media/image21.png" ContentType="image/png"/>
  <Override PartName="/ppt/media/image67.jpeg" ContentType="image/jpeg"/>
  <Override PartName="/ppt/media/image58.png" ContentType="image/png"/>
  <Override PartName="/ppt/media/image19.png" ContentType="image/png"/>
  <Override PartName="/ppt/media/image62.jpeg" ContentType="image/jpeg"/>
  <Override PartName="/ppt/media/image61.png" ContentType="image/png"/>
  <Override PartName="/ppt/media/image5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60.jpeg" ContentType="image/jpeg"/>
  <Override PartName="/ppt/media/image30.png" ContentType="image/png"/>
  <Override PartName="/ppt/media/image71.jpeg" ContentType="image/jpeg"/>
  <Override PartName="/ppt/media/image72.png" ContentType="image/png"/>
  <Override PartName="/ppt/media/image70.jpeg" ContentType="image/jpeg"/>
  <Override PartName="/ppt/media/image35.png" ContentType="image/png"/>
  <Override PartName="/ppt/media/image55.jpeg" ContentType="image/jpeg"/>
  <Override PartName="/ppt/media/image23.png" ContentType="image/png"/>
  <Override PartName="/ppt/media/image63.png" ContentType="image/png"/>
  <Override PartName="/ppt/media/image69.jpeg" ContentType="image/jpeg"/>
  <Override PartName="/ppt/media/image2.png" ContentType="image/png"/>
  <Override PartName="/ppt/media/image14.png" ContentType="image/png"/>
  <Override PartName="/ppt/media/image68.jpeg" ContentType="image/jpeg"/>
  <Override PartName="/ppt/media/image31.png" ContentType="image/png"/>
  <Override PartName="/ppt/media/image73.jpeg" ContentType="image/jpeg"/>
  <Override PartName="/ppt/media/image24.png" ContentType="image/png"/>
  <Override PartName="/ppt/media/image29.png" ContentType="image/png"/>
  <Override PartName="/ppt/media/image27.png" ContentType="image/png"/>
  <Override PartName="/ppt/media/image4.jpeg" ContentType="image/jpeg"/>
  <Override PartName="/ppt/media/image40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57.png" ContentType="image/png"/>
  <Override PartName="/ppt/media/image16.png" ContentType="image/png"/>
  <Override PartName="/ppt/media/image7.jpeg" ContentType="image/jpeg"/>
  <Override PartName="/ppt/media/image43.jpeg" ContentType="image/jpeg"/>
  <Override PartName="/ppt/media/image28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12.png" ContentType="image/png"/>
  <Override PartName="/ppt/media/image65.jpeg" ContentType="image/jpeg"/>
  <Override PartName="/ppt/media/image49.png" ContentType="image/png"/>
  <Override PartName="/ppt/media/image54.jpeg" ContentType="image/jpeg"/>
  <Override PartName="/ppt/media/image33.png" ContentType="image/png"/>
  <Override PartName="/ppt/media/image3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3CE-1048-4126-92EE-7BDCAE33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f7f7f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929E-19A9-49F8-A613-F97C67DD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f7f7f"/>
              </a:solidFill>
              <a:latin typeface="Segoe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3735-CB19-42FD-8B05-C56B1793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f7f7f"/>
              </a:solidFill>
              <a:latin typeface="Segoe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3290-004D-478D-821A-B2C55EAB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f7f7f"/>
              </a:solidFill>
              <a:latin typeface="Segoe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E2DF-18AD-48DE-B83F-1C27718B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f7f7f"/>
              </a:solidFill>
              <a:latin typeface="Segoe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F89C-B449-4B8F-BF3A-32BA42C2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f7f7f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EE43-A2DE-4D3D-AD65-9D65B82A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f7f7f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7AD0-5F65-4C2C-8492-26C72AEE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DCF-01DD-4540-98B4-65CEE445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f7f7f"/>
              </a:solidFill>
              <a:latin typeface="Segoe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EBC7-616C-4651-A1B7-ECBFE65A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f7f7f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12FD-F85A-406C-999F-634B060C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f7f7f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B04A-284A-49FB-9BE9-398FDE96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Segoe UI"/>
              </a:rPr>
              <a:t>Click to edit the title text format</a:t>
            </a:r>
            <a:endParaRPr b="1" lang="en-US" sz="3200" spc="-1" strike="noStrike">
              <a:solidFill>
                <a:srgbClr val="7f7f7f"/>
              </a:solidFill>
              <a:latin typeface="Segoe U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 lvl="3" marL="16002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 lvl="4" marL="20574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 lvl="5" marL="20574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 lvl="6" marL="20574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61A0-B68A-470B-94D7-196A9FF1C384}" type="slidenum">
              <a:rPr b="0" lang="zh-CN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png"/><Relationship Id="rId5" Type="http://schemas.openxmlformats.org/officeDocument/2006/relationships/image" Target="../media/image54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image" Target="../media/image61.png"/><Relationship Id="rId4" Type="http://schemas.openxmlformats.org/officeDocument/2006/relationships/image" Target="../media/image58.png"/><Relationship Id="rId5" Type="http://schemas.openxmlformats.org/officeDocument/2006/relationships/image" Target="../media/image5.jpeg"/><Relationship Id="rId6" Type="http://schemas.openxmlformats.org/officeDocument/2006/relationships/image" Target="../media/image5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image" Target="../media/image63.png"/><Relationship Id="rId4" Type="http://schemas.openxmlformats.org/officeDocument/2006/relationships/image" Target="../media/image58.pn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59.png"/><Relationship Id="rId8" Type="http://schemas.openxmlformats.org/officeDocument/2006/relationships/hyperlink" Target="http://www.eeppt.com/moban/" TargetMode="Externa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3.png"/><Relationship Id="rId5" Type="http://schemas.openxmlformats.org/officeDocument/2006/relationships/image" Target="../media/image58.png"/><Relationship Id="rId6" Type="http://schemas.openxmlformats.org/officeDocument/2006/relationships/image" Target="../media/image68.jpeg"/><Relationship Id="rId7" Type="http://schemas.openxmlformats.org/officeDocument/2006/relationships/image" Target="../media/image59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63.png"/><Relationship Id="rId5" Type="http://schemas.openxmlformats.org/officeDocument/2006/relationships/image" Target="../media/image58.png"/><Relationship Id="rId6" Type="http://schemas.openxmlformats.org/officeDocument/2006/relationships/image" Target="../media/image71.jpeg"/><Relationship Id="rId7" Type="http://schemas.openxmlformats.org/officeDocument/2006/relationships/image" Target="../media/image59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image" Target="../media/image42.png"/><Relationship Id="rId5" Type="http://schemas.openxmlformats.org/officeDocument/2006/relationships/image" Target="../media/image49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266760" y="-266760"/>
            <a:ext cx="9696600" cy="6203880"/>
            <a:chOff x="-266760" y="-266760"/>
            <a:chExt cx="9696600" cy="6203880"/>
          </a:xfrm>
        </p:grpSpPr>
        <p:pic>
          <p:nvPicPr>
            <p:cNvPr id="42" name="矩形 3" descr=""/>
            <p:cNvPicPr/>
            <p:nvPr/>
          </p:nvPicPr>
          <p:blipFill>
            <a:blip r:embed="rId2"/>
            <a:stretch/>
          </p:blipFill>
          <p:spPr>
            <a:xfrm>
              <a:off x="-266760" y="-266760"/>
              <a:ext cx="9696600" cy="620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0160" y="-14400"/>
              <a:ext cx="9123840" cy="57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sp>
        <p:nvSpPr>
          <p:cNvPr id="44" name="圆角矩形 4"/>
          <p:cNvSpPr/>
          <p:nvPr/>
        </p:nvSpPr>
        <p:spPr>
          <a:xfrm>
            <a:off x="2050920" y="1344600"/>
            <a:ext cx="5042160" cy="288144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0">
            <a:noFill/>
          </a:ln>
          <a:effectLst>
            <a:outerShdw dist="153753" dir="2700000" blurRad="0" rotWithShape="0">
              <a:srgbClr val="604a7b">
                <a:alpha val="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0320" y="18478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Segoe UI"/>
              </a:rPr>
              <a:t>自制纹理</a:t>
            </a:r>
            <a:r>
              <a:rPr b="1" lang="zh-CN" sz="3200" spc="-1" strike="noStrike">
                <a:solidFill>
                  <a:srgbClr val="7f7f7f"/>
                </a:solidFill>
                <a:latin typeface="Segoe UI"/>
              </a:rPr>
              <a:t>PP</a:t>
            </a:r>
            <a:r>
              <a:rPr b="1" lang="zh-CN" sz="3200" spc="-1" strike="noStrike">
                <a:solidFill>
                  <a:srgbClr val="7f7f7f"/>
                </a:solidFill>
                <a:latin typeface="Segoe UI"/>
              </a:rPr>
              <a:t>教程</a:t>
            </a:r>
            <a:endParaRPr b="1" lang="en-US" sz="3200" spc="-1" strike="noStrike">
              <a:solidFill>
                <a:srgbClr val="7f7f7f"/>
              </a:solidFill>
              <a:latin typeface="Segoe U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917440" y="3022200"/>
            <a:ext cx="3311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Segoe UI"/>
              </a:rPr>
              <a:t>幻灯片之家 </a:t>
            </a:r>
            <a:r>
              <a:rPr b="0" lang="zh-CN" sz="1400" spc="-1" strike="noStrike">
                <a:solidFill>
                  <a:srgbClr val="000000"/>
                </a:solidFill>
                <a:latin typeface="Segoe UI"/>
              </a:rPr>
              <a:t>http://</a:t>
            </a:r>
            <a:r>
              <a:rPr b="0" lang="en-US" sz="1400" spc="-1" strike="noStrike">
                <a:solidFill>
                  <a:srgbClr val="000000"/>
                </a:solidFill>
                <a:latin typeface="Segoe U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3"/>
          <p:cNvSpPr/>
          <p:nvPr/>
        </p:nvSpPr>
        <p:spPr>
          <a:xfrm>
            <a:off x="4805640" y="3352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04a7b"/>
                </a:solidFill>
                <a:latin typeface="Segoe UI"/>
              </a:rPr>
              <a:t>矢量素材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286080" y="1582560"/>
            <a:ext cx="1562040" cy="1562400"/>
            <a:chOff x="3286080" y="1582560"/>
            <a:chExt cx="1562040" cy="1562400"/>
          </a:xfrm>
        </p:grpSpPr>
        <p:sp>
          <p:nvSpPr>
            <p:cNvPr id="168" name="矩形 9"/>
            <p:cNvSpPr/>
            <p:nvPr/>
          </p:nvSpPr>
          <p:spPr>
            <a:xfrm>
              <a:off x="3286080" y="1582560"/>
              <a:ext cx="1562040" cy="15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69" name="椭圆 70"/>
            <p:cNvSpPr/>
            <p:nvPr/>
          </p:nvSpPr>
          <p:spPr>
            <a:xfrm>
              <a:off x="3707640" y="1930680"/>
              <a:ext cx="718560" cy="866160"/>
            </a:xfrm>
            <a:custGeom>
              <a:avLst/>
              <a:gdLst/>
              <a:ahLst/>
              <a:rect l="l" t="t" r="r" b="b"/>
              <a:pathLst>
                <a:path w="1674290" h="2018114">
                  <a:moveTo>
                    <a:pt x="307141" y="691642"/>
                  </a:moveTo>
                  <a:lnTo>
                    <a:pt x="1378912" y="691642"/>
                  </a:lnTo>
                  <a:lnTo>
                    <a:pt x="1369387" y="1458335"/>
                  </a:lnTo>
                  <a:cubicBezTo>
                    <a:pt x="1369387" y="1541769"/>
                    <a:pt x="1301750" y="1609406"/>
                    <a:pt x="1218316" y="1609406"/>
                  </a:cubicBezTo>
                  <a:lnTo>
                    <a:pt x="1158892" y="1609406"/>
                  </a:lnTo>
                  <a:lnTo>
                    <a:pt x="1158892" y="1898352"/>
                  </a:lnTo>
                  <a:cubicBezTo>
                    <a:pt x="1158892" y="1964495"/>
                    <a:pt x="1105273" y="2018114"/>
                    <a:pt x="1039130" y="2018114"/>
                  </a:cubicBezTo>
                  <a:cubicBezTo>
                    <a:pt x="972987" y="2018114"/>
                    <a:pt x="919368" y="1964495"/>
                    <a:pt x="919368" y="1898352"/>
                  </a:cubicBezTo>
                  <a:lnTo>
                    <a:pt x="919368" y="1609406"/>
                  </a:lnTo>
                  <a:lnTo>
                    <a:pt x="765901" y="1609406"/>
                  </a:lnTo>
                  <a:lnTo>
                    <a:pt x="765901" y="1898351"/>
                  </a:lnTo>
                  <a:cubicBezTo>
                    <a:pt x="765901" y="1964494"/>
                    <a:pt x="712282" y="2018113"/>
                    <a:pt x="646139" y="2018113"/>
                  </a:cubicBezTo>
                  <a:cubicBezTo>
                    <a:pt x="579996" y="2018113"/>
                    <a:pt x="526377" y="1964494"/>
                    <a:pt x="526377" y="1898351"/>
                  </a:cubicBezTo>
                  <a:lnTo>
                    <a:pt x="526377" y="1609406"/>
                  </a:lnTo>
                  <a:lnTo>
                    <a:pt x="458213" y="1609406"/>
                  </a:lnTo>
                  <a:cubicBezTo>
                    <a:pt x="374779" y="1609406"/>
                    <a:pt x="307141" y="1541769"/>
                    <a:pt x="307141" y="1458335"/>
                  </a:cubicBezTo>
                  <a:lnTo>
                    <a:pt x="307141" y="1156202"/>
                  </a:lnTo>
                  <a:lnTo>
                    <a:pt x="307141" y="854070"/>
                  </a:lnTo>
                  <a:lnTo>
                    <a:pt x="307141" y="691642"/>
                  </a:lnTo>
                  <a:close/>
                  <a:moveTo>
                    <a:pt x="1554528" y="683951"/>
                  </a:moveTo>
                  <a:cubicBezTo>
                    <a:pt x="1620671" y="683951"/>
                    <a:pt x="1674290" y="737570"/>
                    <a:pt x="1674290" y="803713"/>
                  </a:cubicBezTo>
                  <a:lnTo>
                    <a:pt x="1674290" y="1299148"/>
                  </a:lnTo>
                  <a:cubicBezTo>
                    <a:pt x="1674290" y="1365291"/>
                    <a:pt x="1620671" y="1418910"/>
                    <a:pt x="1554528" y="1418910"/>
                  </a:cubicBezTo>
                  <a:cubicBezTo>
                    <a:pt x="1488385" y="1418910"/>
                    <a:pt x="1434766" y="1365291"/>
                    <a:pt x="1434766" y="1299148"/>
                  </a:cubicBezTo>
                  <a:lnTo>
                    <a:pt x="1434766" y="803713"/>
                  </a:lnTo>
                  <a:cubicBezTo>
                    <a:pt x="1434766" y="737570"/>
                    <a:pt x="1488385" y="683951"/>
                    <a:pt x="1554528" y="683951"/>
                  </a:cubicBezTo>
                  <a:close/>
                  <a:moveTo>
                    <a:pt x="119762" y="683950"/>
                  </a:moveTo>
                  <a:cubicBezTo>
                    <a:pt x="185905" y="683950"/>
                    <a:pt x="239524" y="737569"/>
                    <a:pt x="239524" y="803712"/>
                  </a:cubicBezTo>
                  <a:lnTo>
                    <a:pt x="239524" y="1299147"/>
                  </a:lnTo>
                  <a:cubicBezTo>
                    <a:pt x="239524" y="1365290"/>
                    <a:pt x="185905" y="1418909"/>
                    <a:pt x="119762" y="1418909"/>
                  </a:cubicBezTo>
                  <a:cubicBezTo>
                    <a:pt x="53619" y="1418909"/>
                    <a:pt x="0" y="1365290"/>
                    <a:pt x="0" y="1299147"/>
                  </a:cubicBezTo>
                  <a:lnTo>
                    <a:pt x="0" y="803712"/>
                  </a:lnTo>
                  <a:cubicBezTo>
                    <a:pt x="0" y="737569"/>
                    <a:pt x="53619" y="683950"/>
                    <a:pt x="119762" y="683950"/>
                  </a:cubicBezTo>
                  <a:close/>
                  <a:moveTo>
                    <a:pt x="1058285" y="381191"/>
                  </a:moveTo>
                  <a:cubicBezTo>
                    <a:pt x="1028091" y="381191"/>
                    <a:pt x="1003614" y="405668"/>
                    <a:pt x="1003614" y="435862"/>
                  </a:cubicBezTo>
                  <a:cubicBezTo>
                    <a:pt x="1003614" y="466056"/>
                    <a:pt x="1028091" y="490533"/>
                    <a:pt x="1058285" y="490533"/>
                  </a:cubicBezTo>
                  <a:cubicBezTo>
                    <a:pt x="1088479" y="490533"/>
                    <a:pt x="1112956" y="466056"/>
                    <a:pt x="1112956" y="435862"/>
                  </a:cubicBezTo>
                  <a:cubicBezTo>
                    <a:pt x="1112956" y="405668"/>
                    <a:pt x="1088479" y="381191"/>
                    <a:pt x="1058285" y="381191"/>
                  </a:cubicBezTo>
                  <a:close/>
                  <a:moveTo>
                    <a:pt x="620445" y="381191"/>
                  </a:moveTo>
                  <a:cubicBezTo>
                    <a:pt x="590251" y="381191"/>
                    <a:pt x="565774" y="405668"/>
                    <a:pt x="565774" y="435862"/>
                  </a:cubicBezTo>
                  <a:cubicBezTo>
                    <a:pt x="565774" y="466056"/>
                    <a:pt x="590251" y="490533"/>
                    <a:pt x="620445" y="490533"/>
                  </a:cubicBezTo>
                  <a:cubicBezTo>
                    <a:pt x="650639" y="490533"/>
                    <a:pt x="675116" y="466056"/>
                    <a:pt x="675116" y="435862"/>
                  </a:cubicBezTo>
                  <a:cubicBezTo>
                    <a:pt x="675116" y="405668"/>
                    <a:pt x="650639" y="381191"/>
                    <a:pt x="620445" y="381191"/>
                  </a:cubicBezTo>
                  <a:close/>
                  <a:moveTo>
                    <a:pt x="508384" y="1373"/>
                  </a:moveTo>
                  <a:cubicBezTo>
                    <a:pt x="515956" y="3701"/>
                    <a:pt x="522639" y="8917"/>
                    <a:pt x="526639" y="16470"/>
                  </a:cubicBezTo>
                  <a:lnTo>
                    <a:pt x="615978" y="185144"/>
                  </a:lnTo>
                  <a:cubicBezTo>
                    <a:pt x="687009" y="148129"/>
                    <a:pt x="767930" y="128483"/>
                    <a:pt x="853439" y="128483"/>
                  </a:cubicBezTo>
                  <a:cubicBezTo>
                    <a:pt x="932860" y="128483"/>
                    <a:pt x="1008322" y="145431"/>
                    <a:pt x="1075718" y="177325"/>
                  </a:cubicBezTo>
                  <a:lnTo>
                    <a:pt x="1150798" y="40824"/>
                  </a:lnTo>
                  <a:cubicBezTo>
                    <a:pt x="1154917" y="33335"/>
                    <a:pt x="1161682" y="28224"/>
                    <a:pt x="1169289" y="26016"/>
                  </a:cubicBezTo>
                  <a:cubicBezTo>
                    <a:pt x="1176896" y="23808"/>
                    <a:pt x="1185346" y="24501"/>
                    <a:pt x="1192835" y="28621"/>
                  </a:cubicBezTo>
                  <a:cubicBezTo>
                    <a:pt x="1207813" y="36859"/>
                    <a:pt x="1213277" y="55680"/>
                    <a:pt x="1205038" y="70658"/>
                  </a:cubicBezTo>
                  <a:lnTo>
                    <a:pt x="1130773" y="205677"/>
                  </a:lnTo>
                  <a:cubicBezTo>
                    <a:pt x="1280708" y="293097"/>
                    <a:pt x="1383706" y="450928"/>
                    <a:pt x="1395615" y="633899"/>
                  </a:cubicBezTo>
                  <a:lnTo>
                    <a:pt x="311263" y="633899"/>
                  </a:lnTo>
                  <a:cubicBezTo>
                    <a:pt x="322782" y="456918"/>
                    <a:pt x="419524" y="303459"/>
                    <a:pt x="560939" y="213488"/>
                  </a:cubicBezTo>
                  <a:lnTo>
                    <a:pt x="471935" y="45445"/>
                  </a:lnTo>
                  <a:cubicBezTo>
                    <a:pt x="463934" y="30339"/>
                    <a:pt x="469694" y="11606"/>
                    <a:pt x="484800" y="3605"/>
                  </a:cubicBezTo>
                  <a:cubicBezTo>
                    <a:pt x="492353" y="-395"/>
                    <a:pt x="500812" y="-955"/>
                    <a:pt x="508384" y="1373"/>
                  </a:cubicBez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508720" y="2209680"/>
            <a:ext cx="325440" cy="32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1" name=""/>
          <p:cNvSpPr/>
          <p:nvPr/>
        </p:nvSpPr>
        <p:spPr>
          <a:xfrm>
            <a:off x="5961240" y="2200320"/>
            <a:ext cx="325440" cy="323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332000" y="1417680"/>
            <a:ext cx="10382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-28440" y="-14400"/>
            <a:ext cx="9208800" cy="5753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1130400"/>
            <a:ext cx="3240000" cy="3240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5" name="TextBox 17"/>
          <p:cNvSpPr/>
          <p:nvPr/>
        </p:nvSpPr>
        <p:spPr>
          <a:xfrm>
            <a:off x="4013640" y="458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04a7b"/>
                </a:solidFill>
                <a:latin typeface="Segoe UI"/>
              </a:rPr>
              <a:t>组合效果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6" name="任意多边形 8"/>
          <p:cNvSpPr/>
          <p:nvPr/>
        </p:nvSpPr>
        <p:spPr>
          <a:xfrm>
            <a:off x="1619280" y="2976480"/>
            <a:ext cx="1728720" cy="244440"/>
          </a:xfrm>
          <a:custGeom>
            <a:avLst/>
            <a:gdLst/>
            <a:ahLst/>
            <a:rect l="l" t="t" r="r" b="b"/>
            <a:pathLst>
              <a:path w="5879468" h="834357">
                <a:moveTo>
                  <a:pt x="4176464" y="180050"/>
                </a:moveTo>
                <a:cubicBezTo>
                  <a:pt x="4045554" y="180050"/>
                  <a:pt x="3939431" y="286173"/>
                  <a:pt x="3939431" y="417083"/>
                </a:cubicBezTo>
                <a:cubicBezTo>
                  <a:pt x="3939431" y="547993"/>
                  <a:pt x="4045554" y="654116"/>
                  <a:pt x="4176464" y="654116"/>
                </a:cubicBezTo>
                <a:cubicBezTo>
                  <a:pt x="4307374" y="654116"/>
                  <a:pt x="4413497" y="547993"/>
                  <a:pt x="4413497" y="417083"/>
                </a:cubicBezTo>
                <a:cubicBezTo>
                  <a:pt x="4413497" y="286173"/>
                  <a:pt x="4307374" y="180050"/>
                  <a:pt x="4176464" y="180050"/>
                </a:cubicBezTo>
                <a:close/>
                <a:moveTo>
                  <a:pt x="3363427" y="48958"/>
                </a:moveTo>
                <a:cubicBezTo>
                  <a:pt x="3508459" y="47414"/>
                  <a:pt x="3672408" y="99911"/>
                  <a:pt x="3672408" y="322261"/>
                </a:cubicBezTo>
                <a:cubicBezTo>
                  <a:pt x="3672408" y="443074"/>
                  <a:pt x="3618421" y="507588"/>
                  <a:pt x="3548358" y="540359"/>
                </a:cubicBezTo>
                <a:cubicBezTo>
                  <a:pt x="3575272" y="569763"/>
                  <a:pt x="3602841" y="589842"/>
                  <a:pt x="3629043" y="646837"/>
                </a:cubicBezTo>
                <a:cubicBezTo>
                  <a:pt x="3660625" y="715533"/>
                  <a:pt x="3651205" y="751424"/>
                  <a:pt x="3649984" y="828321"/>
                </a:cubicBezTo>
                <a:lnTo>
                  <a:pt x="3454539" y="828321"/>
                </a:lnTo>
                <a:lnTo>
                  <a:pt x="3455106" y="814425"/>
                </a:lnTo>
                <a:cubicBezTo>
                  <a:pt x="3456052" y="807553"/>
                  <a:pt x="3457566" y="811215"/>
                  <a:pt x="3454539" y="730599"/>
                </a:cubicBezTo>
                <a:cubicBezTo>
                  <a:pt x="3450503" y="623111"/>
                  <a:pt x="3325197" y="578028"/>
                  <a:pt x="3233500" y="577036"/>
                </a:cubicBezTo>
                <a:cubicBezTo>
                  <a:pt x="3141803" y="576044"/>
                  <a:pt x="3046869" y="577036"/>
                  <a:pt x="2953554" y="577036"/>
                </a:cubicBezTo>
                <a:lnTo>
                  <a:pt x="2953554" y="447333"/>
                </a:lnTo>
                <a:lnTo>
                  <a:pt x="3344510" y="447333"/>
                </a:lnTo>
                <a:cubicBezTo>
                  <a:pt x="3453809" y="445788"/>
                  <a:pt x="3495848" y="377849"/>
                  <a:pt x="3495847" y="299100"/>
                </a:cubicBezTo>
                <a:cubicBezTo>
                  <a:pt x="3495846" y="220351"/>
                  <a:pt x="3453810" y="167851"/>
                  <a:pt x="3344510" y="169396"/>
                </a:cubicBezTo>
                <a:lnTo>
                  <a:pt x="2953554" y="169396"/>
                </a:lnTo>
                <a:lnTo>
                  <a:pt x="2953554" y="53590"/>
                </a:lnTo>
                <a:lnTo>
                  <a:pt x="3363427" y="48958"/>
                </a:lnTo>
                <a:close/>
                <a:moveTo>
                  <a:pt x="1483861" y="38619"/>
                </a:moveTo>
                <a:cubicBezTo>
                  <a:pt x="1818909" y="38619"/>
                  <a:pt x="1866606" y="241044"/>
                  <a:pt x="1867770" y="380647"/>
                </a:cubicBezTo>
                <a:lnTo>
                  <a:pt x="1867770" y="834357"/>
                </a:lnTo>
                <a:lnTo>
                  <a:pt x="1672326" y="834357"/>
                </a:lnTo>
                <a:cubicBezTo>
                  <a:pt x="1672326" y="690100"/>
                  <a:pt x="1674654" y="522576"/>
                  <a:pt x="1672326" y="401587"/>
                </a:cubicBezTo>
                <a:cubicBezTo>
                  <a:pt x="1669998" y="280598"/>
                  <a:pt x="1567625" y="227084"/>
                  <a:pt x="1448961" y="234064"/>
                </a:cubicBezTo>
                <a:cubicBezTo>
                  <a:pt x="1330297" y="241044"/>
                  <a:pt x="1251188" y="280597"/>
                  <a:pt x="1253516" y="401587"/>
                </a:cubicBezTo>
                <a:lnTo>
                  <a:pt x="1253516" y="834357"/>
                </a:lnTo>
                <a:lnTo>
                  <a:pt x="1079013" y="834357"/>
                </a:lnTo>
                <a:lnTo>
                  <a:pt x="1072033" y="380647"/>
                </a:lnTo>
                <a:cubicBezTo>
                  <a:pt x="1069707" y="220103"/>
                  <a:pt x="1148813" y="38619"/>
                  <a:pt x="1483861" y="38619"/>
                </a:cubicBezTo>
                <a:close/>
                <a:moveTo>
                  <a:pt x="4787748" y="38618"/>
                </a:moveTo>
                <a:lnTo>
                  <a:pt x="4948292" y="38618"/>
                </a:lnTo>
                <a:lnTo>
                  <a:pt x="4948292" y="821342"/>
                </a:lnTo>
                <a:lnTo>
                  <a:pt x="4787748" y="821342"/>
                </a:lnTo>
                <a:lnTo>
                  <a:pt x="4787748" y="38618"/>
                </a:lnTo>
                <a:close/>
                <a:moveTo>
                  <a:pt x="5537440" y="25605"/>
                </a:moveTo>
                <a:cubicBezTo>
                  <a:pt x="5697984" y="23279"/>
                  <a:pt x="5879468" y="102385"/>
                  <a:pt x="5879468" y="437433"/>
                </a:cubicBezTo>
                <a:cubicBezTo>
                  <a:pt x="5879468" y="772481"/>
                  <a:pt x="5677043" y="820178"/>
                  <a:pt x="5537440" y="821342"/>
                </a:cubicBezTo>
                <a:lnTo>
                  <a:pt x="5083730" y="821342"/>
                </a:lnTo>
                <a:lnTo>
                  <a:pt x="5083730" y="625898"/>
                </a:lnTo>
                <a:cubicBezTo>
                  <a:pt x="5227987" y="625898"/>
                  <a:pt x="5395511" y="628226"/>
                  <a:pt x="5516500" y="625898"/>
                </a:cubicBezTo>
                <a:cubicBezTo>
                  <a:pt x="5637489" y="623570"/>
                  <a:pt x="5684024" y="521196"/>
                  <a:pt x="5684023" y="402533"/>
                </a:cubicBezTo>
                <a:cubicBezTo>
                  <a:pt x="5684022" y="283870"/>
                  <a:pt x="5637490" y="204760"/>
                  <a:pt x="5516500" y="207088"/>
                </a:cubicBezTo>
                <a:lnTo>
                  <a:pt x="5083730" y="207088"/>
                </a:lnTo>
                <a:lnTo>
                  <a:pt x="5083730" y="32585"/>
                </a:lnTo>
                <a:lnTo>
                  <a:pt x="5537440" y="25605"/>
                </a:lnTo>
                <a:close/>
                <a:moveTo>
                  <a:pt x="2484297" y="25605"/>
                </a:moveTo>
                <a:cubicBezTo>
                  <a:pt x="2644841" y="23279"/>
                  <a:pt x="2826325" y="102385"/>
                  <a:pt x="2826325" y="437433"/>
                </a:cubicBezTo>
                <a:cubicBezTo>
                  <a:pt x="2826325" y="772481"/>
                  <a:pt x="2623900" y="820178"/>
                  <a:pt x="2484297" y="821342"/>
                </a:cubicBezTo>
                <a:lnTo>
                  <a:pt x="2030587" y="821342"/>
                </a:lnTo>
                <a:lnTo>
                  <a:pt x="2030587" y="625898"/>
                </a:lnTo>
                <a:cubicBezTo>
                  <a:pt x="2174844" y="625898"/>
                  <a:pt x="2342368" y="628226"/>
                  <a:pt x="2463357" y="625898"/>
                </a:cubicBezTo>
                <a:cubicBezTo>
                  <a:pt x="2584346" y="623570"/>
                  <a:pt x="2630881" y="521196"/>
                  <a:pt x="2630880" y="402533"/>
                </a:cubicBezTo>
                <a:cubicBezTo>
                  <a:pt x="2630879" y="283870"/>
                  <a:pt x="2584347" y="204760"/>
                  <a:pt x="2463357" y="207088"/>
                </a:cubicBezTo>
                <a:lnTo>
                  <a:pt x="2030587" y="207088"/>
                </a:lnTo>
                <a:lnTo>
                  <a:pt x="2030587" y="32585"/>
                </a:lnTo>
                <a:lnTo>
                  <a:pt x="2484297" y="25605"/>
                </a:lnTo>
                <a:close/>
                <a:moveTo>
                  <a:pt x="4176464" y="12824"/>
                </a:moveTo>
                <a:cubicBezTo>
                  <a:pt x="4399730" y="12824"/>
                  <a:pt x="4580723" y="193817"/>
                  <a:pt x="4580723" y="417083"/>
                </a:cubicBezTo>
                <a:cubicBezTo>
                  <a:pt x="4580723" y="640349"/>
                  <a:pt x="4399730" y="821342"/>
                  <a:pt x="4176464" y="821342"/>
                </a:cubicBezTo>
                <a:cubicBezTo>
                  <a:pt x="3953198" y="821342"/>
                  <a:pt x="3772205" y="640349"/>
                  <a:pt x="3772205" y="417083"/>
                </a:cubicBezTo>
                <a:cubicBezTo>
                  <a:pt x="3772205" y="193817"/>
                  <a:pt x="3953198" y="12824"/>
                  <a:pt x="4176464" y="12824"/>
                </a:cubicBezTo>
                <a:close/>
                <a:moveTo>
                  <a:pt x="380777" y="49"/>
                </a:moveTo>
                <a:lnTo>
                  <a:pt x="885888" y="7055"/>
                </a:lnTo>
                <a:lnTo>
                  <a:pt x="885888" y="146880"/>
                </a:lnTo>
                <a:lnTo>
                  <a:pt x="885888" y="182198"/>
                </a:lnTo>
                <a:lnTo>
                  <a:pt x="885888" y="602543"/>
                </a:lnTo>
                <a:lnTo>
                  <a:pt x="885888" y="771069"/>
                </a:lnTo>
                <a:lnTo>
                  <a:pt x="885888" y="798704"/>
                </a:lnTo>
                <a:lnTo>
                  <a:pt x="858253" y="798704"/>
                </a:lnTo>
                <a:lnTo>
                  <a:pt x="720080" y="798704"/>
                </a:lnTo>
                <a:lnTo>
                  <a:pt x="720080" y="603053"/>
                </a:lnTo>
                <a:lnTo>
                  <a:pt x="720080" y="506829"/>
                </a:lnTo>
                <a:lnTo>
                  <a:pt x="720080" y="182198"/>
                </a:lnTo>
                <a:lnTo>
                  <a:pt x="404089" y="182198"/>
                </a:lnTo>
                <a:cubicBezTo>
                  <a:pt x="269392" y="179861"/>
                  <a:pt x="217588" y="259261"/>
                  <a:pt x="217587" y="378359"/>
                </a:cubicBezTo>
                <a:cubicBezTo>
                  <a:pt x="217586" y="497458"/>
                  <a:pt x="269393" y="600207"/>
                  <a:pt x="404089" y="602543"/>
                </a:cubicBezTo>
                <a:cubicBezTo>
                  <a:pt x="455341" y="603433"/>
                  <a:pt x="514093" y="603645"/>
                  <a:pt x="576064" y="603509"/>
                </a:cubicBezTo>
                <a:lnTo>
                  <a:pt x="576064" y="798704"/>
                </a:lnTo>
                <a:lnTo>
                  <a:pt x="380777" y="798704"/>
                </a:lnTo>
                <a:cubicBezTo>
                  <a:pt x="225358" y="797536"/>
                  <a:pt x="0" y="749664"/>
                  <a:pt x="0" y="413387"/>
                </a:cubicBezTo>
                <a:cubicBezTo>
                  <a:pt x="0" y="77111"/>
                  <a:pt x="202044" y="-2285"/>
                  <a:pt x="380777" y="49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7" name="椭圆 70"/>
          <p:cNvSpPr/>
          <p:nvPr/>
        </p:nvSpPr>
        <p:spPr>
          <a:xfrm>
            <a:off x="2036880" y="1706400"/>
            <a:ext cx="893520" cy="1079640"/>
          </a:xfrm>
          <a:custGeom>
            <a:avLst/>
            <a:gdLst/>
            <a:ahLst/>
            <a:rect l="l" t="t" r="r" b="b"/>
            <a:pathLst>
              <a:path w="1674290" h="2018114">
                <a:moveTo>
                  <a:pt x="307141" y="691642"/>
                </a:moveTo>
                <a:lnTo>
                  <a:pt x="1378912" y="691642"/>
                </a:lnTo>
                <a:lnTo>
                  <a:pt x="1369387" y="1458335"/>
                </a:lnTo>
                <a:cubicBezTo>
                  <a:pt x="1369387" y="1541769"/>
                  <a:pt x="1301750" y="1609406"/>
                  <a:pt x="1218316" y="1609406"/>
                </a:cubicBezTo>
                <a:lnTo>
                  <a:pt x="1158892" y="1609406"/>
                </a:lnTo>
                <a:lnTo>
                  <a:pt x="1158892" y="1898352"/>
                </a:lnTo>
                <a:cubicBezTo>
                  <a:pt x="1158892" y="1964495"/>
                  <a:pt x="1105273" y="2018114"/>
                  <a:pt x="1039130" y="2018114"/>
                </a:cubicBezTo>
                <a:cubicBezTo>
                  <a:pt x="972987" y="2018114"/>
                  <a:pt x="919368" y="1964495"/>
                  <a:pt x="919368" y="1898352"/>
                </a:cubicBezTo>
                <a:lnTo>
                  <a:pt x="919368" y="1609406"/>
                </a:lnTo>
                <a:lnTo>
                  <a:pt x="765901" y="1609406"/>
                </a:lnTo>
                <a:lnTo>
                  <a:pt x="765901" y="1898351"/>
                </a:lnTo>
                <a:cubicBezTo>
                  <a:pt x="765901" y="1964494"/>
                  <a:pt x="712282" y="2018113"/>
                  <a:pt x="646139" y="2018113"/>
                </a:cubicBezTo>
                <a:cubicBezTo>
                  <a:pt x="579996" y="2018113"/>
                  <a:pt x="526377" y="1964494"/>
                  <a:pt x="526377" y="1898351"/>
                </a:cubicBezTo>
                <a:lnTo>
                  <a:pt x="526377" y="1609406"/>
                </a:lnTo>
                <a:lnTo>
                  <a:pt x="458213" y="1609406"/>
                </a:lnTo>
                <a:cubicBezTo>
                  <a:pt x="374779" y="1609406"/>
                  <a:pt x="307141" y="1541769"/>
                  <a:pt x="307141" y="1458335"/>
                </a:cubicBezTo>
                <a:lnTo>
                  <a:pt x="307141" y="1156202"/>
                </a:lnTo>
                <a:lnTo>
                  <a:pt x="307141" y="854070"/>
                </a:lnTo>
                <a:lnTo>
                  <a:pt x="307141" y="691642"/>
                </a:lnTo>
                <a:close/>
                <a:moveTo>
                  <a:pt x="1554528" y="683951"/>
                </a:moveTo>
                <a:cubicBezTo>
                  <a:pt x="1620671" y="683951"/>
                  <a:pt x="1674290" y="737570"/>
                  <a:pt x="1674290" y="803713"/>
                </a:cubicBezTo>
                <a:lnTo>
                  <a:pt x="1674290" y="1299148"/>
                </a:lnTo>
                <a:cubicBezTo>
                  <a:pt x="1674290" y="1365291"/>
                  <a:pt x="1620671" y="1418910"/>
                  <a:pt x="1554528" y="1418910"/>
                </a:cubicBezTo>
                <a:cubicBezTo>
                  <a:pt x="1488385" y="1418910"/>
                  <a:pt x="1434766" y="1365291"/>
                  <a:pt x="1434766" y="1299148"/>
                </a:cubicBezTo>
                <a:lnTo>
                  <a:pt x="1434766" y="803713"/>
                </a:lnTo>
                <a:cubicBezTo>
                  <a:pt x="1434766" y="737570"/>
                  <a:pt x="1488385" y="683951"/>
                  <a:pt x="1554528" y="683951"/>
                </a:cubicBezTo>
                <a:close/>
                <a:moveTo>
                  <a:pt x="119762" y="683950"/>
                </a:moveTo>
                <a:cubicBezTo>
                  <a:pt x="185905" y="683950"/>
                  <a:pt x="239524" y="737569"/>
                  <a:pt x="239524" y="803712"/>
                </a:cubicBezTo>
                <a:lnTo>
                  <a:pt x="239524" y="1299147"/>
                </a:lnTo>
                <a:cubicBezTo>
                  <a:pt x="239524" y="1365290"/>
                  <a:pt x="185905" y="1418909"/>
                  <a:pt x="119762" y="1418909"/>
                </a:cubicBezTo>
                <a:cubicBezTo>
                  <a:pt x="53619" y="1418909"/>
                  <a:pt x="0" y="1365290"/>
                  <a:pt x="0" y="1299147"/>
                </a:cubicBezTo>
                <a:lnTo>
                  <a:pt x="0" y="803712"/>
                </a:lnTo>
                <a:cubicBezTo>
                  <a:pt x="0" y="737569"/>
                  <a:pt x="53619" y="683950"/>
                  <a:pt x="119762" y="683950"/>
                </a:cubicBezTo>
                <a:close/>
                <a:moveTo>
                  <a:pt x="1058285" y="381191"/>
                </a:moveTo>
                <a:cubicBezTo>
                  <a:pt x="1028091" y="381191"/>
                  <a:pt x="1003614" y="405668"/>
                  <a:pt x="1003614" y="435862"/>
                </a:cubicBezTo>
                <a:cubicBezTo>
                  <a:pt x="1003614" y="466056"/>
                  <a:pt x="1028091" y="490533"/>
                  <a:pt x="1058285" y="490533"/>
                </a:cubicBezTo>
                <a:cubicBezTo>
                  <a:pt x="1088479" y="490533"/>
                  <a:pt x="1112956" y="466056"/>
                  <a:pt x="1112956" y="435862"/>
                </a:cubicBezTo>
                <a:cubicBezTo>
                  <a:pt x="1112956" y="405668"/>
                  <a:pt x="1088479" y="381191"/>
                  <a:pt x="1058285" y="381191"/>
                </a:cubicBezTo>
                <a:close/>
                <a:moveTo>
                  <a:pt x="620445" y="381191"/>
                </a:moveTo>
                <a:cubicBezTo>
                  <a:pt x="590251" y="381191"/>
                  <a:pt x="565774" y="405668"/>
                  <a:pt x="565774" y="435862"/>
                </a:cubicBezTo>
                <a:cubicBezTo>
                  <a:pt x="565774" y="466056"/>
                  <a:pt x="590251" y="490533"/>
                  <a:pt x="620445" y="490533"/>
                </a:cubicBezTo>
                <a:cubicBezTo>
                  <a:pt x="650639" y="490533"/>
                  <a:pt x="675116" y="466056"/>
                  <a:pt x="675116" y="435862"/>
                </a:cubicBezTo>
                <a:cubicBezTo>
                  <a:pt x="675116" y="405668"/>
                  <a:pt x="650639" y="381191"/>
                  <a:pt x="620445" y="381191"/>
                </a:cubicBezTo>
                <a:close/>
                <a:moveTo>
                  <a:pt x="508384" y="1373"/>
                </a:moveTo>
                <a:cubicBezTo>
                  <a:pt x="515956" y="3701"/>
                  <a:pt x="522639" y="8917"/>
                  <a:pt x="526639" y="16470"/>
                </a:cubicBezTo>
                <a:lnTo>
                  <a:pt x="615978" y="185144"/>
                </a:lnTo>
                <a:cubicBezTo>
                  <a:pt x="687009" y="148129"/>
                  <a:pt x="767930" y="128483"/>
                  <a:pt x="853439" y="128483"/>
                </a:cubicBezTo>
                <a:cubicBezTo>
                  <a:pt x="932860" y="128483"/>
                  <a:pt x="1008322" y="145431"/>
                  <a:pt x="1075718" y="177325"/>
                </a:cubicBezTo>
                <a:lnTo>
                  <a:pt x="1150798" y="40824"/>
                </a:lnTo>
                <a:cubicBezTo>
                  <a:pt x="1154917" y="33335"/>
                  <a:pt x="1161682" y="28224"/>
                  <a:pt x="1169289" y="26016"/>
                </a:cubicBezTo>
                <a:cubicBezTo>
                  <a:pt x="1176896" y="23808"/>
                  <a:pt x="1185346" y="24501"/>
                  <a:pt x="1192835" y="28621"/>
                </a:cubicBezTo>
                <a:cubicBezTo>
                  <a:pt x="1207813" y="36859"/>
                  <a:pt x="1213277" y="55680"/>
                  <a:pt x="1205038" y="70658"/>
                </a:cubicBezTo>
                <a:lnTo>
                  <a:pt x="1130773" y="205677"/>
                </a:lnTo>
                <a:cubicBezTo>
                  <a:pt x="1280708" y="293097"/>
                  <a:pt x="1383706" y="450928"/>
                  <a:pt x="1395615" y="633899"/>
                </a:cubicBezTo>
                <a:lnTo>
                  <a:pt x="311263" y="633899"/>
                </a:lnTo>
                <a:cubicBezTo>
                  <a:pt x="322782" y="456918"/>
                  <a:pt x="419524" y="303459"/>
                  <a:pt x="560939" y="213488"/>
                </a:cubicBezTo>
                <a:lnTo>
                  <a:pt x="471935" y="45445"/>
                </a:lnTo>
                <a:cubicBezTo>
                  <a:pt x="463934" y="30339"/>
                  <a:pt x="469694" y="11606"/>
                  <a:pt x="484800" y="3605"/>
                </a:cubicBezTo>
                <a:cubicBezTo>
                  <a:pt x="492353" y="-395"/>
                  <a:pt x="500812" y="-955"/>
                  <a:pt x="508384" y="1373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8" name="TextBox 15"/>
          <p:cNvSpPr/>
          <p:nvPr/>
        </p:nvSpPr>
        <p:spPr>
          <a:xfrm>
            <a:off x="1882440" y="3289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Segoe UI"/>
              </a:rPr>
              <a:t>市场份额</a:t>
            </a:r>
            <a:endParaRPr b="0" lang="en-US" sz="3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5373000" y="2655720"/>
            <a:ext cx="173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UI"/>
              </a:rPr>
              <a:t>75%</a:t>
            </a:r>
            <a:endParaRPr b="0" lang="en-US" sz="60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80" name="直接连接符 20" descr=""/>
          <p:cNvPicPr/>
          <p:nvPr/>
        </p:nvPicPr>
        <p:blipFill>
          <a:blip r:embed="rId4"/>
          <a:stretch/>
        </p:blipFill>
        <p:spPr>
          <a:xfrm>
            <a:off x="3919680" y="804960"/>
            <a:ext cx="12600" cy="4211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92720" y="1781280"/>
            <a:ext cx="1608120" cy="320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2" name=""/>
          <p:cNvSpPr/>
          <p:nvPr/>
        </p:nvSpPr>
        <p:spPr>
          <a:xfrm>
            <a:off x="4575240" y="2111400"/>
            <a:ext cx="3232080" cy="2247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292720" y="1562040"/>
            <a:ext cx="2448000" cy="1562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3594600" y="3389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04a7b"/>
                </a:solidFill>
                <a:latin typeface="Segoe UI"/>
              </a:rPr>
              <a:t>矢量素材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059280" y="1625760"/>
            <a:ext cx="1563480" cy="1562040"/>
            <a:chOff x="3059280" y="1625760"/>
            <a:chExt cx="1563480" cy="1562040"/>
          </a:xfrm>
        </p:grpSpPr>
        <p:sp>
          <p:nvSpPr>
            <p:cNvPr id="186" name="矩形 14"/>
            <p:cNvSpPr/>
            <p:nvPr/>
          </p:nvSpPr>
          <p:spPr>
            <a:xfrm>
              <a:off x="3059280" y="2077200"/>
              <a:ext cx="1563480" cy="142200"/>
            </a:xfrm>
            <a:prstGeom prst="rect">
              <a:avLst/>
            </a:prstGeom>
            <a:solidFill>
              <a:srgbClr val="c4bd9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87" name="矩形 15"/>
            <p:cNvSpPr/>
            <p:nvPr/>
          </p:nvSpPr>
          <p:spPr>
            <a:xfrm>
              <a:off x="3059280" y="1959480"/>
              <a:ext cx="1563480" cy="45360"/>
            </a:xfrm>
            <a:prstGeom prst="rect">
              <a:avLst/>
            </a:prstGeom>
            <a:solidFill>
              <a:srgbClr val="d7e4bd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88" name="矩形 16"/>
            <p:cNvSpPr/>
            <p:nvPr/>
          </p:nvSpPr>
          <p:spPr>
            <a:xfrm>
              <a:off x="3059280" y="2592360"/>
              <a:ext cx="1563480" cy="106560"/>
            </a:xfrm>
            <a:prstGeom prst="rect">
              <a:avLst/>
            </a:prstGeom>
            <a:solidFill>
              <a:srgbClr val="ddd9c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89" name="矩形 17"/>
            <p:cNvSpPr/>
            <p:nvPr/>
          </p:nvSpPr>
          <p:spPr>
            <a:xfrm>
              <a:off x="3059280" y="2845440"/>
              <a:ext cx="1563480" cy="45360"/>
            </a:xfrm>
            <a:prstGeom prst="rect">
              <a:avLst/>
            </a:prstGeom>
            <a:solidFill>
              <a:srgbClr val="e6b9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90" name="矩形 18"/>
            <p:cNvSpPr/>
            <p:nvPr/>
          </p:nvSpPr>
          <p:spPr>
            <a:xfrm rot="5400000">
              <a:off x="3344400" y="2327040"/>
              <a:ext cx="1562040" cy="159480"/>
            </a:xfrm>
            <a:prstGeom prst="rect">
              <a:avLst/>
            </a:prstGeom>
            <a:solidFill>
              <a:srgbClr val="b7dee8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91" name="矩形 19"/>
            <p:cNvSpPr/>
            <p:nvPr/>
          </p:nvSpPr>
          <p:spPr>
            <a:xfrm rot="5400000">
              <a:off x="3519000" y="2383920"/>
              <a:ext cx="1562040" cy="45720"/>
            </a:xfrm>
            <a:prstGeom prst="rect">
              <a:avLst/>
            </a:prstGeom>
            <a:solidFill>
              <a:srgbClr val="d7e4b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92" name="矩形 20"/>
            <p:cNvSpPr/>
            <p:nvPr/>
          </p:nvSpPr>
          <p:spPr>
            <a:xfrm rot="5400000">
              <a:off x="2855520" y="2353320"/>
              <a:ext cx="1562040" cy="106920"/>
            </a:xfrm>
            <a:prstGeom prst="rect">
              <a:avLst/>
            </a:prstGeom>
            <a:solidFill>
              <a:srgbClr val="ddd9c3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93" name="矩形 21"/>
            <p:cNvSpPr/>
            <p:nvPr/>
          </p:nvSpPr>
          <p:spPr>
            <a:xfrm rot="5400000">
              <a:off x="2632320" y="2383920"/>
              <a:ext cx="1562040" cy="45720"/>
            </a:xfrm>
            <a:prstGeom prst="rect">
              <a:avLst/>
            </a:prstGeom>
            <a:solidFill>
              <a:srgbClr val="e6b9b8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sp>
        <p:nvSpPr>
          <p:cNvPr id="194" name="TextBox 13"/>
          <p:cNvSpPr/>
          <p:nvPr/>
        </p:nvSpPr>
        <p:spPr>
          <a:xfrm>
            <a:off x="6093360" y="3389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04a7b"/>
                </a:solidFill>
                <a:latin typeface="Segoe UI"/>
              </a:rPr>
              <a:t>填充效果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187280" y="1488960"/>
            <a:ext cx="10195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椭圆 14"/>
          <p:cNvSpPr/>
          <p:nvPr/>
        </p:nvSpPr>
        <p:spPr>
          <a:xfrm>
            <a:off x="1558800" y="3440160"/>
            <a:ext cx="424080" cy="425520"/>
          </a:xfrm>
          <a:prstGeom prst="ellipse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766960" y="2103480"/>
            <a:ext cx="5121360" cy="1438200"/>
            <a:chOff x="2766960" y="2103480"/>
            <a:chExt cx="5121360" cy="1438200"/>
          </a:xfrm>
        </p:grpSpPr>
        <p:pic>
          <p:nvPicPr>
            <p:cNvPr id="198" name="椭圆 26" descr=""/>
            <p:cNvPicPr/>
            <p:nvPr/>
          </p:nvPicPr>
          <p:blipFill>
            <a:blip r:embed="rId2"/>
            <a:stretch/>
          </p:blipFill>
          <p:spPr>
            <a:xfrm>
              <a:off x="2766960" y="2103480"/>
              <a:ext cx="512136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841480" y="2178000"/>
              <a:ext cx="4973760" cy="12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0" rIns="324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a452a"/>
                  </a:solidFill>
                  <a:latin typeface="Segoe UI"/>
                </a:rPr>
                <a:t>前面内容主要适用于</a:t>
              </a:r>
              <a:r>
                <a:rPr b="1" lang="zh-CN" sz="1800" spc="-1" strike="noStrike">
                  <a:solidFill>
                    <a:srgbClr val="953735"/>
                  </a:solidFill>
                  <a:latin typeface="Segoe UI"/>
                </a:rPr>
                <a:t>鼠绘</a:t>
              </a:r>
              <a:r>
                <a:rPr b="1" lang="zh-CN" sz="1800" spc="-1" strike="noStrike">
                  <a:solidFill>
                    <a:srgbClr val="4a452a"/>
                  </a:solidFill>
                  <a:latin typeface="Segoe UI"/>
                </a:rPr>
                <a:t>纹理，这里介绍的是使用</a:t>
              </a:r>
              <a:r>
                <a:rPr b="1" lang="zh-CN" sz="1800" spc="-1" strike="noStrike">
                  <a:solidFill>
                    <a:srgbClr val="953735"/>
                  </a:solidFill>
                  <a:latin typeface="Segoe UI"/>
                </a:rPr>
                <a:t>现有图片</a:t>
              </a:r>
              <a:r>
                <a:rPr b="1" lang="zh-CN" sz="1800" spc="-1" strike="noStrike">
                  <a:solidFill>
                    <a:srgbClr val="4a452a"/>
                  </a:solidFill>
                  <a:latin typeface="Segoe UI"/>
                </a:rPr>
                <a:t>制作纹理。此类图片的特点是颜色较为单一，图案重复。</a:t>
              </a: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431040" y="3389400"/>
            <a:ext cx="1176120" cy="304560"/>
            <a:chOff x="6431040" y="3389400"/>
            <a:chExt cx="1176120" cy="304560"/>
          </a:xfrm>
        </p:grpSpPr>
        <p:pic>
          <p:nvPicPr>
            <p:cNvPr id="201" name="圆角矩形 16" descr=""/>
            <p:cNvPicPr/>
            <p:nvPr/>
          </p:nvPicPr>
          <p:blipFill>
            <a:blip r:embed="rId3"/>
            <a:stretch/>
          </p:blipFill>
          <p:spPr>
            <a:xfrm>
              <a:off x="6431040" y="3389400"/>
              <a:ext cx="11761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457680" y="3416040"/>
              <a:ext cx="11235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dd9c3"/>
                  </a:solidFill>
                  <a:latin typeface="Segoe UI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sp>
        <p:nvSpPr>
          <p:cNvPr id="203" name="TextBox 5"/>
          <p:cNvSpPr/>
          <p:nvPr/>
        </p:nvSpPr>
        <p:spPr>
          <a:xfrm>
            <a:off x="1187280" y="3948120"/>
            <a:ext cx="1121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452a"/>
                </a:solidFill>
                <a:latin typeface="Segoe UI"/>
              </a:rPr>
              <a:t>图片裁剪法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1044720" y="1019160"/>
            <a:ext cx="10191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3" descr=""/>
          <p:cNvPicPr/>
          <p:nvPr/>
        </p:nvPicPr>
        <p:blipFill>
          <a:blip r:embed="rId2"/>
          <a:srcRect l="184" t="0" r="0" b="0"/>
          <a:stretch/>
        </p:blipFill>
        <p:spPr>
          <a:xfrm>
            <a:off x="3297240" y="1273320"/>
            <a:ext cx="1201680" cy="120168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2766960" y="3219480"/>
            <a:ext cx="5121360" cy="1876320"/>
            <a:chOff x="2766960" y="3219480"/>
            <a:chExt cx="5121360" cy="1876320"/>
          </a:xfrm>
        </p:grpSpPr>
        <p:pic>
          <p:nvPicPr>
            <p:cNvPr id="207" name="椭圆 26" descr=""/>
            <p:cNvPicPr/>
            <p:nvPr/>
          </p:nvPicPr>
          <p:blipFill>
            <a:blip r:embed="rId3"/>
            <a:stretch/>
          </p:blipFill>
          <p:spPr>
            <a:xfrm>
              <a:off x="2766960" y="3219480"/>
              <a:ext cx="512136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862360" y="3317760"/>
              <a:ext cx="493056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0" rIns="324000" tIns="46800" bIns="46800" anchor="ctr">
              <a:noAutofit/>
            </a:bodyPr>
            <a:p>
              <a:pPr marL="343080" indent="-343080">
                <a:lnSpc>
                  <a:spcPct val="130000"/>
                </a:lnSpc>
                <a:buClr>
                  <a:srgbClr val="4a452a"/>
                </a:buClr>
                <a:buFont typeface="Segoe UI"/>
                <a:buAutoNum type="alphaL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a452a"/>
                  </a:solidFill>
                  <a:latin typeface="Segoe UI"/>
                </a:rPr>
                <a:t>将图片导入</a:t>
              </a:r>
              <a:r>
                <a:rPr b="0" lang="en-US" sz="1800" spc="-1" strike="noStrike">
                  <a:solidFill>
                    <a:srgbClr val="4a452a"/>
                  </a:solidFill>
                  <a:latin typeface="Segoe UI"/>
                </a:rPr>
                <a:t>PPT</a:t>
              </a:r>
              <a:r>
                <a:rPr b="0" lang="zh-CN" sz="1800" spc="-1" strike="noStrike">
                  <a:solidFill>
                    <a:srgbClr val="4a452a"/>
                  </a:solidFill>
                  <a:latin typeface="Segoe UI"/>
                </a:rPr>
                <a:t>中</a:t>
              </a: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  <a:p>
              <a:pPr marL="343080" indent="-343080">
                <a:lnSpc>
                  <a:spcPct val="130000"/>
                </a:lnSpc>
                <a:buClr>
                  <a:srgbClr val="4a452a"/>
                </a:buClr>
                <a:buFont typeface="Segoe UI"/>
                <a:buAutoNum type="alphaL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a452a"/>
                  </a:solidFill>
                  <a:latin typeface="Segoe UI"/>
                </a:rPr>
                <a:t>将图片的长宽均设置为</a:t>
              </a:r>
              <a:r>
                <a:rPr b="0" lang="zh-CN" sz="1800" spc="-1" strike="noStrike">
                  <a:solidFill>
                    <a:srgbClr val="4a452a"/>
                  </a:solidFill>
                  <a:latin typeface="Segoe UI"/>
                </a:rPr>
                <a:t>3</a:t>
              </a:r>
              <a:r>
                <a:rPr b="0" lang="en-US" sz="1800" spc="-1" strike="noStrike">
                  <a:solidFill>
                    <a:srgbClr val="4a452a"/>
                  </a:solidFill>
                  <a:latin typeface="Segoe UI"/>
                </a:rPr>
                <a:t>.34cm</a:t>
              </a: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  <a:p>
              <a:pPr marL="343080" indent="-343080">
                <a:lnSpc>
                  <a:spcPct val="130000"/>
                </a:lnSpc>
                <a:buClr>
                  <a:srgbClr val="4a452a"/>
                </a:buClr>
                <a:buFont typeface="Segoe UI"/>
                <a:buAutoNum type="alphaL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a452a"/>
                  </a:solidFill>
                  <a:latin typeface="Segoe UI"/>
                </a:rPr>
                <a:t>另存为图片</a:t>
              </a: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  <a:p>
              <a:pPr marL="343080" indent="-343080">
                <a:lnSpc>
                  <a:spcPct val="130000"/>
                </a:lnSpc>
                <a:buClr>
                  <a:srgbClr val="4a452a"/>
                </a:buClr>
                <a:buFont typeface="Segoe UI"/>
                <a:buAutoNum type="alphaL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a452a"/>
                  </a:solidFill>
                  <a:latin typeface="Segoe UI"/>
                </a:rPr>
                <a:t>填充矩形</a:t>
              </a: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431040" y="4943520"/>
            <a:ext cx="1176120" cy="304920"/>
            <a:chOff x="6431040" y="4943520"/>
            <a:chExt cx="1176120" cy="304920"/>
          </a:xfrm>
        </p:grpSpPr>
        <p:pic>
          <p:nvPicPr>
            <p:cNvPr id="210" name="圆角矩形 12" descr=""/>
            <p:cNvPicPr/>
            <p:nvPr/>
          </p:nvPicPr>
          <p:blipFill>
            <a:blip r:embed="rId4"/>
            <a:stretch/>
          </p:blipFill>
          <p:spPr>
            <a:xfrm>
              <a:off x="6431040" y="4943520"/>
              <a:ext cx="11761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457680" y="4970520"/>
              <a:ext cx="112356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dd9c3"/>
                  </a:solidFill>
                  <a:latin typeface="Segoe UI"/>
                </a:rPr>
                <a:t>Step</a:t>
              </a:r>
              <a:endParaRPr b="0" lang="en-US" sz="16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sp>
        <p:nvSpPr>
          <p:cNvPr id="212" name="矩形 19"/>
          <p:cNvSpPr/>
          <p:nvPr/>
        </p:nvSpPr>
        <p:spPr>
          <a:xfrm>
            <a:off x="5435640" y="985680"/>
            <a:ext cx="2016000" cy="1562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3" name="TextBox 21"/>
          <p:cNvSpPr/>
          <p:nvPr/>
        </p:nvSpPr>
        <p:spPr>
          <a:xfrm>
            <a:off x="3522960" y="2712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a452a"/>
                </a:solidFill>
                <a:latin typeface="Segoe UI"/>
              </a:rPr>
              <a:t>图片素材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4" name="TextBox 22"/>
          <p:cNvSpPr/>
          <p:nvPr/>
        </p:nvSpPr>
        <p:spPr>
          <a:xfrm>
            <a:off x="6021720" y="2712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a452a"/>
                </a:solidFill>
                <a:latin typeface="Segoe UI"/>
              </a:rPr>
              <a:t>填充效果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5" name="椭圆 14"/>
          <p:cNvSpPr/>
          <p:nvPr/>
        </p:nvSpPr>
        <p:spPr>
          <a:xfrm>
            <a:off x="1558800" y="3440160"/>
            <a:ext cx="424080" cy="425520"/>
          </a:xfrm>
          <a:prstGeom prst="ellipse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1187280" y="3948120"/>
            <a:ext cx="1121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452a"/>
                </a:solidFill>
                <a:latin typeface="Segoe UI"/>
              </a:rPr>
              <a:t>图片裁剪法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1044720" y="1019160"/>
            <a:ext cx="10191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1" descr=""/>
          <p:cNvPicPr/>
          <p:nvPr/>
        </p:nvPicPr>
        <p:blipFill>
          <a:blip r:embed="rId2"/>
          <a:srcRect l="0" t="0" r="73707" b="57928"/>
          <a:stretch/>
        </p:blipFill>
        <p:spPr>
          <a:xfrm>
            <a:off x="4594320" y="1438200"/>
            <a:ext cx="1201680" cy="120348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2620800" y="3362400"/>
            <a:ext cx="5559480" cy="1384200"/>
            <a:chOff x="2620800" y="3362400"/>
            <a:chExt cx="5559480" cy="1384200"/>
          </a:xfrm>
        </p:grpSpPr>
        <p:pic>
          <p:nvPicPr>
            <p:cNvPr id="220" name="椭圆 26" descr=""/>
            <p:cNvPicPr/>
            <p:nvPr/>
          </p:nvPicPr>
          <p:blipFill>
            <a:blip r:embed="rId3"/>
            <a:stretch/>
          </p:blipFill>
          <p:spPr>
            <a:xfrm>
              <a:off x="2620800" y="3362400"/>
              <a:ext cx="555948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2693880" y="3438720"/>
              <a:ext cx="541188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0" rIns="324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a452a"/>
                  </a:solidFill>
                  <a:latin typeface="Segoe UI"/>
                </a:rPr>
                <a:t>针对图案重复的图片，</a:t>
              </a:r>
              <a:r>
                <a:rPr b="0" lang="zh-CN" sz="1800" spc="-1" strike="noStrike">
                  <a:solidFill>
                    <a:srgbClr val="4a452a"/>
                  </a:solidFill>
                  <a:latin typeface="Segoe UI"/>
                </a:rPr>
                <a:t>先用“图片大小推测”里的方法确认并裁剪保留</a:t>
              </a:r>
              <a:r>
                <a:rPr b="1" lang="zh-CN" sz="1800" spc="-1" strike="noStrike">
                  <a:solidFill>
                    <a:srgbClr val="4a452a"/>
                  </a:solidFill>
                  <a:latin typeface="Segoe UI"/>
                </a:rPr>
                <a:t>基础图案</a:t>
              </a: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504120" y="4594320"/>
            <a:ext cx="1176120" cy="304560"/>
            <a:chOff x="6504120" y="4594320"/>
            <a:chExt cx="1176120" cy="304560"/>
          </a:xfrm>
        </p:grpSpPr>
        <p:pic>
          <p:nvPicPr>
            <p:cNvPr id="223" name="圆角矩形 12" descr=""/>
            <p:cNvPicPr/>
            <p:nvPr/>
          </p:nvPicPr>
          <p:blipFill>
            <a:blip r:embed="rId4"/>
            <a:stretch/>
          </p:blipFill>
          <p:spPr>
            <a:xfrm>
              <a:off x="6504120" y="4594320"/>
              <a:ext cx="11761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530760" y="4622400"/>
              <a:ext cx="11235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dd9c3"/>
                  </a:solidFill>
                  <a:latin typeface="Segoe UI"/>
                </a:rPr>
                <a:t>Step</a:t>
              </a:r>
              <a:endParaRPr b="0" lang="en-US" sz="16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sp>
        <p:nvSpPr>
          <p:cNvPr id="225" name="矩形 19"/>
          <p:cNvSpPr/>
          <p:nvPr/>
        </p:nvSpPr>
        <p:spPr>
          <a:xfrm>
            <a:off x="6156360" y="1128600"/>
            <a:ext cx="2016000" cy="1563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6" name="TextBox 21"/>
          <p:cNvSpPr/>
          <p:nvPr/>
        </p:nvSpPr>
        <p:spPr>
          <a:xfrm>
            <a:off x="3020040" y="2857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a452a"/>
                </a:solidFill>
                <a:latin typeface="Segoe UI"/>
              </a:rPr>
              <a:t>图片素材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7" name="TextBox 22"/>
          <p:cNvSpPr/>
          <p:nvPr/>
        </p:nvSpPr>
        <p:spPr>
          <a:xfrm>
            <a:off x="6741000" y="2857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a452a"/>
                </a:solidFill>
                <a:latin typeface="Segoe UI"/>
              </a:rPr>
              <a:t>填充效果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4691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a452a"/>
                </a:solidFill>
                <a:latin typeface="Segoe UI"/>
              </a:rPr>
              <a:t>保留基础图案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229" name="图片 2" descr=""/>
          <p:cNvPicPr/>
          <p:nvPr/>
        </p:nvPicPr>
        <p:blipFill>
          <a:blip r:embed="rId6"/>
          <a:stretch/>
        </p:blipFill>
        <p:spPr>
          <a:xfrm>
            <a:off x="2681280" y="1554120"/>
            <a:ext cx="1508040" cy="94284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  <p:sp>
        <p:nvSpPr>
          <p:cNvPr id="230" name="椭圆 14"/>
          <p:cNvSpPr/>
          <p:nvPr/>
        </p:nvSpPr>
        <p:spPr>
          <a:xfrm>
            <a:off x="1558800" y="3440160"/>
            <a:ext cx="424080" cy="425520"/>
          </a:xfrm>
          <a:prstGeom prst="ellipse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187280" y="3948120"/>
            <a:ext cx="1121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452a"/>
                </a:solidFill>
                <a:latin typeface="Segoe UI"/>
              </a:rPr>
              <a:t>图片裁剪法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1044720" y="1019160"/>
            <a:ext cx="1019160" cy="24861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68360" y="51624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egoe UI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Segoe UI"/>
                <a:hlinkClick r:id="rId8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Segoe U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Segoe UI"/>
              </a:rPr>
              <a:t>http://www.eeppt.com/moban/c</a:t>
            </a:r>
            <a:endParaRPr b="0" lang="en-US" sz="16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14" descr=""/>
          <p:cNvPicPr/>
          <p:nvPr/>
        </p:nvPicPr>
        <p:blipFill>
          <a:blip r:embed="rId2"/>
          <a:srcRect l="86478" t="0" r="1359" b="0"/>
          <a:stretch/>
        </p:blipFill>
        <p:spPr>
          <a:xfrm>
            <a:off x="4572000" y="1273320"/>
            <a:ext cx="1203480" cy="12016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17" descr=""/>
          <p:cNvPicPr/>
          <p:nvPr/>
        </p:nvPicPr>
        <p:blipFill>
          <a:blip r:embed="rId3"/>
          <a:stretch/>
        </p:blipFill>
        <p:spPr>
          <a:xfrm>
            <a:off x="2627280" y="1355760"/>
            <a:ext cx="1562040" cy="110952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  <p:grpSp>
        <p:nvGrpSpPr>
          <p:cNvPr id="236" name=""/>
          <p:cNvGrpSpPr/>
          <p:nvPr/>
        </p:nvGrpSpPr>
        <p:grpSpPr>
          <a:xfrm>
            <a:off x="2620800" y="3362400"/>
            <a:ext cx="5559480" cy="1384200"/>
            <a:chOff x="2620800" y="3362400"/>
            <a:chExt cx="5559480" cy="1384200"/>
          </a:xfrm>
        </p:grpSpPr>
        <p:pic>
          <p:nvPicPr>
            <p:cNvPr id="237" name="椭圆 26" descr=""/>
            <p:cNvPicPr/>
            <p:nvPr/>
          </p:nvPicPr>
          <p:blipFill>
            <a:blip r:embed="rId4"/>
            <a:stretch/>
          </p:blipFill>
          <p:spPr>
            <a:xfrm>
              <a:off x="2620800" y="3362400"/>
              <a:ext cx="555948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2693880" y="3438720"/>
              <a:ext cx="541188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0" rIns="324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a452a"/>
                  </a:solidFill>
                  <a:latin typeface="Segoe UI"/>
                </a:rPr>
                <a:t>针对稍微有渐变色的图片，</a:t>
              </a:r>
              <a:r>
                <a:rPr b="0" lang="zh-CN" sz="1800" spc="-1" strike="noStrike">
                  <a:solidFill>
                    <a:srgbClr val="4a452a"/>
                  </a:solidFill>
                  <a:latin typeface="Segoe UI"/>
                </a:rPr>
                <a:t>先将有渐变色的部分裁剪掉，然后制作纹理</a:t>
              </a: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504120" y="4594320"/>
            <a:ext cx="1176120" cy="304560"/>
            <a:chOff x="6504120" y="4594320"/>
            <a:chExt cx="1176120" cy="304560"/>
          </a:xfrm>
        </p:grpSpPr>
        <p:pic>
          <p:nvPicPr>
            <p:cNvPr id="240" name="圆角矩形 12" descr=""/>
            <p:cNvPicPr/>
            <p:nvPr/>
          </p:nvPicPr>
          <p:blipFill>
            <a:blip r:embed="rId5"/>
            <a:stretch/>
          </p:blipFill>
          <p:spPr>
            <a:xfrm>
              <a:off x="6504120" y="4594320"/>
              <a:ext cx="11761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530760" y="4622400"/>
              <a:ext cx="11235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dd9c3"/>
                  </a:solidFill>
                  <a:latin typeface="Segoe UI"/>
                </a:rPr>
                <a:t>Step</a:t>
              </a:r>
              <a:endParaRPr b="0" lang="en-US" sz="16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sp>
        <p:nvSpPr>
          <p:cNvPr id="242" name="矩形 19"/>
          <p:cNvSpPr/>
          <p:nvPr/>
        </p:nvSpPr>
        <p:spPr>
          <a:xfrm>
            <a:off x="6156360" y="1128600"/>
            <a:ext cx="2016000" cy="1563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3" name="TextBox 21"/>
          <p:cNvSpPr/>
          <p:nvPr/>
        </p:nvSpPr>
        <p:spPr>
          <a:xfrm>
            <a:off x="3020040" y="2857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a452a"/>
                </a:solidFill>
                <a:latin typeface="Segoe UI"/>
              </a:rPr>
              <a:t>图片素材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4" name="TextBox 22"/>
          <p:cNvSpPr/>
          <p:nvPr/>
        </p:nvSpPr>
        <p:spPr>
          <a:xfrm>
            <a:off x="6741000" y="2857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a452a"/>
                </a:solidFill>
                <a:latin typeface="Segoe UI"/>
              </a:rPr>
              <a:t>填充效果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5" name="TextBox 13"/>
          <p:cNvSpPr/>
          <p:nvPr/>
        </p:nvSpPr>
        <p:spPr>
          <a:xfrm>
            <a:off x="4691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a452a"/>
                </a:solidFill>
                <a:latin typeface="Segoe UI"/>
              </a:rPr>
              <a:t>裁剪掉渐变色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6" name="椭圆 14"/>
          <p:cNvSpPr/>
          <p:nvPr/>
        </p:nvSpPr>
        <p:spPr>
          <a:xfrm>
            <a:off x="1558800" y="3440160"/>
            <a:ext cx="424080" cy="425520"/>
          </a:xfrm>
          <a:prstGeom prst="ellipse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187280" y="3948120"/>
            <a:ext cx="1121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452a"/>
                </a:solidFill>
                <a:latin typeface="Segoe UI"/>
              </a:rPr>
              <a:t>图片裁剪法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1044720" y="1019160"/>
            <a:ext cx="10191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图片 27" descr=""/>
          <p:cNvPicPr/>
          <p:nvPr/>
        </p:nvPicPr>
        <p:blipFill>
          <a:blip r:embed="rId2"/>
          <a:srcRect l="13661" t="4814" r="52361" b="83847"/>
          <a:stretch/>
        </p:blipFill>
        <p:spPr>
          <a:xfrm>
            <a:off x="4572000" y="1346040"/>
            <a:ext cx="1192320" cy="120204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5" descr=""/>
          <p:cNvPicPr/>
          <p:nvPr/>
        </p:nvPicPr>
        <p:blipFill>
          <a:blip r:embed="rId3"/>
          <a:srcRect l="0" t="0" r="37094" b="20437"/>
          <a:stretch/>
        </p:blipFill>
        <p:spPr>
          <a:xfrm>
            <a:off x="2627280" y="1333440"/>
            <a:ext cx="1562040" cy="123660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  <p:grpSp>
        <p:nvGrpSpPr>
          <p:cNvPr id="251" name=""/>
          <p:cNvGrpSpPr/>
          <p:nvPr/>
        </p:nvGrpSpPr>
        <p:grpSpPr>
          <a:xfrm>
            <a:off x="2620800" y="3362400"/>
            <a:ext cx="5559480" cy="1384200"/>
            <a:chOff x="2620800" y="3362400"/>
            <a:chExt cx="5559480" cy="1384200"/>
          </a:xfrm>
        </p:grpSpPr>
        <p:pic>
          <p:nvPicPr>
            <p:cNvPr id="252" name="椭圆 26" descr=""/>
            <p:cNvPicPr/>
            <p:nvPr/>
          </p:nvPicPr>
          <p:blipFill>
            <a:blip r:embed="rId4"/>
            <a:stretch/>
          </p:blipFill>
          <p:spPr>
            <a:xfrm>
              <a:off x="2620800" y="3362400"/>
              <a:ext cx="555948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693880" y="3438720"/>
              <a:ext cx="541188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0" rIns="324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a452a"/>
                  </a:solidFill>
                  <a:latin typeface="Segoe UI"/>
                </a:rPr>
                <a:t>针对既有渐变色，重复性又不高的图片，</a:t>
              </a:r>
              <a:r>
                <a:rPr b="0" lang="zh-CN" sz="1800" spc="-1" strike="noStrike">
                  <a:solidFill>
                    <a:srgbClr val="4a452a"/>
                  </a:solidFill>
                  <a:latin typeface="Segoe UI"/>
                </a:rPr>
                <a:t>只能取其中一小段，再制作纹理。</a:t>
              </a: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504120" y="4594320"/>
            <a:ext cx="1176120" cy="304560"/>
            <a:chOff x="6504120" y="4594320"/>
            <a:chExt cx="1176120" cy="304560"/>
          </a:xfrm>
        </p:grpSpPr>
        <p:pic>
          <p:nvPicPr>
            <p:cNvPr id="255" name="圆角矩形 12" descr=""/>
            <p:cNvPicPr/>
            <p:nvPr/>
          </p:nvPicPr>
          <p:blipFill>
            <a:blip r:embed="rId5"/>
            <a:stretch/>
          </p:blipFill>
          <p:spPr>
            <a:xfrm>
              <a:off x="6504120" y="4594320"/>
              <a:ext cx="11761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6530760" y="4622400"/>
              <a:ext cx="11235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dd9c3"/>
                  </a:solidFill>
                  <a:latin typeface="Segoe UI"/>
                </a:rPr>
                <a:t>Step</a:t>
              </a:r>
              <a:endParaRPr b="0" lang="en-US" sz="16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sp>
        <p:nvSpPr>
          <p:cNvPr id="257" name="矩形 19"/>
          <p:cNvSpPr/>
          <p:nvPr/>
        </p:nvSpPr>
        <p:spPr>
          <a:xfrm>
            <a:off x="6156360" y="1128600"/>
            <a:ext cx="2016000" cy="1563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8" name="TextBox 21"/>
          <p:cNvSpPr/>
          <p:nvPr/>
        </p:nvSpPr>
        <p:spPr>
          <a:xfrm>
            <a:off x="3020040" y="2857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a452a"/>
                </a:solidFill>
                <a:latin typeface="Segoe UI"/>
              </a:rPr>
              <a:t>图片素材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59" name="TextBox 22"/>
          <p:cNvSpPr/>
          <p:nvPr/>
        </p:nvSpPr>
        <p:spPr>
          <a:xfrm>
            <a:off x="6741000" y="2857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a452a"/>
                </a:solidFill>
                <a:latin typeface="Segoe UI"/>
              </a:rPr>
              <a:t>填充效果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0" name="TextBox 13"/>
          <p:cNvSpPr/>
          <p:nvPr/>
        </p:nvSpPr>
        <p:spPr>
          <a:xfrm>
            <a:off x="4691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a452a"/>
                </a:solidFill>
                <a:latin typeface="Segoe UI"/>
              </a:rPr>
              <a:t>取合适的片段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1" name="椭圆 14"/>
          <p:cNvSpPr/>
          <p:nvPr/>
        </p:nvSpPr>
        <p:spPr>
          <a:xfrm>
            <a:off x="1558800" y="3440160"/>
            <a:ext cx="424080" cy="425520"/>
          </a:xfrm>
          <a:prstGeom prst="ellipse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2" name="TextBox 5"/>
          <p:cNvSpPr/>
          <p:nvPr/>
        </p:nvSpPr>
        <p:spPr>
          <a:xfrm>
            <a:off x="1187280" y="3948120"/>
            <a:ext cx="1121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452a"/>
                </a:solidFill>
                <a:latin typeface="Segoe UI"/>
              </a:rPr>
              <a:t>图片裁剪法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7"/>
          <a:stretch/>
        </p:blipFill>
        <p:spPr>
          <a:xfrm>
            <a:off x="1044720" y="1019160"/>
            <a:ext cx="10191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-266760" y="-266760"/>
            <a:ext cx="9696600" cy="6203880"/>
            <a:chOff x="-266760" y="-266760"/>
            <a:chExt cx="9696600" cy="6203880"/>
          </a:xfrm>
        </p:grpSpPr>
        <p:pic>
          <p:nvPicPr>
            <p:cNvPr id="265" name="矩形 3" descr=""/>
            <p:cNvPicPr/>
            <p:nvPr/>
          </p:nvPicPr>
          <p:blipFill>
            <a:blip r:embed="rId2"/>
            <a:stretch/>
          </p:blipFill>
          <p:spPr>
            <a:xfrm>
              <a:off x="-266760" y="-266760"/>
              <a:ext cx="9696600" cy="620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0160" y="-14400"/>
              <a:ext cx="9123840" cy="57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sp>
        <p:nvSpPr>
          <p:cNvPr id="267" name="圆角矩形 4"/>
          <p:cNvSpPr/>
          <p:nvPr/>
        </p:nvSpPr>
        <p:spPr>
          <a:xfrm>
            <a:off x="2050920" y="1344600"/>
            <a:ext cx="5042160" cy="288144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0">
            <a:noFill/>
          </a:ln>
          <a:effectLst>
            <a:outerShdw dist="153753" dir="2700000" blurRad="0" rotWithShape="0">
              <a:srgbClr val="604a7b">
                <a:alpha val="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8" name="标题 1"/>
          <p:cNvSpPr/>
          <p:nvPr/>
        </p:nvSpPr>
        <p:spPr>
          <a:xfrm>
            <a:off x="760320" y="18478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15968"/>
                </a:solidFill>
                <a:latin typeface="Segoe UI"/>
              </a:rPr>
              <a:t>END</a:t>
            </a:r>
            <a:endParaRPr b="0" lang="en-US" sz="4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69" name="副标题 2"/>
          <p:cNvSpPr/>
          <p:nvPr/>
        </p:nvSpPr>
        <p:spPr>
          <a:xfrm>
            <a:off x="3133800" y="3022560"/>
            <a:ext cx="3024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Segoe UI"/>
              </a:rPr>
              <a:t>By</a:t>
            </a:r>
            <a:r>
              <a:rPr b="0" lang="zh-CN" sz="1800" spc="-1" strike="noStrike">
                <a:solidFill>
                  <a:srgbClr val="0d0d0d"/>
                </a:solidFill>
                <a:latin typeface="Segoe UI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Segoe UI"/>
              </a:rPr>
              <a:t>使用规范说明</a:t>
            </a:r>
            <a:endParaRPr b="1" lang="en-US" sz="3200" spc="-1" strike="noStrike">
              <a:solidFill>
                <a:srgbClr val="7f7f7f"/>
              </a:solidFill>
              <a:latin typeface="Segoe U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Segoe U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Segoe U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Segoe U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Segoe U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Segoe U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Segoe U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Segoe U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Segoe U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Segoe U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Segoe U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Segoe U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Segoe U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8A2F-4C4E-445F-98E6-93F352F3F6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13080" y="1112760"/>
            <a:ext cx="4464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Segoe UI"/>
              </a:rPr>
              <a:t>标题</a:t>
            </a:r>
            <a:endParaRPr b="1" lang="en-US" sz="3200" spc="-1" strike="noStrike">
              <a:solidFill>
                <a:srgbClr val="7f7f7f"/>
              </a:solidFill>
              <a:latin typeface="Segoe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60360" y="1994040"/>
            <a:ext cx="65628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egoe UI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3"/>
          <p:cNvSpPr/>
          <p:nvPr/>
        </p:nvSpPr>
        <p:spPr>
          <a:xfrm>
            <a:off x="2674800" y="595440"/>
            <a:ext cx="804960" cy="80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3571920" y="595440"/>
            <a:ext cx="804960" cy="804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468680" y="595440"/>
            <a:ext cx="804960" cy="804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5365800" y="595440"/>
            <a:ext cx="806400" cy="804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6267600" y="595440"/>
            <a:ext cx="804600" cy="804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7151760" y="595440"/>
            <a:ext cx="804960" cy="804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2674800" y="1459080"/>
            <a:ext cx="804960" cy="804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Segoe UI"/>
              </a:rPr>
              <a:t>皮革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6" name="矩形 10"/>
          <p:cNvSpPr/>
          <p:nvPr/>
        </p:nvSpPr>
        <p:spPr>
          <a:xfrm>
            <a:off x="3571920" y="1459080"/>
            <a:ext cx="804960" cy="804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Segoe UI"/>
              </a:rPr>
              <a:t>放射图案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7" name="矩形 11"/>
          <p:cNvSpPr/>
          <p:nvPr/>
        </p:nvSpPr>
        <p:spPr>
          <a:xfrm>
            <a:off x="4468680" y="1459080"/>
            <a:ext cx="804960" cy="804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Segoe UI"/>
              </a:rPr>
              <a:t>粗布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8" name="矩形 12"/>
          <p:cNvSpPr/>
          <p:nvPr/>
        </p:nvSpPr>
        <p:spPr>
          <a:xfrm>
            <a:off x="5365800" y="1459080"/>
            <a:ext cx="804960" cy="8046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Segoe UI"/>
              </a:rPr>
              <a:t>有色纸</a:t>
            </a:r>
            <a:r>
              <a:rPr b="0" lang="zh-CN" sz="1200" spc="-1" strike="noStrike">
                <a:solidFill>
                  <a:srgbClr val="0d0d0d"/>
                </a:solidFill>
                <a:latin typeface="Segoe U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59" name="矩形 14"/>
          <p:cNvSpPr/>
          <p:nvPr/>
        </p:nvSpPr>
        <p:spPr>
          <a:xfrm>
            <a:off x="6267600" y="1459080"/>
            <a:ext cx="804600" cy="804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Segoe UI"/>
              </a:rPr>
              <a:t>有色纸</a:t>
            </a:r>
            <a:r>
              <a:rPr b="0" lang="zh-CN" sz="1200" spc="-1" strike="noStrike">
                <a:solidFill>
                  <a:srgbClr val="0d0d0d"/>
                </a:solidFill>
                <a:latin typeface="Segoe U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0" name="矩形 15"/>
          <p:cNvSpPr/>
          <p:nvPr/>
        </p:nvSpPr>
        <p:spPr>
          <a:xfrm>
            <a:off x="7151760" y="1459080"/>
            <a:ext cx="804960" cy="804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Segoe UI"/>
              </a:rPr>
              <a:t>有色纸</a:t>
            </a:r>
            <a:r>
              <a:rPr b="0" lang="zh-CN" sz="1200" spc="-1" strike="noStrike">
                <a:solidFill>
                  <a:srgbClr val="0d0d0d"/>
                </a:solidFill>
                <a:latin typeface="Segoe U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1" name="矩形 16"/>
          <p:cNvSpPr/>
          <p:nvPr/>
        </p:nvSpPr>
        <p:spPr>
          <a:xfrm>
            <a:off x="2674800" y="2324160"/>
            <a:ext cx="804960" cy="8049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Segoe UI"/>
              </a:rPr>
              <a:t>横格纸纹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2" name="矩形 17"/>
          <p:cNvSpPr/>
          <p:nvPr/>
        </p:nvSpPr>
        <p:spPr>
          <a:xfrm>
            <a:off x="3571920" y="2324160"/>
            <a:ext cx="804960" cy="8049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Segoe UI"/>
              </a:rPr>
              <a:t>泥土</a:t>
            </a:r>
            <a:r>
              <a:rPr b="0" lang="zh-CN" sz="1200" spc="-1" strike="noStrike">
                <a:solidFill>
                  <a:srgbClr val="0d0d0d"/>
                </a:solidFill>
                <a:latin typeface="Segoe U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3" name="矩形 18"/>
          <p:cNvSpPr/>
          <p:nvPr/>
        </p:nvSpPr>
        <p:spPr>
          <a:xfrm>
            <a:off x="4468680" y="2324160"/>
            <a:ext cx="804960" cy="8031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Segoe UI"/>
              </a:rPr>
              <a:t>泥土</a:t>
            </a:r>
            <a:r>
              <a:rPr b="0" lang="zh-CN" sz="1200" spc="-1" strike="noStrike">
                <a:solidFill>
                  <a:srgbClr val="0d0d0d"/>
                </a:solidFill>
                <a:latin typeface="Segoe U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4" name="矩形 19"/>
          <p:cNvSpPr/>
          <p:nvPr/>
        </p:nvSpPr>
        <p:spPr>
          <a:xfrm>
            <a:off x="5365800" y="2324160"/>
            <a:ext cx="806400" cy="8031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Segoe UI"/>
              </a:rPr>
              <a:t>兽皮纹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5" name="矩形 20"/>
          <p:cNvSpPr/>
          <p:nvPr/>
        </p:nvSpPr>
        <p:spPr>
          <a:xfrm>
            <a:off x="6267600" y="2324160"/>
            <a:ext cx="804600" cy="8031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Segoe UI"/>
              </a:rPr>
              <a:t>金山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6" name="矩形 21"/>
          <p:cNvSpPr/>
          <p:nvPr/>
        </p:nvSpPr>
        <p:spPr>
          <a:xfrm>
            <a:off x="7151760" y="2324160"/>
            <a:ext cx="804960" cy="8031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Segoe UI"/>
              </a:rPr>
              <a:t>绒布条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7" name="矩形 22"/>
          <p:cNvSpPr/>
          <p:nvPr/>
        </p:nvSpPr>
        <p:spPr>
          <a:xfrm>
            <a:off x="2674800" y="3187800"/>
            <a:ext cx="804960" cy="8031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Segoe UI"/>
              </a:rPr>
              <a:t>旧棉布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8" name="矩形 23"/>
          <p:cNvSpPr/>
          <p:nvPr/>
        </p:nvSpPr>
        <p:spPr>
          <a:xfrm>
            <a:off x="3571920" y="3187800"/>
            <a:ext cx="804960" cy="80460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Segoe UI"/>
              </a:rPr>
              <a:t>方格</a:t>
            </a:r>
            <a:r>
              <a:rPr b="0" lang="zh-CN" sz="1200" spc="-1" strike="noStrike">
                <a:solidFill>
                  <a:srgbClr val="0d0d0d"/>
                </a:solidFill>
                <a:latin typeface="Segoe U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9" name="矩形 24"/>
          <p:cNvSpPr/>
          <p:nvPr/>
        </p:nvSpPr>
        <p:spPr>
          <a:xfrm>
            <a:off x="4468680" y="3187800"/>
            <a:ext cx="804960" cy="8046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Segoe UI"/>
              </a:rPr>
              <a:t>方格</a:t>
            </a:r>
            <a:r>
              <a:rPr b="0" lang="zh-CN" sz="1200" spc="-1" strike="noStrike">
                <a:solidFill>
                  <a:srgbClr val="000000"/>
                </a:solidFill>
                <a:latin typeface="Segoe U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0" name="矩形 25"/>
          <p:cNvSpPr/>
          <p:nvPr/>
        </p:nvSpPr>
        <p:spPr>
          <a:xfrm>
            <a:off x="5365800" y="3187800"/>
            <a:ext cx="804960" cy="8046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Segoe UI"/>
              </a:rPr>
              <a:t>方格布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1" name="矩形 26"/>
          <p:cNvSpPr/>
          <p:nvPr/>
        </p:nvSpPr>
        <p:spPr>
          <a:xfrm>
            <a:off x="6267600" y="3187800"/>
            <a:ext cx="804600" cy="80460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Segoe UI"/>
              </a:rPr>
              <a:t>纸纹</a:t>
            </a:r>
            <a:r>
              <a:rPr b="0" lang="zh-CN" sz="1200" spc="-1" strike="noStrike">
                <a:solidFill>
                  <a:srgbClr val="000000"/>
                </a:solidFill>
                <a:latin typeface="Segoe U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2" name="矩形 26"/>
          <p:cNvSpPr/>
          <p:nvPr/>
        </p:nvSpPr>
        <p:spPr>
          <a:xfrm>
            <a:off x="5365800" y="4068720"/>
            <a:ext cx="806400" cy="80496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Segoe UI"/>
              </a:rPr>
              <a:t>深色木质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3" name="矩形 23"/>
          <p:cNvSpPr/>
          <p:nvPr/>
        </p:nvSpPr>
        <p:spPr>
          <a:xfrm>
            <a:off x="7151760" y="3187800"/>
            <a:ext cx="804960" cy="80460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Segoe UI"/>
              </a:rPr>
              <a:t>纸纹</a:t>
            </a:r>
            <a:r>
              <a:rPr b="0" lang="zh-CN" sz="1200" spc="-1" strike="noStrike">
                <a:solidFill>
                  <a:srgbClr val="ffffff"/>
                </a:solidFill>
                <a:latin typeface="Segoe U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4" name="矩形 24"/>
          <p:cNvSpPr/>
          <p:nvPr/>
        </p:nvSpPr>
        <p:spPr>
          <a:xfrm>
            <a:off x="2674800" y="4051440"/>
            <a:ext cx="804960" cy="8046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Segoe UI"/>
              </a:rPr>
              <a:t>传统</a:t>
            </a:r>
            <a:r>
              <a:rPr b="0" lang="zh-CN" sz="1200" spc="-1" strike="noStrike">
                <a:solidFill>
                  <a:srgbClr val="ffffff"/>
                </a:solidFill>
                <a:latin typeface="Segoe U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5" name="矩形 25"/>
          <p:cNvSpPr/>
          <p:nvPr/>
        </p:nvSpPr>
        <p:spPr>
          <a:xfrm>
            <a:off x="3571920" y="4051440"/>
            <a:ext cx="804960" cy="8046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Segoe UI"/>
              </a:rPr>
              <a:t>传统</a:t>
            </a:r>
            <a:r>
              <a:rPr b="0" lang="zh-CN" sz="1200" spc="-1" strike="noStrike">
                <a:solidFill>
                  <a:srgbClr val="ffffff"/>
                </a:solidFill>
                <a:latin typeface="Segoe U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6" name="矩形 26"/>
          <p:cNvSpPr/>
          <p:nvPr/>
        </p:nvSpPr>
        <p:spPr>
          <a:xfrm>
            <a:off x="4468680" y="4051440"/>
            <a:ext cx="804960" cy="8046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Segoe UI"/>
              </a:rPr>
              <a:t>麻绳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7" name="矩形 26"/>
          <p:cNvSpPr/>
          <p:nvPr/>
        </p:nvSpPr>
        <p:spPr>
          <a:xfrm>
            <a:off x="5365800" y="4052880"/>
            <a:ext cx="806400" cy="80496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Segoe UI"/>
              </a:rPr>
              <a:t>水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78" name="矩形 26"/>
          <p:cNvSpPr/>
          <p:nvPr/>
        </p:nvSpPr>
        <p:spPr>
          <a:xfrm>
            <a:off x="6267600" y="4059360"/>
            <a:ext cx="804600" cy="8046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Segoe UI"/>
              </a:rPr>
              <a:t>编织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2"/>
          <a:stretch/>
        </p:blipFill>
        <p:spPr>
          <a:xfrm>
            <a:off x="1042920" y="770040"/>
            <a:ext cx="10191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30"/>
          <p:cNvSpPr/>
          <p:nvPr/>
        </p:nvSpPr>
        <p:spPr>
          <a:xfrm>
            <a:off x="3527280" y="779400"/>
            <a:ext cx="4140360" cy="4138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1" name="直接连接符 34"/>
          <p:cNvSpPr/>
          <p:nvPr/>
        </p:nvSpPr>
        <p:spPr>
          <a:xfrm>
            <a:off x="3768840" y="903240"/>
            <a:ext cx="0" cy="120168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2" name="直接连接符 36"/>
          <p:cNvSpPr/>
          <p:nvPr/>
        </p:nvSpPr>
        <p:spPr>
          <a:xfrm>
            <a:off x="4282920" y="1633680"/>
            <a:ext cx="1203480" cy="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3" name="TextBox 37"/>
          <p:cNvSpPr/>
          <p:nvPr/>
        </p:nvSpPr>
        <p:spPr>
          <a:xfrm>
            <a:off x="4298760" y="112860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.34cm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4" name="TextBox 38"/>
          <p:cNvSpPr/>
          <p:nvPr/>
        </p:nvSpPr>
        <p:spPr>
          <a:xfrm rot="5400000">
            <a:off x="3157920" y="156312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.34cm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 flipH="1" rot="3383400">
            <a:off x="1454400" y="3175560"/>
            <a:ext cx="294120" cy="638280"/>
          </a:xfrm>
          <a:prstGeom prst="rect">
            <a:avLst/>
          </a:prstGeom>
          <a:ln w="0">
            <a:noFill/>
          </a:ln>
        </p:spPr>
      </p:pic>
      <p:sp>
        <p:nvSpPr>
          <p:cNvPr id="86" name="椭圆 3"/>
          <p:cNvSpPr/>
          <p:nvPr/>
        </p:nvSpPr>
        <p:spPr>
          <a:xfrm>
            <a:off x="1868400" y="2928960"/>
            <a:ext cx="782640" cy="414360"/>
          </a:xfrm>
          <a:prstGeom prst="ellipse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e1c11"/>
                </a:solidFill>
                <a:latin typeface="微软雅黑"/>
              </a:rPr>
              <a:t>推测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4"/>
          <a:stretch/>
        </p:blipFill>
        <p:spPr>
          <a:xfrm rot="2064600">
            <a:off x="1980720" y="3560400"/>
            <a:ext cx="293760" cy="638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5"/>
          <a:stretch/>
        </p:blipFill>
        <p:spPr>
          <a:xfrm rot="20586000">
            <a:off x="2505240" y="3392280"/>
            <a:ext cx="293400" cy="636480"/>
          </a:xfrm>
          <a:prstGeom prst="rect">
            <a:avLst/>
          </a:prstGeom>
          <a:ln w="0">
            <a:noFill/>
          </a:ln>
        </p:spPr>
      </p:pic>
      <p:pic>
        <p:nvPicPr>
          <p:cNvPr id="89" name="直接连接符 5" descr=""/>
          <p:cNvPicPr/>
          <p:nvPr/>
        </p:nvPicPr>
        <p:blipFill>
          <a:blip r:embed="rId6"/>
          <a:stretch/>
        </p:blipFill>
        <p:spPr>
          <a:xfrm>
            <a:off x="3024360" y="695160"/>
            <a:ext cx="10800" cy="4211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1044720" y="698400"/>
            <a:ext cx="10191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30"/>
          <p:cNvSpPr/>
          <p:nvPr/>
        </p:nvSpPr>
        <p:spPr>
          <a:xfrm>
            <a:off x="3456000" y="770040"/>
            <a:ext cx="4140360" cy="4138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92" name="椭圆 9"/>
          <p:cNvSpPr/>
          <p:nvPr/>
        </p:nvSpPr>
        <p:spPr>
          <a:xfrm>
            <a:off x="1863720" y="2928960"/>
            <a:ext cx="782640" cy="414360"/>
          </a:xfrm>
          <a:prstGeom prst="ellipse">
            <a:avLst/>
          </a:prstGeom>
          <a:solidFill>
            <a:srgbClr val="a8d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47984"/>
                </a:solidFill>
                <a:latin typeface="微软雅黑"/>
              </a:rPr>
              <a:t>推测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93" name="直接连接符 12" descr=""/>
          <p:cNvPicPr/>
          <p:nvPr/>
        </p:nvPicPr>
        <p:blipFill>
          <a:blip r:embed="rId3"/>
          <a:stretch/>
        </p:blipFill>
        <p:spPr>
          <a:xfrm>
            <a:off x="3017880" y="695160"/>
            <a:ext cx="11160" cy="421164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1931400" y="3504960"/>
            <a:ext cx="236160" cy="360720"/>
            <a:chOff x="1931400" y="3504960"/>
            <a:chExt cx="236160" cy="360720"/>
          </a:xfrm>
        </p:grpSpPr>
        <p:sp>
          <p:nvSpPr>
            <p:cNvPr id="95" name="任意多边形 2"/>
            <p:cNvSpPr/>
            <p:nvPr/>
          </p:nvSpPr>
          <p:spPr>
            <a:xfrm rot="900000">
              <a:off x="1971720" y="3519360"/>
              <a:ext cx="155520" cy="331920"/>
            </a:xfrm>
            <a:custGeom>
              <a:avLst/>
              <a:gdLst/>
              <a:ahLst/>
              <a:rect l="l" t="t" r="r" b="b"/>
              <a:pathLst>
                <a:path w="218736" h="284385">
                  <a:moveTo>
                    <a:pt x="529" y="180943"/>
                  </a:moveTo>
                  <a:cubicBezTo>
                    <a:pt x="11605" y="14367"/>
                    <a:pt x="123561" y="-27585"/>
                    <a:pt x="181283" y="16138"/>
                  </a:cubicBezTo>
                  <a:cubicBezTo>
                    <a:pt x="218428" y="43561"/>
                    <a:pt x="214670" y="83478"/>
                    <a:pt x="218497" y="154361"/>
                  </a:cubicBezTo>
                  <a:cubicBezTo>
                    <a:pt x="222324" y="225244"/>
                    <a:pt x="180397" y="298787"/>
                    <a:pt x="82932" y="281952"/>
                  </a:cubicBezTo>
                  <a:cubicBezTo>
                    <a:pt x="19137" y="260687"/>
                    <a:pt x="-3901" y="214613"/>
                    <a:pt x="529" y="180943"/>
                  </a:cubicBezTo>
                  <a:close/>
                </a:path>
              </a:pathLst>
            </a:custGeom>
            <a:gradFill rotWithShape="0">
              <a:gsLst>
                <a:gs pos="0">
                  <a:srgbClr val="8dcbd7"/>
                </a:gs>
                <a:gs pos="100000">
                  <a:srgbClr val="dbeef4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96" name="任意多边形 3"/>
            <p:cNvSpPr/>
            <p:nvPr/>
          </p:nvSpPr>
          <p:spPr>
            <a:xfrm rot="900000">
              <a:off x="1994760" y="3542400"/>
              <a:ext cx="48240" cy="190800"/>
            </a:xfrm>
            <a:custGeom>
              <a:avLst/>
              <a:gdLst/>
              <a:ahLst/>
              <a:rect l="l" t="t" r="r" b="b"/>
              <a:pathLst>
                <a:path w="67880" h="163376">
                  <a:moveTo>
                    <a:pt x="67880" y="1218"/>
                  </a:moveTo>
                  <a:cubicBezTo>
                    <a:pt x="41300" y="37545"/>
                    <a:pt x="33324" y="162477"/>
                    <a:pt x="12059" y="163364"/>
                  </a:cubicBezTo>
                  <a:cubicBezTo>
                    <a:pt x="-30472" y="165136"/>
                    <a:pt x="51929" y="-16502"/>
                    <a:pt x="67880" y="12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265120" y="3448800"/>
            <a:ext cx="189720" cy="257040"/>
            <a:chOff x="2265120" y="3448800"/>
            <a:chExt cx="189720" cy="257040"/>
          </a:xfrm>
        </p:grpSpPr>
        <p:sp>
          <p:nvSpPr>
            <p:cNvPr id="98" name="任意多边形 18"/>
            <p:cNvSpPr/>
            <p:nvPr/>
          </p:nvSpPr>
          <p:spPr>
            <a:xfrm rot="20700000">
              <a:off x="2292480" y="3462120"/>
              <a:ext cx="134640" cy="230040"/>
            </a:xfrm>
            <a:custGeom>
              <a:avLst/>
              <a:gdLst/>
              <a:ahLst/>
              <a:rect l="l" t="t" r="r" b="b"/>
              <a:pathLst>
                <a:path w="218736" h="284385">
                  <a:moveTo>
                    <a:pt x="529" y="180943"/>
                  </a:moveTo>
                  <a:cubicBezTo>
                    <a:pt x="11605" y="14367"/>
                    <a:pt x="123561" y="-27585"/>
                    <a:pt x="181283" y="16138"/>
                  </a:cubicBezTo>
                  <a:cubicBezTo>
                    <a:pt x="218428" y="43561"/>
                    <a:pt x="214670" y="83478"/>
                    <a:pt x="218497" y="154361"/>
                  </a:cubicBezTo>
                  <a:cubicBezTo>
                    <a:pt x="222324" y="225244"/>
                    <a:pt x="180397" y="298787"/>
                    <a:pt x="82932" y="281952"/>
                  </a:cubicBezTo>
                  <a:cubicBezTo>
                    <a:pt x="19137" y="260687"/>
                    <a:pt x="-3901" y="214613"/>
                    <a:pt x="529" y="180943"/>
                  </a:cubicBezTo>
                  <a:close/>
                </a:path>
              </a:pathLst>
            </a:custGeom>
            <a:gradFill rotWithShape="0">
              <a:gsLst>
                <a:gs pos="0">
                  <a:srgbClr val="8dcbd7"/>
                </a:gs>
                <a:gs pos="100000">
                  <a:srgbClr val="dbeef4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99" name="任意多边形 19"/>
            <p:cNvSpPr/>
            <p:nvPr/>
          </p:nvSpPr>
          <p:spPr>
            <a:xfrm rot="20700000">
              <a:off x="2296800" y="3495240"/>
              <a:ext cx="41760" cy="132120"/>
            </a:xfrm>
            <a:custGeom>
              <a:avLst/>
              <a:gdLst/>
              <a:ahLst/>
              <a:rect l="l" t="t" r="r" b="b"/>
              <a:pathLst>
                <a:path w="67880" h="163376">
                  <a:moveTo>
                    <a:pt x="67880" y="1218"/>
                  </a:moveTo>
                  <a:cubicBezTo>
                    <a:pt x="41300" y="37545"/>
                    <a:pt x="33324" y="162477"/>
                    <a:pt x="12059" y="163364"/>
                  </a:cubicBezTo>
                  <a:cubicBezTo>
                    <a:pt x="-30472" y="165136"/>
                    <a:pt x="51929" y="-16502"/>
                    <a:pt x="67880" y="12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076120" y="4182840"/>
            <a:ext cx="299520" cy="330840"/>
            <a:chOff x="2076120" y="4182840"/>
            <a:chExt cx="299520" cy="330840"/>
          </a:xfrm>
        </p:grpSpPr>
        <p:sp>
          <p:nvSpPr>
            <p:cNvPr id="101" name="椭圆 21"/>
            <p:cNvSpPr/>
            <p:nvPr/>
          </p:nvSpPr>
          <p:spPr>
            <a:xfrm rot="20700000">
              <a:off x="2108160" y="4208400"/>
              <a:ext cx="235080" cy="279360"/>
            </a:xfrm>
            <a:prstGeom prst="ellipse">
              <a:avLst/>
            </a:prstGeom>
            <a:gradFill rotWithShape="0">
              <a:gsLst>
                <a:gs pos="0">
                  <a:srgbClr val="8dcbd7"/>
                </a:gs>
                <a:gs pos="100000">
                  <a:srgbClr val="dbeef4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02" name="任意多边形 22"/>
            <p:cNvSpPr/>
            <p:nvPr/>
          </p:nvSpPr>
          <p:spPr>
            <a:xfrm rot="20700000">
              <a:off x="2119680" y="4253040"/>
              <a:ext cx="72720" cy="160560"/>
            </a:xfrm>
            <a:custGeom>
              <a:avLst/>
              <a:gdLst/>
              <a:ahLst/>
              <a:rect l="l" t="t" r="r" b="b"/>
              <a:pathLst>
                <a:path w="67880" h="163376">
                  <a:moveTo>
                    <a:pt x="67880" y="1218"/>
                  </a:moveTo>
                  <a:cubicBezTo>
                    <a:pt x="41300" y="37545"/>
                    <a:pt x="33324" y="162477"/>
                    <a:pt x="12059" y="163364"/>
                  </a:cubicBezTo>
                  <a:cubicBezTo>
                    <a:pt x="-30472" y="165136"/>
                    <a:pt x="51929" y="-16502"/>
                    <a:pt x="67880" y="12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841400" y="4475160"/>
            <a:ext cx="725400" cy="298440"/>
            <a:chOff x="1841400" y="4475160"/>
            <a:chExt cx="725400" cy="298440"/>
          </a:xfrm>
        </p:grpSpPr>
        <p:pic>
          <p:nvPicPr>
            <p:cNvPr id="104" name="椭圆 5" descr=""/>
            <p:cNvPicPr/>
            <p:nvPr/>
          </p:nvPicPr>
          <p:blipFill>
            <a:blip r:embed="rId4"/>
            <a:stretch/>
          </p:blipFill>
          <p:spPr>
            <a:xfrm>
              <a:off x="1841400" y="4475160"/>
              <a:ext cx="72540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950840" y="4521240"/>
              <a:ext cx="5050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663560" y="4438800"/>
            <a:ext cx="1079640" cy="438120"/>
            <a:chOff x="1663560" y="4438800"/>
            <a:chExt cx="1079640" cy="438120"/>
          </a:xfrm>
        </p:grpSpPr>
        <p:pic>
          <p:nvPicPr>
            <p:cNvPr id="107" name="椭圆 24" descr=""/>
            <p:cNvPicPr/>
            <p:nvPr/>
          </p:nvPicPr>
          <p:blipFill>
            <a:blip r:embed="rId5"/>
            <a:stretch/>
          </p:blipFill>
          <p:spPr>
            <a:xfrm>
              <a:off x="1663560" y="4438800"/>
              <a:ext cx="107964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827000" y="4507200"/>
              <a:ext cx="7524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077920" y="4541760"/>
            <a:ext cx="250920" cy="109440"/>
            <a:chOff x="2077920" y="4541760"/>
            <a:chExt cx="250920" cy="109440"/>
          </a:xfrm>
        </p:grpSpPr>
        <p:pic>
          <p:nvPicPr>
            <p:cNvPr id="110" name="椭圆 25" descr=""/>
            <p:cNvPicPr/>
            <p:nvPr/>
          </p:nvPicPr>
          <p:blipFill>
            <a:blip r:embed="rId6"/>
            <a:stretch/>
          </p:blipFill>
          <p:spPr>
            <a:xfrm>
              <a:off x="2077920" y="4541760"/>
              <a:ext cx="250920" cy="1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 rot="10800000">
              <a:off x="2118960" y="4563720"/>
              <a:ext cx="16812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sp>
        <p:nvSpPr>
          <p:cNvPr id="112" name="直接连接符 34"/>
          <p:cNvSpPr/>
          <p:nvPr/>
        </p:nvSpPr>
        <p:spPr>
          <a:xfrm>
            <a:off x="3924360" y="985680"/>
            <a:ext cx="0" cy="120204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3" name="直接连接符 36"/>
          <p:cNvSpPr/>
          <p:nvPr/>
        </p:nvSpPr>
        <p:spPr>
          <a:xfrm>
            <a:off x="4282920" y="1488960"/>
            <a:ext cx="1203480" cy="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4" name="TextBox 37"/>
          <p:cNvSpPr/>
          <p:nvPr/>
        </p:nvSpPr>
        <p:spPr>
          <a:xfrm>
            <a:off x="4298760" y="112860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.34cm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5" name="TextBox 38"/>
          <p:cNvSpPr/>
          <p:nvPr/>
        </p:nvSpPr>
        <p:spPr>
          <a:xfrm rot="5400000">
            <a:off x="3265560" y="13978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Segoe UI"/>
              </a:rPr>
              <a:t>.34cm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1042920" y="698400"/>
            <a:ext cx="10191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920" y="896760"/>
            <a:ext cx="70581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Segoe UI"/>
              </a:rPr>
              <a:t>结论</a:t>
            </a:r>
            <a:r>
              <a:rPr b="0" lang="en-US" sz="3200" spc="-1" strike="noStrike">
                <a:solidFill>
                  <a:srgbClr val="7f7f7f"/>
                </a:solidFill>
                <a:latin typeface="Britannic Bold"/>
              </a:rPr>
              <a:t>01</a:t>
            </a:r>
            <a:endParaRPr b="1" lang="en-US" sz="3200" spc="-1" strike="noStrike">
              <a:solidFill>
                <a:srgbClr val="7f7f7f"/>
              </a:solidFill>
              <a:latin typeface="Segoe U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989440" y="2274840"/>
            <a:ext cx="496728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Segoe UI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Segoe UI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19" name="直接连接符 5"/>
          <p:cNvSpPr/>
          <p:nvPr/>
        </p:nvSpPr>
        <p:spPr>
          <a:xfrm flipH="1">
            <a:off x="1136520" y="1849320"/>
            <a:ext cx="6964560" cy="0"/>
          </a:xfrm>
          <a:prstGeom prst="line">
            <a:avLst/>
          </a:prstGeom>
          <a:ln w="9360">
            <a:solidFill>
              <a:srgbClr val="d9d9d9"/>
            </a:solidFill>
            <a:prstDash val="sysDash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3089160" y="1417680"/>
            <a:ext cx="1201680" cy="1201680"/>
            <a:chOff x="3089160" y="1417680"/>
            <a:chExt cx="1201680" cy="1201680"/>
          </a:xfrm>
        </p:grpSpPr>
        <p:sp>
          <p:nvSpPr>
            <p:cNvPr id="121" name="矩形 19"/>
            <p:cNvSpPr/>
            <p:nvPr/>
          </p:nvSpPr>
          <p:spPr>
            <a:xfrm>
              <a:off x="3089160" y="1417680"/>
              <a:ext cx="1201680" cy="1201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22" name="任意多边形 21"/>
            <p:cNvSpPr/>
            <p:nvPr/>
          </p:nvSpPr>
          <p:spPr>
            <a:xfrm flipV="1" rot="5400000">
              <a:off x="3789720" y="1638720"/>
              <a:ext cx="279000" cy="273240"/>
            </a:xfrm>
            <a:custGeom>
              <a:avLst/>
              <a:gdLst/>
              <a:ahLst/>
              <a:rect l="l" t="t" r="r" b="b"/>
              <a:pathLst>
                <a:path w="2075909" h="2034026">
                  <a:moveTo>
                    <a:pt x="1047022" y="265246"/>
                  </a:moveTo>
                  <a:lnTo>
                    <a:pt x="656134" y="1249447"/>
                  </a:lnTo>
                  <a:lnTo>
                    <a:pt x="1423951" y="1249447"/>
                  </a:lnTo>
                  <a:lnTo>
                    <a:pt x="1047022" y="265246"/>
                  </a:lnTo>
                  <a:close/>
                  <a:moveTo>
                    <a:pt x="837618" y="0"/>
                  </a:moveTo>
                  <a:lnTo>
                    <a:pt x="1270387" y="0"/>
                  </a:lnTo>
                  <a:lnTo>
                    <a:pt x="2075909" y="2034026"/>
                  </a:lnTo>
                  <a:lnTo>
                    <a:pt x="1717116" y="2031957"/>
                  </a:lnTo>
                  <a:lnTo>
                    <a:pt x="1528653" y="1500733"/>
                  </a:lnTo>
                  <a:lnTo>
                    <a:pt x="565392" y="1500733"/>
                  </a:lnTo>
                  <a:lnTo>
                    <a:pt x="328067" y="2031224"/>
                  </a:lnTo>
                  <a:lnTo>
                    <a:pt x="0" y="2031224"/>
                  </a:lnTo>
                  <a:lnTo>
                    <a:pt x="837618" y="0"/>
                  </a:lnTo>
                  <a:close/>
                </a:path>
              </a:pathLst>
            </a:cu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23" name="任意多边形 24"/>
            <p:cNvSpPr/>
            <p:nvPr/>
          </p:nvSpPr>
          <p:spPr>
            <a:xfrm flipV="1" rot="11500800">
              <a:off x="3271320" y="1465200"/>
              <a:ext cx="279000" cy="273240"/>
            </a:xfrm>
            <a:custGeom>
              <a:avLst/>
              <a:gdLst/>
              <a:ahLst/>
              <a:rect l="l" t="t" r="r" b="b"/>
              <a:pathLst>
                <a:path w="2075909" h="2034026">
                  <a:moveTo>
                    <a:pt x="1047022" y="265246"/>
                  </a:moveTo>
                  <a:lnTo>
                    <a:pt x="656134" y="1249447"/>
                  </a:lnTo>
                  <a:lnTo>
                    <a:pt x="1423951" y="1249447"/>
                  </a:lnTo>
                  <a:lnTo>
                    <a:pt x="1047022" y="265246"/>
                  </a:lnTo>
                  <a:close/>
                  <a:moveTo>
                    <a:pt x="837618" y="0"/>
                  </a:moveTo>
                  <a:lnTo>
                    <a:pt x="1270387" y="0"/>
                  </a:lnTo>
                  <a:lnTo>
                    <a:pt x="2075909" y="2034026"/>
                  </a:lnTo>
                  <a:lnTo>
                    <a:pt x="1717116" y="2031957"/>
                  </a:lnTo>
                  <a:lnTo>
                    <a:pt x="1528653" y="1500733"/>
                  </a:lnTo>
                  <a:lnTo>
                    <a:pt x="565392" y="1500733"/>
                  </a:lnTo>
                  <a:lnTo>
                    <a:pt x="328067" y="2031224"/>
                  </a:lnTo>
                  <a:lnTo>
                    <a:pt x="0" y="2031224"/>
                  </a:lnTo>
                  <a:lnTo>
                    <a:pt x="837618" y="0"/>
                  </a:lnTo>
                  <a:close/>
                </a:path>
              </a:pathLst>
            </a:cu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24" name="任意多边形 28"/>
            <p:cNvSpPr/>
            <p:nvPr/>
          </p:nvSpPr>
          <p:spPr>
            <a:xfrm flipV="1" rot="11500800">
              <a:off x="3981960" y="2226240"/>
              <a:ext cx="279000" cy="273240"/>
            </a:xfrm>
            <a:custGeom>
              <a:avLst/>
              <a:gdLst/>
              <a:ahLst/>
              <a:rect l="l" t="t" r="r" b="b"/>
              <a:pathLst>
                <a:path w="2075909" h="2034026">
                  <a:moveTo>
                    <a:pt x="1047022" y="265246"/>
                  </a:moveTo>
                  <a:lnTo>
                    <a:pt x="656134" y="1249447"/>
                  </a:lnTo>
                  <a:lnTo>
                    <a:pt x="1423951" y="1249447"/>
                  </a:lnTo>
                  <a:lnTo>
                    <a:pt x="1047022" y="265246"/>
                  </a:lnTo>
                  <a:close/>
                  <a:moveTo>
                    <a:pt x="837618" y="0"/>
                  </a:moveTo>
                  <a:lnTo>
                    <a:pt x="1270387" y="0"/>
                  </a:lnTo>
                  <a:lnTo>
                    <a:pt x="2075909" y="2034026"/>
                  </a:lnTo>
                  <a:lnTo>
                    <a:pt x="1717116" y="2031957"/>
                  </a:lnTo>
                  <a:lnTo>
                    <a:pt x="1528653" y="1500733"/>
                  </a:lnTo>
                  <a:lnTo>
                    <a:pt x="565392" y="1500733"/>
                  </a:lnTo>
                  <a:lnTo>
                    <a:pt x="328067" y="2031224"/>
                  </a:lnTo>
                  <a:lnTo>
                    <a:pt x="0" y="2031224"/>
                  </a:lnTo>
                  <a:lnTo>
                    <a:pt x="83761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25" name="任意多边形 29"/>
            <p:cNvSpPr/>
            <p:nvPr/>
          </p:nvSpPr>
          <p:spPr>
            <a:xfrm flipV="1" rot="9449400">
              <a:off x="3152880" y="2260440"/>
              <a:ext cx="279000" cy="273240"/>
            </a:xfrm>
            <a:custGeom>
              <a:avLst/>
              <a:gdLst/>
              <a:ahLst/>
              <a:rect l="l" t="t" r="r" b="b"/>
              <a:pathLst>
                <a:path w="2075909" h="2034026">
                  <a:moveTo>
                    <a:pt x="1047022" y="265246"/>
                  </a:moveTo>
                  <a:lnTo>
                    <a:pt x="656134" y="1249447"/>
                  </a:lnTo>
                  <a:lnTo>
                    <a:pt x="1423951" y="1249447"/>
                  </a:lnTo>
                  <a:lnTo>
                    <a:pt x="1047022" y="265246"/>
                  </a:lnTo>
                  <a:close/>
                  <a:moveTo>
                    <a:pt x="837618" y="0"/>
                  </a:moveTo>
                  <a:lnTo>
                    <a:pt x="1270387" y="0"/>
                  </a:lnTo>
                  <a:lnTo>
                    <a:pt x="2075909" y="2034026"/>
                  </a:lnTo>
                  <a:lnTo>
                    <a:pt x="1717116" y="2031957"/>
                  </a:lnTo>
                  <a:lnTo>
                    <a:pt x="1528653" y="1500733"/>
                  </a:lnTo>
                  <a:lnTo>
                    <a:pt x="565392" y="1500733"/>
                  </a:lnTo>
                  <a:lnTo>
                    <a:pt x="328067" y="2031224"/>
                  </a:lnTo>
                  <a:lnTo>
                    <a:pt x="0" y="2031224"/>
                  </a:lnTo>
                  <a:lnTo>
                    <a:pt x="83761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sp>
        <p:nvSpPr>
          <p:cNvPr id="126" name="矩形 30"/>
          <p:cNvSpPr/>
          <p:nvPr/>
        </p:nvSpPr>
        <p:spPr>
          <a:xfrm>
            <a:off x="5076720" y="841320"/>
            <a:ext cx="1943280" cy="18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041640" y="3282840"/>
            <a:ext cx="4254480" cy="1201680"/>
            <a:chOff x="3041640" y="3282840"/>
            <a:chExt cx="4254480" cy="1201680"/>
          </a:xfrm>
        </p:grpSpPr>
        <p:pic>
          <p:nvPicPr>
            <p:cNvPr id="128" name="椭圆 26" descr=""/>
            <p:cNvPicPr/>
            <p:nvPr/>
          </p:nvPicPr>
          <p:blipFill>
            <a:blip r:embed="rId4"/>
            <a:stretch/>
          </p:blipFill>
          <p:spPr>
            <a:xfrm>
              <a:off x="3041640" y="3282840"/>
              <a:ext cx="425448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046320" y="3289320"/>
              <a:ext cx="42451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0" rIns="324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Segoe UI"/>
                </a:rPr>
                <a:t>A</a:t>
              </a:r>
              <a:r>
                <a:rPr b="0" lang="zh-CN" sz="1800" spc="-1" strike="noStrike">
                  <a:solidFill>
                    <a:srgbClr val="595959"/>
                  </a:solidFill>
                  <a:latin typeface="Segoe UI"/>
                </a:rPr>
                <a:t>全部完全显示时</a:t>
              </a: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1859c"/>
                  </a:solidFill>
                  <a:latin typeface="Segoe UI"/>
                </a:rPr>
                <a:t>无需互补调整</a:t>
              </a: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188040" y="3422520"/>
            <a:ext cx="974880" cy="957240"/>
            <a:chOff x="6188040" y="3422520"/>
            <a:chExt cx="974880" cy="957240"/>
          </a:xfrm>
        </p:grpSpPr>
        <p:pic>
          <p:nvPicPr>
            <p:cNvPr id="131" name="椭圆 2" descr=""/>
            <p:cNvPicPr/>
            <p:nvPr/>
          </p:nvPicPr>
          <p:blipFill>
            <a:blip r:embed="rId5"/>
            <a:stretch/>
          </p:blipFill>
          <p:spPr>
            <a:xfrm>
              <a:off x="6188040" y="3422520"/>
              <a:ext cx="9748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338880" y="3570120"/>
              <a:ext cx="67464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beef4"/>
                  </a:solidFill>
                  <a:latin typeface="Segoe UI"/>
                </a:rPr>
                <a:t>方法</a:t>
              </a:r>
              <a:r>
                <a:rPr b="0" lang="en-US" sz="1800" spc="-1" strike="noStrike">
                  <a:solidFill>
                    <a:srgbClr val="dbeef4"/>
                  </a:solidFill>
                  <a:latin typeface="Segoe U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sp>
        <p:nvSpPr>
          <p:cNvPr id="133" name="TextBox 1"/>
          <p:cNvSpPr/>
          <p:nvPr/>
        </p:nvSpPr>
        <p:spPr>
          <a:xfrm>
            <a:off x="3321360" y="2631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"/>
              </a:rPr>
              <a:t>矢量素材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4" name="TextBox 37"/>
          <p:cNvSpPr/>
          <p:nvPr/>
        </p:nvSpPr>
        <p:spPr>
          <a:xfrm>
            <a:off x="5598000" y="278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"/>
              </a:rPr>
              <a:t>纹理填充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3070080" y="4441680"/>
            <a:ext cx="4165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859c"/>
                </a:solidFill>
                <a:latin typeface="Segoe UI"/>
              </a:rPr>
              <a:t>PS</a:t>
            </a:r>
            <a:r>
              <a:rPr b="0" lang="zh-CN" sz="1400" spc="-1" strike="noStrike">
                <a:solidFill>
                  <a:srgbClr val="31859c"/>
                </a:solidFill>
                <a:latin typeface="Segoe UI"/>
              </a:rPr>
              <a:t>：在矢量素材上右键另存为图片，然后在矩形中填充纹理即可。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6" name="椭圆 14"/>
          <p:cNvSpPr/>
          <p:nvPr/>
        </p:nvSpPr>
        <p:spPr>
          <a:xfrm>
            <a:off x="1652760" y="3578400"/>
            <a:ext cx="425160" cy="423720"/>
          </a:xfrm>
          <a:prstGeom prst="ellipse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1305000" y="4078440"/>
            <a:ext cx="1120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1859c"/>
                </a:solidFill>
                <a:latin typeface="Segoe UI"/>
              </a:rPr>
              <a:t>鼠绘形状法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044720" y="1201680"/>
            <a:ext cx="10191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47"/>
          <p:cNvSpPr/>
          <p:nvPr/>
        </p:nvSpPr>
        <p:spPr>
          <a:xfrm>
            <a:off x="5087880" y="1057320"/>
            <a:ext cx="2220840" cy="2138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017880" y="3498840"/>
            <a:ext cx="4254480" cy="1201680"/>
            <a:chOff x="3017880" y="3498840"/>
            <a:chExt cx="4254480" cy="1201680"/>
          </a:xfrm>
        </p:grpSpPr>
        <p:pic>
          <p:nvPicPr>
            <p:cNvPr id="141" name="椭圆 26" descr=""/>
            <p:cNvPicPr/>
            <p:nvPr/>
          </p:nvPicPr>
          <p:blipFill>
            <a:blip r:embed="rId3"/>
            <a:stretch/>
          </p:blipFill>
          <p:spPr>
            <a:xfrm>
              <a:off x="3017880" y="3498840"/>
              <a:ext cx="425448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021120" y="3505320"/>
              <a:ext cx="42447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0" rIns="324000" tIns="46800" bIns="46800" anchor="ctr">
              <a:no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Segoe UI"/>
                </a:rPr>
                <a:t>处于边缘的</a:t>
              </a:r>
              <a:r>
                <a:rPr b="0" lang="en-US" sz="1800" spc="-1" strike="noStrike">
                  <a:solidFill>
                    <a:srgbClr val="595959"/>
                  </a:solidFill>
                  <a:latin typeface="Segoe UI"/>
                </a:rPr>
                <a:t>A</a:t>
              </a:r>
              <a:r>
                <a:rPr b="0" lang="zh-CN" sz="1800" spc="-1" strike="noStrike">
                  <a:solidFill>
                    <a:srgbClr val="595959"/>
                  </a:solidFill>
                  <a:latin typeface="Segoe UI"/>
                </a:rPr>
                <a:t>显示不全时</a:t>
              </a: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1859c"/>
                  </a:solidFill>
                  <a:latin typeface="Segoe UI"/>
                </a:rPr>
                <a:t>左右互补、上下互补</a:t>
              </a: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087720" y="1488960"/>
            <a:ext cx="1206360" cy="1204920"/>
            <a:chOff x="3087720" y="1488960"/>
            <a:chExt cx="1206360" cy="1204920"/>
          </a:xfrm>
        </p:grpSpPr>
        <p:sp>
          <p:nvSpPr>
            <p:cNvPr id="144" name="矩形 5"/>
            <p:cNvSpPr/>
            <p:nvPr/>
          </p:nvSpPr>
          <p:spPr>
            <a:xfrm>
              <a:off x="3088800" y="1488960"/>
              <a:ext cx="1200600" cy="1204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45" name="任意多边形 6"/>
            <p:cNvSpPr/>
            <p:nvPr/>
          </p:nvSpPr>
          <p:spPr>
            <a:xfrm>
              <a:off x="3087720" y="1858680"/>
              <a:ext cx="203760" cy="401040"/>
            </a:xfrm>
            <a:custGeom>
              <a:avLst/>
              <a:gdLst/>
              <a:ahLst/>
              <a:rect l="l" t="t" r="r" b="b"/>
              <a:pathLst>
                <a:path w="265353" h="520000">
                  <a:moveTo>
                    <a:pt x="0" y="0"/>
                  </a:moveTo>
                  <a:lnTo>
                    <a:pt x="59421" y="0"/>
                  </a:lnTo>
                  <a:lnTo>
                    <a:pt x="265353" y="520000"/>
                  </a:lnTo>
                  <a:lnTo>
                    <a:pt x="173628" y="519471"/>
                  </a:lnTo>
                  <a:lnTo>
                    <a:pt x="125447" y="383663"/>
                  </a:lnTo>
                  <a:lnTo>
                    <a:pt x="0" y="383663"/>
                  </a:lnTo>
                  <a:lnTo>
                    <a:pt x="0" y="319422"/>
                  </a:lnTo>
                  <a:lnTo>
                    <a:pt x="98680" y="319422"/>
                  </a:lnTo>
                  <a:lnTo>
                    <a:pt x="2318" y="67810"/>
                  </a:lnTo>
                  <a:lnTo>
                    <a:pt x="0" y="736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46" name="任意多边形 8"/>
            <p:cNvSpPr/>
            <p:nvPr/>
          </p:nvSpPr>
          <p:spPr>
            <a:xfrm>
              <a:off x="4090320" y="1859400"/>
              <a:ext cx="203760" cy="400680"/>
            </a:xfrm>
            <a:custGeom>
              <a:avLst/>
              <a:gdLst/>
              <a:ahLst/>
              <a:rect l="l" t="t" r="r" b="b"/>
              <a:pathLst>
                <a:path w="265353" h="519284">
                  <a:moveTo>
                    <a:pt x="214138" y="0"/>
                  </a:moveTo>
                  <a:lnTo>
                    <a:pt x="265353" y="0"/>
                  </a:lnTo>
                  <a:lnTo>
                    <a:pt x="265353" y="73648"/>
                  </a:lnTo>
                  <a:lnTo>
                    <a:pt x="167741" y="319422"/>
                  </a:lnTo>
                  <a:lnTo>
                    <a:pt x="265353" y="319422"/>
                  </a:lnTo>
                  <a:lnTo>
                    <a:pt x="265353" y="383663"/>
                  </a:lnTo>
                  <a:lnTo>
                    <a:pt x="144543" y="383663"/>
                  </a:lnTo>
                  <a:lnTo>
                    <a:pt x="83871" y="519284"/>
                  </a:lnTo>
                  <a:lnTo>
                    <a:pt x="0" y="519284"/>
                  </a:lnTo>
                  <a:lnTo>
                    <a:pt x="21413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47" name="任意多边形 14"/>
            <p:cNvSpPr/>
            <p:nvPr/>
          </p:nvSpPr>
          <p:spPr>
            <a:xfrm rot="5400000">
              <a:off x="3526920" y="2349720"/>
              <a:ext cx="287640" cy="399240"/>
            </a:xfrm>
            <a:custGeom>
              <a:avLst/>
              <a:gdLst/>
              <a:ahLst/>
              <a:rect l="l" t="t" r="r" b="b"/>
              <a:pathLst>
                <a:path w="372920" h="519284">
                  <a:moveTo>
                    <a:pt x="167741" y="319422"/>
                  </a:moveTo>
                  <a:lnTo>
                    <a:pt x="364034" y="319422"/>
                  </a:lnTo>
                  <a:lnTo>
                    <a:pt x="267672" y="67810"/>
                  </a:lnTo>
                  <a:lnTo>
                    <a:pt x="167741" y="319422"/>
                  </a:lnTo>
                  <a:close/>
                  <a:moveTo>
                    <a:pt x="0" y="519284"/>
                  </a:moveTo>
                  <a:lnTo>
                    <a:pt x="214138" y="0"/>
                  </a:lnTo>
                  <a:lnTo>
                    <a:pt x="324775" y="0"/>
                  </a:lnTo>
                  <a:lnTo>
                    <a:pt x="372920" y="121570"/>
                  </a:lnTo>
                  <a:lnTo>
                    <a:pt x="372920" y="383663"/>
                  </a:lnTo>
                  <a:lnTo>
                    <a:pt x="144543" y="383663"/>
                  </a:lnTo>
                  <a:lnTo>
                    <a:pt x="83871" y="519284"/>
                  </a:lnTo>
                  <a:lnTo>
                    <a:pt x="0" y="5192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  <p:sp>
          <p:nvSpPr>
            <p:cNvPr id="148" name="任意多边形 23"/>
            <p:cNvSpPr/>
            <p:nvPr/>
          </p:nvSpPr>
          <p:spPr>
            <a:xfrm rot="5400000">
              <a:off x="3570840" y="1393920"/>
              <a:ext cx="126000" cy="315720"/>
            </a:xfrm>
            <a:custGeom>
              <a:avLst/>
              <a:gdLst/>
              <a:ahLst/>
              <a:rect l="l" t="t" r="r" b="b"/>
              <a:pathLst>
                <a:path w="163183" h="412055">
                  <a:moveTo>
                    <a:pt x="0" y="275718"/>
                  </a:moveTo>
                  <a:lnTo>
                    <a:pt x="0" y="0"/>
                  </a:lnTo>
                  <a:lnTo>
                    <a:pt x="163183" y="412055"/>
                  </a:lnTo>
                  <a:lnTo>
                    <a:pt x="71457" y="411526"/>
                  </a:lnTo>
                  <a:lnTo>
                    <a:pt x="23277" y="275718"/>
                  </a:lnTo>
                  <a:lnTo>
                    <a:pt x="0" y="275718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151080" y="3638520"/>
            <a:ext cx="976320" cy="957240"/>
            <a:chOff x="3151080" y="3638520"/>
            <a:chExt cx="976320" cy="957240"/>
          </a:xfrm>
        </p:grpSpPr>
        <p:pic>
          <p:nvPicPr>
            <p:cNvPr id="150" name="椭圆 2" descr=""/>
            <p:cNvPicPr/>
            <p:nvPr/>
          </p:nvPicPr>
          <p:blipFill>
            <a:blip r:embed="rId5"/>
            <a:stretch/>
          </p:blipFill>
          <p:spPr>
            <a:xfrm>
              <a:off x="3151080" y="3638520"/>
              <a:ext cx="97632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301920" y="3786120"/>
              <a:ext cx="67464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beef4"/>
                  </a:solidFill>
                  <a:latin typeface="Segoe UI"/>
                </a:rPr>
                <a:t>方法</a:t>
              </a:r>
              <a:r>
                <a:rPr b="0" lang="en-US" sz="1800" spc="-1" strike="noStrike">
                  <a:solidFill>
                    <a:srgbClr val="dbeef4"/>
                  </a:solidFill>
                  <a:latin typeface="Segoe U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Segoe UI"/>
              </a:endParaRPr>
            </a:p>
          </p:txBody>
        </p:sp>
      </p:grpSp>
      <p:sp>
        <p:nvSpPr>
          <p:cNvPr id="152" name="TextBox 55"/>
          <p:cNvSpPr/>
          <p:nvPr/>
        </p:nvSpPr>
        <p:spPr>
          <a:xfrm>
            <a:off x="5843880" y="19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"/>
              </a:rPr>
              <a:t>纹理填充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3" name="TextBox 56"/>
          <p:cNvSpPr/>
          <p:nvPr/>
        </p:nvSpPr>
        <p:spPr>
          <a:xfrm>
            <a:off x="3321360" y="278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"/>
              </a:rPr>
              <a:t>矢量素材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4" name="椭圆 14"/>
          <p:cNvSpPr/>
          <p:nvPr/>
        </p:nvSpPr>
        <p:spPr>
          <a:xfrm>
            <a:off x="1652760" y="3578400"/>
            <a:ext cx="425160" cy="423720"/>
          </a:xfrm>
          <a:prstGeom prst="ellipse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5" name="TextBox 15"/>
          <p:cNvSpPr/>
          <p:nvPr/>
        </p:nvSpPr>
        <p:spPr>
          <a:xfrm>
            <a:off x="1305000" y="4078440"/>
            <a:ext cx="1120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1859c"/>
                </a:solidFill>
                <a:latin typeface="Segoe UI"/>
              </a:rPr>
              <a:t>鼠绘形状法</a:t>
            </a:r>
            <a:endParaRPr b="0" lang="en-US" sz="14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1044720" y="1201680"/>
            <a:ext cx="10191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896760"/>
            <a:ext cx="70581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Segoe UI"/>
              </a:rPr>
              <a:t>结论</a:t>
            </a:r>
            <a:r>
              <a:rPr b="0" lang="en-US" sz="3200" spc="-1" strike="noStrike">
                <a:solidFill>
                  <a:srgbClr val="7f7f7f"/>
                </a:solidFill>
                <a:latin typeface="Britannic Bold"/>
              </a:rPr>
              <a:t>02</a:t>
            </a:r>
            <a:endParaRPr b="1" lang="en-US" sz="3200" spc="-1" strike="noStrike">
              <a:solidFill>
                <a:srgbClr val="7f7f7f"/>
              </a:solidFill>
              <a:latin typeface="Segoe UI"/>
            </a:endParaRPr>
          </a:p>
        </p:txBody>
      </p:sp>
      <p:sp>
        <p:nvSpPr>
          <p:cNvPr id="158" name="直接连接符 5"/>
          <p:cNvSpPr/>
          <p:nvPr/>
        </p:nvSpPr>
        <p:spPr>
          <a:xfrm flipH="1">
            <a:off x="1136520" y="1849320"/>
            <a:ext cx="6964560" cy="0"/>
          </a:xfrm>
          <a:prstGeom prst="line">
            <a:avLst/>
          </a:prstGeom>
          <a:ln w="9360">
            <a:solidFill>
              <a:srgbClr val="d9d9d9"/>
            </a:solidFill>
            <a:prstDash val="sysDash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9" name="内容占位符 3"/>
          <p:cNvSpPr/>
          <p:nvPr/>
        </p:nvSpPr>
        <p:spPr>
          <a:xfrm>
            <a:off x="1042920" y="220968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ccc1da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Segoe UI"/>
              </a:rPr>
              <a:t>两种方法各有优点和缺点，方法的选择完全在于所要制作的效果。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ccc1da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Segoe UI"/>
              </a:rPr>
              <a:t>当把两种方法结合到一起的时候，就可以完成</a:t>
            </a:r>
            <a:r>
              <a:rPr b="0" lang="en-US" sz="1800" spc="-1" strike="noStrike">
                <a:solidFill>
                  <a:srgbClr val="595959"/>
                </a:solidFill>
                <a:latin typeface="Segoe UI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Segoe UI"/>
              </a:rPr>
              <a:t>复杂纹理的制作，这也是大多数内置纹理的特点。</a:t>
            </a: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0" name="矩形 8"/>
          <p:cNvSpPr/>
          <p:nvPr/>
        </p:nvSpPr>
        <p:spPr>
          <a:xfrm>
            <a:off x="6380280" y="2303640"/>
            <a:ext cx="1562040" cy="1562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1" name="矩形 33"/>
          <p:cNvSpPr/>
          <p:nvPr/>
        </p:nvSpPr>
        <p:spPr>
          <a:xfrm>
            <a:off x="6380280" y="2303640"/>
            <a:ext cx="468360" cy="468000"/>
          </a:xfrm>
          <a:custGeom>
            <a:avLst/>
            <a:gdLst/>
            <a:ahLst/>
            <a:rect l="l" t="t" r="r" b="b"/>
            <a:pathLst>
              <a:path w="251040" h="341176">
                <a:moveTo>
                  <a:pt x="170031" y="0"/>
                </a:moveTo>
                <a:lnTo>
                  <a:pt x="251040" y="0"/>
                </a:lnTo>
                <a:lnTo>
                  <a:pt x="251040" y="341176"/>
                </a:lnTo>
                <a:lnTo>
                  <a:pt x="0" y="341176"/>
                </a:lnTo>
                <a:lnTo>
                  <a:pt x="0" y="260167"/>
                </a:lnTo>
                <a:lnTo>
                  <a:pt x="170031" y="260167"/>
                </a:lnTo>
                <a:lnTo>
                  <a:pt x="170031" y="0"/>
                </a:lnTo>
                <a:close/>
                <a:moveTo>
                  <a:pt x="71392" y="0"/>
                </a:moveTo>
                <a:lnTo>
                  <a:pt x="116724" y="0"/>
                </a:lnTo>
                <a:lnTo>
                  <a:pt x="116724" y="198469"/>
                </a:lnTo>
                <a:lnTo>
                  <a:pt x="0" y="198469"/>
                </a:lnTo>
                <a:lnTo>
                  <a:pt x="0" y="153137"/>
                </a:lnTo>
                <a:lnTo>
                  <a:pt x="71392" y="153137"/>
                </a:lnTo>
                <a:lnTo>
                  <a:pt x="71392" y="0"/>
                </a:lnTo>
                <a:close/>
              </a:path>
            </a:pathLst>
          </a:cu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2" name="矩形 33"/>
          <p:cNvSpPr/>
          <p:nvPr/>
        </p:nvSpPr>
        <p:spPr>
          <a:xfrm flipH="1">
            <a:off x="7473240" y="2303640"/>
            <a:ext cx="468360" cy="468000"/>
          </a:xfrm>
          <a:custGeom>
            <a:avLst/>
            <a:gdLst/>
            <a:ahLst/>
            <a:rect l="l" t="t" r="r" b="b"/>
            <a:pathLst>
              <a:path w="251040" h="341176">
                <a:moveTo>
                  <a:pt x="170031" y="0"/>
                </a:moveTo>
                <a:lnTo>
                  <a:pt x="251040" y="0"/>
                </a:lnTo>
                <a:lnTo>
                  <a:pt x="251040" y="341176"/>
                </a:lnTo>
                <a:lnTo>
                  <a:pt x="0" y="341176"/>
                </a:lnTo>
                <a:lnTo>
                  <a:pt x="0" y="260167"/>
                </a:lnTo>
                <a:lnTo>
                  <a:pt x="170031" y="260167"/>
                </a:lnTo>
                <a:lnTo>
                  <a:pt x="170031" y="0"/>
                </a:lnTo>
                <a:close/>
                <a:moveTo>
                  <a:pt x="71392" y="0"/>
                </a:moveTo>
                <a:lnTo>
                  <a:pt x="116724" y="0"/>
                </a:lnTo>
                <a:lnTo>
                  <a:pt x="116724" y="198469"/>
                </a:lnTo>
                <a:lnTo>
                  <a:pt x="0" y="198469"/>
                </a:lnTo>
                <a:lnTo>
                  <a:pt x="0" y="153137"/>
                </a:lnTo>
                <a:lnTo>
                  <a:pt x="71392" y="153137"/>
                </a:lnTo>
                <a:lnTo>
                  <a:pt x="71392" y="0"/>
                </a:lnTo>
                <a:close/>
              </a:path>
            </a:pathLst>
          </a:cu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3" name="矩形 33"/>
          <p:cNvSpPr/>
          <p:nvPr/>
        </p:nvSpPr>
        <p:spPr>
          <a:xfrm flipH="1" flipV="1">
            <a:off x="7473240" y="3396600"/>
            <a:ext cx="468360" cy="468360"/>
          </a:xfrm>
          <a:custGeom>
            <a:avLst/>
            <a:gdLst/>
            <a:ahLst/>
            <a:rect l="l" t="t" r="r" b="b"/>
            <a:pathLst>
              <a:path w="251040" h="341176">
                <a:moveTo>
                  <a:pt x="170031" y="0"/>
                </a:moveTo>
                <a:lnTo>
                  <a:pt x="251040" y="0"/>
                </a:lnTo>
                <a:lnTo>
                  <a:pt x="251040" y="341176"/>
                </a:lnTo>
                <a:lnTo>
                  <a:pt x="0" y="341176"/>
                </a:lnTo>
                <a:lnTo>
                  <a:pt x="0" y="260167"/>
                </a:lnTo>
                <a:lnTo>
                  <a:pt x="170031" y="260167"/>
                </a:lnTo>
                <a:lnTo>
                  <a:pt x="170031" y="0"/>
                </a:lnTo>
                <a:close/>
                <a:moveTo>
                  <a:pt x="71392" y="0"/>
                </a:moveTo>
                <a:lnTo>
                  <a:pt x="116724" y="0"/>
                </a:lnTo>
                <a:lnTo>
                  <a:pt x="116724" y="198469"/>
                </a:lnTo>
                <a:lnTo>
                  <a:pt x="0" y="198469"/>
                </a:lnTo>
                <a:lnTo>
                  <a:pt x="0" y="153137"/>
                </a:lnTo>
                <a:lnTo>
                  <a:pt x="71392" y="153137"/>
                </a:lnTo>
                <a:lnTo>
                  <a:pt x="71392" y="0"/>
                </a:lnTo>
                <a:close/>
              </a:path>
            </a:pathLst>
          </a:cu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4" name="矩形 33"/>
          <p:cNvSpPr/>
          <p:nvPr/>
        </p:nvSpPr>
        <p:spPr>
          <a:xfrm flipV="1">
            <a:off x="6380280" y="3396600"/>
            <a:ext cx="468360" cy="468360"/>
          </a:xfrm>
          <a:custGeom>
            <a:avLst/>
            <a:gdLst/>
            <a:ahLst/>
            <a:rect l="l" t="t" r="r" b="b"/>
            <a:pathLst>
              <a:path w="251040" h="341176">
                <a:moveTo>
                  <a:pt x="170031" y="0"/>
                </a:moveTo>
                <a:lnTo>
                  <a:pt x="251040" y="0"/>
                </a:lnTo>
                <a:lnTo>
                  <a:pt x="251040" y="341176"/>
                </a:lnTo>
                <a:lnTo>
                  <a:pt x="0" y="341176"/>
                </a:lnTo>
                <a:lnTo>
                  <a:pt x="0" y="260167"/>
                </a:lnTo>
                <a:lnTo>
                  <a:pt x="170031" y="260167"/>
                </a:lnTo>
                <a:lnTo>
                  <a:pt x="170031" y="0"/>
                </a:lnTo>
                <a:close/>
                <a:moveTo>
                  <a:pt x="71392" y="0"/>
                </a:moveTo>
                <a:lnTo>
                  <a:pt x="116724" y="0"/>
                </a:lnTo>
                <a:lnTo>
                  <a:pt x="116724" y="198469"/>
                </a:lnTo>
                <a:lnTo>
                  <a:pt x="0" y="198469"/>
                </a:lnTo>
                <a:lnTo>
                  <a:pt x="0" y="153137"/>
                </a:lnTo>
                <a:lnTo>
                  <a:pt x="71392" y="153137"/>
                </a:lnTo>
                <a:lnTo>
                  <a:pt x="71392" y="0"/>
                </a:lnTo>
                <a:close/>
              </a:path>
            </a:pathLst>
          </a:cu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65" name="图文框 42"/>
          <p:cNvSpPr/>
          <p:nvPr/>
        </p:nvSpPr>
        <p:spPr>
          <a:xfrm rot="18900000">
            <a:off x="6889680" y="2813040"/>
            <a:ext cx="542880" cy="542880"/>
          </a:xfrm>
          <a:custGeom>
            <a:avLst/>
            <a:gdLst/>
            <a:ahLst/>
            <a:rect l="l" t="t" r="r" b="b"/>
            <a:pathLst>
              <a:path w="644674" h="644674">
                <a:moveTo>
                  <a:pt x="411100" y="233574"/>
                </a:moveTo>
                <a:lnTo>
                  <a:pt x="233574" y="233574"/>
                </a:lnTo>
                <a:lnTo>
                  <a:pt x="233574" y="411100"/>
                </a:lnTo>
                <a:lnTo>
                  <a:pt x="411100" y="411100"/>
                </a:lnTo>
                <a:lnTo>
                  <a:pt x="411100" y="233574"/>
                </a:lnTo>
                <a:close/>
                <a:moveTo>
                  <a:pt x="468641" y="176033"/>
                </a:moveTo>
                <a:lnTo>
                  <a:pt x="468641" y="468641"/>
                </a:lnTo>
                <a:lnTo>
                  <a:pt x="176033" y="468641"/>
                </a:lnTo>
                <a:lnTo>
                  <a:pt x="176033" y="176033"/>
                </a:lnTo>
                <a:lnTo>
                  <a:pt x="468641" y="176033"/>
                </a:lnTo>
                <a:close/>
                <a:moveTo>
                  <a:pt x="564090" y="80584"/>
                </a:moveTo>
                <a:lnTo>
                  <a:pt x="80584" y="80584"/>
                </a:lnTo>
                <a:lnTo>
                  <a:pt x="80584" y="564090"/>
                </a:lnTo>
                <a:lnTo>
                  <a:pt x="564090" y="564090"/>
                </a:lnTo>
                <a:lnTo>
                  <a:pt x="564090" y="80584"/>
                </a:lnTo>
                <a:close/>
                <a:moveTo>
                  <a:pt x="644674" y="0"/>
                </a:moveTo>
                <a:lnTo>
                  <a:pt x="644674" y="644674"/>
                </a:lnTo>
                <a:lnTo>
                  <a:pt x="0" y="644674"/>
                </a:lnTo>
                <a:lnTo>
                  <a:pt x="0" y="0"/>
                </a:lnTo>
                <a:lnTo>
                  <a:pt x="644674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7:33:18Z</dcterms:created>
  <dc:creator>Only for Design</dc:creator>
  <dc:description/>
  <dc:language>en-US</dc:language>
  <cp:lastModifiedBy>a</cp:lastModifiedBy>
  <dcterms:modified xsi:type="dcterms:W3CDTF">2015-07-04T05:55:50Z</dcterms:modified>
  <cp:revision>7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