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hyperlink" Target="http://www.eeppt.com/sucai/" TargetMode="External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个字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1160" y="914400"/>
            <a:ext cx="122256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982960" y="914400"/>
            <a:ext cx="120816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914400"/>
            <a:ext cx="124488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145280" y="914400"/>
            <a:ext cx="123660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960480" y="2819520"/>
            <a:ext cx="1096920" cy="1447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052800" y="2819520"/>
            <a:ext cx="113832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952880" y="2819520"/>
            <a:ext cx="1309680" cy="144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162920" y="2819520"/>
            <a:ext cx="115560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1251000" y="4686480"/>
            <a:ext cx="501480" cy="140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3041640" y="4686480"/>
            <a:ext cx="996840" cy="1409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86440" y="4686480"/>
            <a:ext cx="1162080" cy="1409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302600" y="4686480"/>
            <a:ext cx="1003320" cy="140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phabet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32264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11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952880" y="91440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086600" y="914400"/>
            <a:ext cx="12222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63560" y="2819520"/>
            <a:ext cx="119844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971800" y="2819520"/>
            <a:ext cx="1177920" cy="1447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105520" y="2819520"/>
            <a:ext cx="1137960" cy="144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7086600" y="2819520"/>
            <a:ext cx="1216080" cy="144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835200" y="4724280"/>
            <a:ext cx="119376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2895480" y="472428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4280" y="4740120"/>
            <a:ext cx="1676520" cy="1432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7086600" y="4724280"/>
            <a:ext cx="116352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phabet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914400"/>
            <a:ext cx="13129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1100160" cy="1447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38640" y="1295280"/>
            <a:ext cx="89388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273800" y="10666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144440" y="3200400"/>
            <a:ext cx="95904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971800" y="2971800"/>
            <a:ext cx="94788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49720" y="3200400"/>
            <a:ext cx="96228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7238880" y="2971800"/>
            <a:ext cx="7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936720" y="4876920"/>
            <a:ext cx="96840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124080" y="4876920"/>
            <a:ext cx="88272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5410080" y="4876920"/>
            <a:ext cx="43668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7391520" y="4876920"/>
            <a:ext cx="46836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876240"/>
            <a:ext cx="467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phabet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15920" y="1066680"/>
            <a:ext cx="835200" cy="1257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327480" y="1066680"/>
            <a:ext cx="43632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52880" y="1306440"/>
            <a:ext cx="1219320" cy="1030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184880" y="1295280"/>
            <a:ext cx="882720" cy="1028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919080" y="3200400"/>
            <a:ext cx="1062000" cy="107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139920" y="2971800"/>
            <a:ext cx="1038240" cy="130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181480" y="2971800"/>
            <a:ext cx="943200" cy="1308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7408800" y="3200400"/>
            <a:ext cx="781200" cy="105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966960" y="5105520"/>
            <a:ext cx="93636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276720" y="4876920"/>
            <a:ext cx="6778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124600" y="5105520"/>
            <a:ext cx="941400" cy="1079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7238880" y="5105520"/>
            <a:ext cx="10479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phabet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8080" y="1325520"/>
            <a:ext cx="1295640" cy="103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057480" y="1295280"/>
            <a:ext cx="92556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81480" y="1066680"/>
            <a:ext cx="1047960" cy="1308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8880" y="1295280"/>
            <a:ext cx="88128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294160" y="2819520"/>
            <a:ext cx="511200" cy="1447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184560" y="2819520"/>
            <a:ext cx="868320" cy="1447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0000" y="2819520"/>
            <a:ext cx="1175040" cy="144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en-US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en-US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>DugCheun Kang</dc:creator>
  <dc:description/>
  <dc:language>en-US</dc:language>
  <cp:lastModifiedBy>Administrator</cp:lastModifiedBy>
  <dcterms:modified xsi:type="dcterms:W3CDTF">2015-07-11T14:47:14Z</dcterms:modified>
  <cp:revision>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